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920" y="-3240"/>
            <a:ext cx="1070280" cy="6871320"/>
            <a:chOff x="7920" y="-3240"/>
            <a:chExt cx="1070280" cy="6871320"/>
          </a:xfrm>
        </p:grpSpPr>
        <p:sp>
          <p:nvSpPr>
            <p:cNvPr id="2" name=""/>
            <p:cNvSpPr/>
            <p:nvPr/>
          </p:nvSpPr>
          <p:spPr>
            <a:xfrm>
              <a:off x="46080" y="-3240"/>
              <a:ext cx="993960" cy="6832800"/>
            </a:xfrm>
            <a:custGeom>
              <a:avLst/>
              <a:gdLst/>
              <a:ahLst/>
              <a:rect l="0" t="0" r="r" b="b"/>
              <a:pathLst>
                <a:path w="2761" h="18980">
                  <a:moveTo>
                    <a:pt x="0" y="18980"/>
                  </a:moveTo>
                  <a:lnTo>
                    <a:pt x="0" y="0"/>
                  </a:lnTo>
                  <a:lnTo>
                    <a:pt x="2761" y="0"/>
                  </a:lnTo>
                  <a:lnTo>
                    <a:pt x="2761" y="18980"/>
                  </a:lnTo>
                  <a:lnTo>
                    <a:pt x="0" y="1898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320" y="1692360"/>
              <a:ext cx="989280" cy="500400"/>
            </a:xfrm>
            <a:custGeom>
              <a:avLst/>
              <a:gdLst/>
              <a:ahLst/>
              <a:rect l="0" t="0" r="r" b="b"/>
              <a:pathLst>
                <a:path w="2748" h="1390">
                  <a:moveTo>
                    <a:pt x="0" y="1390"/>
                  </a:moveTo>
                  <a:lnTo>
                    <a:pt x="0" y="198"/>
                  </a:lnTo>
                  <a:lnTo>
                    <a:pt x="0" y="198"/>
                  </a:lnTo>
                  <a:lnTo>
                    <a:pt x="2289" y="0"/>
                  </a:lnTo>
                  <a:lnTo>
                    <a:pt x="2748" y="198"/>
                  </a:lnTo>
                  <a:lnTo>
                    <a:pt x="2748" y="1390"/>
                  </a:lnTo>
                  <a:lnTo>
                    <a:pt x="0" y="139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760" y="1284120"/>
              <a:ext cx="989280" cy="501840"/>
            </a:xfrm>
            <a:custGeom>
              <a:avLst/>
              <a:gdLst/>
              <a:ahLst/>
              <a:rect l="0" t="0" r="r" b="b"/>
              <a:pathLst>
                <a:path w="2748" h="1394">
                  <a:moveTo>
                    <a:pt x="0" y="1394"/>
                  </a:moveTo>
                  <a:lnTo>
                    <a:pt x="0" y="0"/>
                  </a:lnTo>
                  <a:lnTo>
                    <a:pt x="1906" y="163"/>
                  </a:lnTo>
                  <a:lnTo>
                    <a:pt x="2748" y="0"/>
                  </a:lnTo>
                  <a:lnTo>
                    <a:pt x="2748" y="1394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7520" y="146160"/>
              <a:ext cx="989280" cy="305280"/>
            </a:xfrm>
            <a:custGeom>
              <a:avLst/>
              <a:gdLst/>
              <a:ahLst/>
              <a:rect l="0" t="0" r="r" b="b"/>
              <a:pathLst>
                <a:path w="2748" h="848">
                  <a:moveTo>
                    <a:pt x="0" y="742"/>
                  </a:moveTo>
                  <a:lnTo>
                    <a:pt x="0" y="105"/>
                  </a:lnTo>
                  <a:lnTo>
                    <a:pt x="2289" y="0"/>
                  </a:lnTo>
                  <a:lnTo>
                    <a:pt x="2748" y="105"/>
                  </a:lnTo>
                  <a:lnTo>
                    <a:pt x="2748" y="742"/>
                  </a:lnTo>
                  <a:lnTo>
                    <a:pt x="2148" y="848"/>
                  </a:lnTo>
                  <a:lnTo>
                    <a:pt x="1689" y="848"/>
                  </a:lnTo>
                  <a:lnTo>
                    <a:pt x="348" y="764"/>
                  </a:lnTo>
                  <a:lnTo>
                    <a:pt x="0" y="742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2560" y="984240"/>
              <a:ext cx="989280" cy="349560"/>
            </a:xfrm>
            <a:custGeom>
              <a:avLst/>
              <a:gdLst/>
              <a:ahLst/>
              <a:rect l="0" t="0" r="r" b="b"/>
              <a:pathLst>
                <a:path w="2748" h="971">
                  <a:moveTo>
                    <a:pt x="0" y="971"/>
                  </a:moveTo>
                  <a:lnTo>
                    <a:pt x="0" y="141"/>
                  </a:lnTo>
                  <a:lnTo>
                    <a:pt x="2294" y="0"/>
                  </a:lnTo>
                  <a:lnTo>
                    <a:pt x="2748" y="141"/>
                  </a:lnTo>
                  <a:lnTo>
                    <a:pt x="2748" y="971"/>
                  </a:lnTo>
                  <a:lnTo>
                    <a:pt x="573" y="971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9320" y="679320"/>
              <a:ext cx="989280" cy="430560"/>
            </a:xfrm>
            <a:custGeom>
              <a:avLst/>
              <a:gdLst/>
              <a:ahLst/>
              <a:rect l="0" t="0" r="r" b="b"/>
              <a:pathLst>
                <a:path w="2748" h="1196">
                  <a:moveTo>
                    <a:pt x="0" y="119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95" y="141"/>
                  </a:lnTo>
                  <a:lnTo>
                    <a:pt x="1053" y="141"/>
                  </a:lnTo>
                  <a:lnTo>
                    <a:pt x="2324" y="0"/>
                  </a:lnTo>
                  <a:lnTo>
                    <a:pt x="2748" y="0"/>
                  </a:lnTo>
                  <a:lnTo>
                    <a:pt x="2748" y="1196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560" y="371520"/>
              <a:ext cx="1002240" cy="375120"/>
            </a:xfrm>
            <a:custGeom>
              <a:avLst/>
              <a:gdLst/>
              <a:ahLst/>
              <a:rect l="0" t="0" r="r" b="b"/>
              <a:pathLst>
                <a:path w="2784" h="1042">
                  <a:moveTo>
                    <a:pt x="0" y="1042"/>
                  </a:moveTo>
                  <a:lnTo>
                    <a:pt x="0" y="145"/>
                  </a:lnTo>
                  <a:lnTo>
                    <a:pt x="608" y="145"/>
                  </a:lnTo>
                  <a:lnTo>
                    <a:pt x="1072" y="145"/>
                  </a:lnTo>
                  <a:lnTo>
                    <a:pt x="2502" y="0"/>
                  </a:lnTo>
                  <a:lnTo>
                    <a:pt x="2784" y="145"/>
                  </a:lnTo>
                  <a:lnTo>
                    <a:pt x="2784" y="1042"/>
                  </a:lnTo>
                  <a:lnTo>
                    <a:pt x="896" y="1042"/>
                  </a:lnTo>
                  <a:lnTo>
                    <a:pt x="432" y="1042"/>
                  </a:lnTo>
                  <a:lnTo>
                    <a:pt x="92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600" y="3936960"/>
              <a:ext cx="989280" cy="500400"/>
            </a:xfrm>
            <a:custGeom>
              <a:avLst/>
              <a:gdLst/>
              <a:ahLst/>
              <a:rect l="0" t="0" r="r" b="b"/>
              <a:pathLst>
                <a:path w="2748" h="1390">
                  <a:moveTo>
                    <a:pt x="0" y="1390"/>
                  </a:moveTo>
                  <a:lnTo>
                    <a:pt x="0" y="198"/>
                  </a:lnTo>
                  <a:lnTo>
                    <a:pt x="0" y="198"/>
                  </a:lnTo>
                  <a:lnTo>
                    <a:pt x="2289" y="0"/>
                  </a:lnTo>
                  <a:lnTo>
                    <a:pt x="2748" y="198"/>
                  </a:lnTo>
                  <a:lnTo>
                    <a:pt x="2748" y="1390"/>
                  </a:lnTo>
                  <a:lnTo>
                    <a:pt x="0" y="1390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400" y="3530520"/>
              <a:ext cx="989280" cy="501840"/>
            </a:xfrm>
            <a:custGeom>
              <a:avLst/>
              <a:gdLst/>
              <a:ahLst/>
              <a:rect l="0" t="0" r="r" b="b"/>
              <a:pathLst>
                <a:path w="2748" h="1394">
                  <a:moveTo>
                    <a:pt x="0" y="1394"/>
                  </a:moveTo>
                  <a:lnTo>
                    <a:pt x="0" y="0"/>
                  </a:lnTo>
                  <a:lnTo>
                    <a:pt x="1906" y="163"/>
                  </a:lnTo>
                  <a:lnTo>
                    <a:pt x="2748" y="0"/>
                  </a:lnTo>
                  <a:lnTo>
                    <a:pt x="2748" y="1394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600" y="2392200"/>
              <a:ext cx="989280" cy="303480"/>
            </a:xfrm>
            <a:custGeom>
              <a:avLst/>
              <a:gdLst/>
              <a:ahLst/>
              <a:rect l="0" t="0" r="r" b="b"/>
              <a:pathLst>
                <a:path w="2748" h="843">
                  <a:moveTo>
                    <a:pt x="0" y="741"/>
                  </a:moveTo>
                  <a:lnTo>
                    <a:pt x="0" y="105"/>
                  </a:lnTo>
                  <a:lnTo>
                    <a:pt x="2289" y="0"/>
                  </a:lnTo>
                  <a:lnTo>
                    <a:pt x="2748" y="105"/>
                  </a:lnTo>
                  <a:lnTo>
                    <a:pt x="2748" y="741"/>
                  </a:lnTo>
                  <a:lnTo>
                    <a:pt x="2148" y="843"/>
                  </a:lnTo>
                  <a:lnTo>
                    <a:pt x="1689" y="843"/>
                  </a:lnTo>
                  <a:lnTo>
                    <a:pt x="348" y="763"/>
                  </a:lnTo>
                  <a:lnTo>
                    <a:pt x="0" y="741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4280" y="3230640"/>
              <a:ext cx="991080" cy="349560"/>
            </a:xfrm>
            <a:custGeom>
              <a:avLst/>
              <a:gdLst/>
              <a:ahLst/>
              <a:rect l="0" t="0" r="r" b="b"/>
              <a:pathLst>
                <a:path w="2753" h="971">
                  <a:moveTo>
                    <a:pt x="0" y="971"/>
                  </a:moveTo>
                  <a:lnTo>
                    <a:pt x="0" y="141"/>
                  </a:lnTo>
                  <a:lnTo>
                    <a:pt x="2295" y="0"/>
                  </a:lnTo>
                  <a:lnTo>
                    <a:pt x="2753" y="141"/>
                  </a:lnTo>
                  <a:lnTo>
                    <a:pt x="2753" y="971"/>
                  </a:lnTo>
                  <a:lnTo>
                    <a:pt x="573" y="971"/>
                  </a:lnTo>
                  <a:lnTo>
                    <a:pt x="0" y="971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4280" y="2925720"/>
              <a:ext cx="989280" cy="429120"/>
            </a:xfrm>
            <a:custGeom>
              <a:avLst/>
              <a:gdLst/>
              <a:ahLst/>
              <a:rect l="0" t="0" r="r" b="b"/>
              <a:pathLst>
                <a:path w="2748" h="1192">
                  <a:moveTo>
                    <a:pt x="0" y="119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99" y="141"/>
                  </a:lnTo>
                  <a:lnTo>
                    <a:pt x="1058" y="141"/>
                  </a:lnTo>
                  <a:lnTo>
                    <a:pt x="2329" y="0"/>
                  </a:lnTo>
                  <a:lnTo>
                    <a:pt x="2748" y="0"/>
                  </a:lnTo>
                  <a:lnTo>
                    <a:pt x="2748" y="1192"/>
                  </a:lnTo>
                  <a:lnTo>
                    <a:pt x="0" y="1192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080" y="2616120"/>
              <a:ext cx="1002240" cy="375120"/>
            </a:xfrm>
            <a:custGeom>
              <a:avLst/>
              <a:gdLst/>
              <a:ahLst/>
              <a:rect l="0" t="0" r="r" b="b"/>
              <a:pathLst>
                <a:path w="2784" h="1042">
                  <a:moveTo>
                    <a:pt x="0" y="1042"/>
                  </a:moveTo>
                  <a:lnTo>
                    <a:pt x="0" y="145"/>
                  </a:lnTo>
                  <a:lnTo>
                    <a:pt x="604" y="145"/>
                  </a:lnTo>
                  <a:lnTo>
                    <a:pt x="1068" y="145"/>
                  </a:lnTo>
                  <a:lnTo>
                    <a:pt x="2497" y="0"/>
                  </a:lnTo>
                  <a:lnTo>
                    <a:pt x="2784" y="145"/>
                  </a:lnTo>
                  <a:lnTo>
                    <a:pt x="2784" y="1042"/>
                  </a:lnTo>
                  <a:lnTo>
                    <a:pt x="891" y="1042"/>
                  </a:lnTo>
                  <a:lnTo>
                    <a:pt x="427" y="1042"/>
                  </a:lnTo>
                  <a:lnTo>
                    <a:pt x="8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7520" y="4967280"/>
              <a:ext cx="989280" cy="500400"/>
            </a:xfrm>
            <a:custGeom>
              <a:avLst/>
              <a:gdLst/>
              <a:ahLst/>
              <a:rect l="0" t="0" r="r" b="b"/>
              <a:pathLst>
                <a:path w="2748" h="1390">
                  <a:moveTo>
                    <a:pt x="0" y="1390"/>
                  </a:moveTo>
                  <a:lnTo>
                    <a:pt x="0" y="198"/>
                  </a:lnTo>
                  <a:lnTo>
                    <a:pt x="0" y="198"/>
                  </a:lnTo>
                  <a:lnTo>
                    <a:pt x="2289" y="0"/>
                  </a:lnTo>
                  <a:lnTo>
                    <a:pt x="2748" y="198"/>
                  </a:lnTo>
                  <a:lnTo>
                    <a:pt x="2748" y="1390"/>
                  </a:lnTo>
                  <a:lnTo>
                    <a:pt x="0" y="139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320" y="4562640"/>
              <a:ext cx="989280" cy="501840"/>
            </a:xfrm>
            <a:custGeom>
              <a:avLst/>
              <a:gdLst/>
              <a:ahLst/>
              <a:rect l="0" t="0" r="r" b="b"/>
              <a:pathLst>
                <a:path w="2748" h="1394">
                  <a:moveTo>
                    <a:pt x="0" y="1394"/>
                  </a:moveTo>
                  <a:lnTo>
                    <a:pt x="0" y="0"/>
                  </a:lnTo>
                  <a:lnTo>
                    <a:pt x="1906" y="163"/>
                  </a:lnTo>
                  <a:lnTo>
                    <a:pt x="2748" y="0"/>
                  </a:lnTo>
                  <a:lnTo>
                    <a:pt x="2748" y="1394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160" y="5670720"/>
              <a:ext cx="989280" cy="303480"/>
            </a:xfrm>
            <a:custGeom>
              <a:avLst/>
              <a:gdLst/>
              <a:ahLst/>
              <a:rect l="0" t="0" r="r" b="b"/>
              <a:pathLst>
                <a:path w="2748" h="843">
                  <a:moveTo>
                    <a:pt x="0" y="737"/>
                  </a:moveTo>
                  <a:lnTo>
                    <a:pt x="0" y="101"/>
                  </a:lnTo>
                  <a:lnTo>
                    <a:pt x="2289" y="0"/>
                  </a:lnTo>
                  <a:lnTo>
                    <a:pt x="2748" y="101"/>
                  </a:lnTo>
                  <a:lnTo>
                    <a:pt x="2748" y="737"/>
                  </a:lnTo>
                  <a:lnTo>
                    <a:pt x="2148" y="843"/>
                  </a:lnTo>
                  <a:lnTo>
                    <a:pt x="1689" y="843"/>
                  </a:lnTo>
                  <a:lnTo>
                    <a:pt x="348" y="759"/>
                  </a:lnTo>
                  <a:lnTo>
                    <a:pt x="0" y="737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9600" y="6505560"/>
              <a:ext cx="991080" cy="346320"/>
            </a:xfrm>
            <a:custGeom>
              <a:avLst/>
              <a:gdLst/>
              <a:ahLst/>
              <a:rect l="0" t="0" r="r" b="b"/>
              <a:pathLst>
                <a:path w="2753" h="962">
                  <a:moveTo>
                    <a:pt x="13" y="962"/>
                  </a:moveTo>
                  <a:lnTo>
                    <a:pt x="0" y="0"/>
                  </a:lnTo>
                  <a:lnTo>
                    <a:pt x="2727" y="0"/>
                  </a:lnTo>
                  <a:lnTo>
                    <a:pt x="2753" y="962"/>
                  </a:lnTo>
                  <a:lnTo>
                    <a:pt x="582" y="962"/>
                  </a:lnTo>
                  <a:lnTo>
                    <a:pt x="13" y="9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840" y="6203880"/>
              <a:ext cx="989280" cy="429120"/>
            </a:xfrm>
            <a:custGeom>
              <a:avLst/>
              <a:gdLst/>
              <a:ahLst/>
              <a:rect l="0" t="0" r="r" b="b"/>
              <a:pathLst>
                <a:path w="2748" h="1192">
                  <a:moveTo>
                    <a:pt x="0" y="119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599" y="141"/>
                  </a:lnTo>
                  <a:lnTo>
                    <a:pt x="1058" y="141"/>
                  </a:lnTo>
                  <a:lnTo>
                    <a:pt x="2329" y="0"/>
                  </a:lnTo>
                  <a:lnTo>
                    <a:pt x="2748" y="0"/>
                  </a:lnTo>
                  <a:lnTo>
                    <a:pt x="2748" y="1192"/>
                  </a:lnTo>
                  <a:lnTo>
                    <a:pt x="0" y="1192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2840" y="5894280"/>
              <a:ext cx="1002240" cy="375120"/>
            </a:xfrm>
            <a:custGeom>
              <a:avLst/>
              <a:gdLst/>
              <a:ahLst/>
              <a:rect l="0" t="0" r="r" b="b"/>
              <a:pathLst>
                <a:path w="2784" h="1042">
                  <a:moveTo>
                    <a:pt x="0" y="1042"/>
                  </a:moveTo>
                  <a:lnTo>
                    <a:pt x="0" y="145"/>
                  </a:lnTo>
                  <a:lnTo>
                    <a:pt x="608" y="145"/>
                  </a:lnTo>
                  <a:lnTo>
                    <a:pt x="1072" y="145"/>
                  </a:lnTo>
                  <a:lnTo>
                    <a:pt x="2502" y="0"/>
                  </a:lnTo>
                  <a:lnTo>
                    <a:pt x="2784" y="145"/>
                  </a:lnTo>
                  <a:lnTo>
                    <a:pt x="2784" y="1042"/>
                  </a:lnTo>
                  <a:lnTo>
                    <a:pt x="896" y="1042"/>
                  </a:lnTo>
                  <a:lnTo>
                    <a:pt x="432" y="1042"/>
                  </a:lnTo>
                  <a:lnTo>
                    <a:pt x="92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920" y="4680"/>
              <a:ext cx="654480" cy="6855120"/>
            </a:xfrm>
            <a:custGeom>
              <a:avLst/>
              <a:gdLst/>
              <a:ahLst/>
              <a:rect l="0" t="0" r="r" b="b"/>
              <a:pathLst>
                <a:path w="1818" h="19042">
                  <a:moveTo>
                    <a:pt x="1818" y="0"/>
                  </a:moveTo>
                  <a:lnTo>
                    <a:pt x="865" y="7505"/>
                  </a:lnTo>
                  <a:lnTo>
                    <a:pt x="1743" y="19042"/>
                  </a:lnTo>
                  <a:lnTo>
                    <a:pt x="35" y="19042"/>
                  </a:lnTo>
                  <a:lnTo>
                    <a:pt x="0" y="0"/>
                  </a:lnTo>
                  <a:lnTo>
                    <a:pt x="18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77960" y="14400"/>
              <a:ext cx="300240" cy="6853680"/>
            </a:xfrm>
            <a:custGeom>
              <a:avLst/>
              <a:gdLst/>
              <a:ahLst/>
              <a:rect l="0" t="0" r="r" b="b"/>
              <a:pathLst>
                <a:path w="834" h="19038">
                  <a:moveTo>
                    <a:pt x="119" y="0"/>
                  </a:moveTo>
                  <a:lnTo>
                    <a:pt x="710" y="16419"/>
                  </a:lnTo>
                  <a:lnTo>
                    <a:pt x="0" y="19038"/>
                  </a:lnTo>
                  <a:lnTo>
                    <a:pt x="834" y="19038"/>
                  </a:lnTo>
                  <a:lnTo>
                    <a:pt x="834" y="0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-4680" y="2438280"/>
            <a:ext cx="9149040" cy="1063800"/>
            <a:chOff x="-4680" y="2438280"/>
            <a:chExt cx="9149040" cy="1063800"/>
          </a:xfrm>
        </p:grpSpPr>
        <p:sp>
          <p:nvSpPr>
            <p:cNvPr id="61" name=""/>
            <p:cNvSpPr/>
            <p:nvPr/>
          </p:nvSpPr>
          <p:spPr>
            <a:xfrm>
              <a:off x="23760" y="2487600"/>
              <a:ext cx="9118800" cy="992520"/>
            </a:xfrm>
            <a:custGeom>
              <a:avLst/>
              <a:gdLst/>
              <a:ahLst/>
              <a:rect l="0" t="0" r="r" b="b"/>
              <a:pathLst>
                <a:path w="25330" h="2757">
                  <a:moveTo>
                    <a:pt x="25330" y="2757"/>
                  </a:moveTo>
                  <a:lnTo>
                    <a:pt x="0" y="2757"/>
                  </a:lnTo>
                  <a:lnTo>
                    <a:pt x="0" y="0"/>
                  </a:lnTo>
                  <a:lnTo>
                    <a:pt x="25330" y="0"/>
                  </a:lnTo>
                  <a:lnTo>
                    <a:pt x="25330" y="2757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10360" y="2489040"/>
              <a:ext cx="670320" cy="989280"/>
            </a:xfrm>
            <a:custGeom>
              <a:avLst/>
              <a:gdLst/>
              <a:ahLst/>
              <a:rect l="0" t="0" r="r" b="b"/>
              <a:pathLst>
                <a:path w="1862" h="2748">
                  <a:moveTo>
                    <a:pt x="1862" y="2748"/>
                  </a:moveTo>
                  <a:lnTo>
                    <a:pt x="264" y="2748"/>
                  </a:lnTo>
                  <a:lnTo>
                    <a:pt x="264" y="2748"/>
                  </a:lnTo>
                  <a:lnTo>
                    <a:pt x="0" y="463"/>
                  </a:lnTo>
                  <a:lnTo>
                    <a:pt x="264" y="0"/>
                  </a:lnTo>
                  <a:lnTo>
                    <a:pt x="1862" y="0"/>
                  </a:lnTo>
                  <a:lnTo>
                    <a:pt x="1862" y="2748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1800" y="2489040"/>
              <a:ext cx="670320" cy="991080"/>
            </a:xfrm>
            <a:custGeom>
              <a:avLst/>
              <a:gdLst/>
              <a:ahLst/>
              <a:rect l="0" t="0" r="r" b="b"/>
              <a:pathLst>
                <a:path w="1862" h="2753">
                  <a:moveTo>
                    <a:pt x="1862" y="2753"/>
                  </a:moveTo>
                  <a:lnTo>
                    <a:pt x="0" y="2753"/>
                  </a:lnTo>
                  <a:lnTo>
                    <a:pt x="216" y="847"/>
                  </a:lnTo>
                  <a:lnTo>
                    <a:pt x="0" y="0"/>
                  </a:lnTo>
                  <a:lnTo>
                    <a:pt x="1862" y="0"/>
                  </a:lnTo>
                  <a:lnTo>
                    <a:pt x="1862" y="2753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34520" y="2487600"/>
              <a:ext cx="406800" cy="989280"/>
            </a:xfrm>
            <a:custGeom>
              <a:avLst/>
              <a:gdLst/>
              <a:ahLst/>
              <a:rect l="0" t="0" r="r" b="b"/>
              <a:pathLst>
                <a:path w="1130" h="2748">
                  <a:moveTo>
                    <a:pt x="989" y="2748"/>
                  </a:moveTo>
                  <a:lnTo>
                    <a:pt x="141" y="2748"/>
                  </a:lnTo>
                  <a:lnTo>
                    <a:pt x="0" y="463"/>
                  </a:lnTo>
                  <a:lnTo>
                    <a:pt x="141" y="0"/>
                  </a:lnTo>
                  <a:lnTo>
                    <a:pt x="989" y="0"/>
                  </a:lnTo>
                  <a:lnTo>
                    <a:pt x="1130" y="604"/>
                  </a:lnTo>
                  <a:lnTo>
                    <a:pt x="1130" y="1067"/>
                  </a:lnTo>
                  <a:lnTo>
                    <a:pt x="1016" y="2404"/>
                  </a:lnTo>
                  <a:lnTo>
                    <a:pt x="989" y="2748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58040" y="2489040"/>
              <a:ext cx="466920" cy="991080"/>
            </a:xfrm>
            <a:custGeom>
              <a:avLst/>
              <a:gdLst/>
              <a:ahLst/>
              <a:rect l="0" t="0" r="r" b="b"/>
              <a:pathLst>
                <a:path w="1297" h="2753">
                  <a:moveTo>
                    <a:pt x="1297" y="2753"/>
                  </a:moveTo>
                  <a:lnTo>
                    <a:pt x="185" y="2753"/>
                  </a:lnTo>
                  <a:lnTo>
                    <a:pt x="0" y="458"/>
                  </a:lnTo>
                  <a:lnTo>
                    <a:pt x="185" y="0"/>
                  </a:lnTo>
                  <a:lnTo>
                    <a:pt x="1297" y="0"/>
                  </a:lnTo>
                  <a:lnTo>
                    <a:pt x="1297" y="2184"/>
                  </a:lnTo>
                  <a:lnTo>
                    <a:pt x="1297" y="27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56480" y="2489040"/>
              <a:ext cx="574920" cy="991080"/>
            </a:xfrm>
            <a:custGeom>
              <a:avLst/>
              <a:gdLst/>
              <a:ahLst/>
              <a:rect l="0" t="0" r="r" b="b"/>
              <a:pathLst>
                <a:path w="1597" h="2753">
                  <a:moveTo>
                    <a:pt x="1597" y="2753"/>
                  </a:moveTo>
                  <a:lnTo>
                    <a:pt x="0" y="2753"/>
                  </a:lnTo>
                  <a:lnTo>
                    <a:pt x="0" y="2753"/>
                  </a:lnTo>
                  <a:lnTo>
                    <a:pt x="189" y="2162"/>
                  </a:lnTo>
                  <a:lnTo>
                    <a:pt x="189" y="1694"/>
                  </a:lnTo>
                  <a:lnTo>
                    <a:pt x="0" y="427"/>
                  </a:lnTo>
                  <a:lnTo>
                    <a:pt x="0" y="0"/>
                  </a:lnTo>
                  <a:lnTo>
                    <a:pt x="1597" y="0"/>
                  </a:lnTo>
                  <a:lnTo>
                    <a:pt x="1597" y="2753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40680" y="2490840"/>
              <a:ext cx="501840" cy="1002240"/>
            </a:xfrm>
            <a:custGeom>
              <a:avLst/>
              <a:gdLst/>
              <a:ahLst/>
              <a:rect l="0" t="0" r="r" b="b"/>
              <a:pathLst>
                <a:path w="1394" h="2784">
                  <a:moveTo>
                    <a:pt x="1394" y="2784"/>
                  </a:moveTo>
                  <a:lnTo>
                    <a:pt x="198" y="2784"/>
                  </a:lnTo>
                  <a:lnTo>
                    <a:pt x="198" y="2175"/>
                  </a:lnTo>
                  <a:lnTo>
                    <a:pt x="198" y="1711"/>
                  </a:lnTo>
                  <a:lnTo>
                    <a:pt x="0" y="282"/>
                  </a:lnTo>
                  <a:lnTo>
                    <a:pt x="198" y="0"/>
                  </a:lnTo>
                  <a:lnTo>
                    <a:pt x="1394" y="0"/>
                  </a:lnTo>
                  <a:lnTo>
                    <a:pt x="1394" y="1888"/>
                  </a:lnTo>
                  <a:lnTo>
                    <a:pt x="1394" y="2352"/>
                  </a:lnTo>
                  <a:lnTo>
                    <a:pt x="1394" y="2691"/>
                  </a:lnTo>
                  <a:lnTo>
                    <a:pt x="1394" y="27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3000" y="2481120"/>
              <a:ext cx="670320" cy="989280"/>
            </a:xfrm>
            <a:custGeom>
              <a:avLst/>
              <a:gdLst/>
              <a:ahLst/>
              <a:rect l="0" t="0" r="r" b="b"/>
              <a:pathLst>
                <a:path w="1862" h="2748">
                  <a:moveTo>
                    <a:pt x="1862" y="2748"/>
                  </a:moveTo>
                  <a:lnTo>
                    <a:pt x="264" y="2748"/>
                  </a:lnTo>
                  <a:lnTo>
                    <a:pt x="264" y="2748"/>
                  </a:lnTo>
                  <a:lnTo>
                    <a:pt x="0" y="463"/>
                  </a:lnTo>
                  <a:lnTo>
                    <a:pt x="264" y="0"/>
                  </a:lnTo>
                  <a:lnTo>
                    <a:pt x="1862" y="0"/>
                  </a:lnTo>
                  <a:lnTo>
                    <a:pt x="1862" y="2748"/>
                  </a:lnTo>
                  <a:close/>
                </a:path>
              </a:pathLst>
            </a:custGeom>
            <a:solidFill>
              <a:srgbClr val="5490a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54440" y="2481120"/>
              <a:ext cx="670320" cy="991080"/>
            </a:xfrm>
            <a:custGeom>
              <a:avLst/>
              <a:gdLst/>
              <a:ahLst/>
              <a:rect l="0" t="0" r="r" b="b"/>
              <a:pathLst>
                <a:path w="1862" h="2753">
                  <a:moveTo>
                    <a:pt x="1862" y="2753"/>
                  </a:moveTo>
                  <a:lnTo>
                    <a:pt x="0" y="2753"/>
                  </a:lnTo>
                  <a:lnTo>
                    <a:pt x="216" y="847"/>
                  </a:lnTo>
                  <a:lnTo>
                    <a:pt x="0" y="0"/>
                  </a:lnTo>
                  <a:lnTo>
                    <a:pt x="1862" y="0"/>
                  </a:lnTo>
                  <a:lnTo>
                    <a:pt x="1862" y="27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38960" y="2479680"/>
              <a:ext cx="406800" cy="989280"/>
            </a:xfrm>
            <a:custGeom>
              <a:avLst/>
              <a:gdLst/>
              <a:ahLst/>
              <a:rect l="0" t="0" r="r" b="b"/>
              <a:pathLst>
                <a:path w="1130" h="2748">
                  <a:moveTo>
                    <a:pt x="989" y="2748"/>
                  </a:moveTo>
                  <a:lnTo>
                    <a:pt x="141" y="2748"/>
                  </a:lnTo>
                  <a:lnTo>
                    <a:pt x="0" y="463"/>
                  </a:lnTo>
                  <a:lnTo>
                    <a:pt x="141" y="0"/>
                  </a:lnTo>
                  <a:lnTo>
                    <a:pt x="989" y="0"/>
                  </a:lnTo>
                  <a:lnTo>
                    <a:pt x="1130" y="604"/>
                  </a:lnTo>
                  <a:lnTo>
                    <a:pt x="1130" y="1067"/>
                  </a:lnTo>
                  <a:lnTo>
                    <a:pt x="1016" y="2404"/>
                  </a:lnTo>
                  <a:lnTo>
                    <a:pt x="989" y="274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62480" y="2481120"/>
              <a:ext cx="466920" cy="991080"/>
            </a:xfrm>
            <a:custGeom>
              <a:avLst/>
              <a:gdLst/>
              <a:ahLst/>
              <a:rect l="0" t="0" r="r" b="b"/>
              <a:pathLst>
                <a:path w="1297" h="2753">
                  <a:moveTo>
                    <a:pt x="1297" y="2753"/>
                  </a:moveTo>
                  <a:lnTo>
                    <a:pt x="185" y="2753"/>
                  </a:lnTo>
                  <a:lnTo>
                    <a:pt x="0" y="458"/>
                  </a:lnTo>
                  <a:lnTo>
                    <a:pt x="185" y="0"/>
                  </a:lnTo>
                  <a:lnTo>
                    <a:pt x="1297" y="0"/>
                  </a:lnTo>
                  <a:lnTo>
                    <a:pt x="1297" y="2184"/>
                  </a:lnTo>
                  <a:lnTo>
                    <a:pt x="1297" y="2753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59480" y="2481120"/>
              <a:ext cx="574920" cy="989280"/>
            </a:xfrm>
            <a:custGeom>
              <a:avLst/>
              <a:gdLst/>
              <a:ahLst/>
              <a:rect l="0" t="0" r="r" b="b"/>
              <a:pathLst>
                <a:path w="1597" h="2748">
                  <a:moveTo>
                    <a:pt x="1597" y="2748"/>
                  </a:moveTo>
                  <a:lnTo>
                    <a:pt x="0" y="2748"/>
                  </a:lnTo>
                  <a:lnTo>
                    <a:pt x="0" y="2748"/>
                  </a:lnTo>
                  <a:lnTo>
                    <a:pt x="189" y="2152"/>
                  </a:lnTo>
                  <a:lnTo>
                    <a:pt x="189" y="1694"/>
                  </a:lnTo>
                  <a:lnTo>
                    <a:pt x="0" y="423"/>
                  </a:lnTo>
                  <a:lnTo>
                    <a:pt x="0" y="0"/>
                  </a:lnTo>
                  <a:lnTo>
                    <a:pt x="1597" y="0"/>
                  </a:lnTo>
                  <a:lnTo>
                    <a:pt x="1597" y="2748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45120" y="2481120"/>
              <a:ext cx="501840" cy="1003680"/>
            </a:xfrm>
            <a:custGeom>
              <a:avLst/>
              <a:gdLst/>
              <a:ahLst/>
              <a:rect l="0" t="0" r="r" b="b"/>
              <a:pathLst>
                <a:path w="1394" h="2788">
                  <a:moveTo>
                    <a:pt x="1394" y="2788"/>
                  </a:moveTo>
                  <a:lnTo>
                    <a:pt x="198" y="2788"/>
                  </a:lnTo>
                  <a:lnTo>
                    <a:pt x="198" y="2180"/>
                  </a:lnTo>
                  <a:lnTo>
                    <a:pt x="198" y="1716"/>
                  </a:lnTo>
                  <a:lnTo>
                    <a:pt x="0" y="286"/>
                  </a:lnTo>
                  <a:lnTo>
                    <a:pt x="198" y="0"/>
                  </a:lnTo>
                  <a:lnTo>
                    <a:pt x="1394" y="0"/>
                  </a:lnTo>
                  <a:lnTo>
                    <a:pt x="1394" y="1892"/>
                  </a:lnTo>
                  <a:lnTo>
                    <a:pt x="1394" y="2361"/>
                  </a:lnTo>
                  <a:lnTo>
                    <a:pt x="1394" y="2700"/>
                  </a:lnTo>
                  <a:lnTo>
                    <a:pt x="1394" y="278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38160" y="2489040"/>
              <a:ext cx="670320" cy="989280"/>
            </a:xfrm>
            <a:custGeom>
              <a:avLst/>
              <a:gdLst/>
              <a:ahLst/>
              <a:rect l="0" t="0" r="r" b="b"/>
              <a:pathLst>
                <a:path w="1862" h="2748">
                  <a:moveTo>
                    <a:pt x="1862" y="2748"/>
                  </a:moveTo>
                  <a:lnTo>
                    <a:pt x="264" y="2748"/>
                  </a:lnTo>
                  <a:lnTo>
                    <a:pt x="264" y="2748"/>
                  </a:lnTo>
                  <a:lnTo>
                    <a:pt x="0" y="463"/>
                  </a:lnTo>
                  <a:lnTo>
                    <a:pt x="264" y="0"/>
                  </a:lnTo>
                  <a:lnTo>
                    <a:pt x="1862" y="0"/>
                  </a:lnTo>
                  <a:lnTo>
                    <a:pt x="1862" y="274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79600" y="2489040"/>
              <a:ext cx="670320" cy="991080"/>
            </a:xfrm>
            <a:custGeom>
              <a:avLst/>
              <a:gdLst/>
              <a:ahLst/>
              <a:rect l="0" t="0" r="r" b="b"/>
              <a:pathLst>
                <a:path w="1862" h="2753">
                  <a:moveTo>
                    <a:pt x="1862" y="2753"/>
                  </a:moveTo>
                  <a:lnTo>
                    <a:pt x="0" y="2753"/>
                  </a:lnTo>
                  <a:lnTo>
                    <a:pt x="216" y="847"/>
                  </a:lnTo>
                  <a:lnTo>
                    <a:pt x="0" y="0"/>
                  </a:lnTo>
                  <a:lnTo>
                    <a:pt x="1862" y="0"/>
                  </a:lnTo>
                  <a:lnTo>
                    <a:pt x="1862" y="2753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760" y="2479680"/>
              <a:ext cx="406800" cy="989280"/>
            </a:xfrm>
            <a:custGeom>
              <a:avLst/>
              <a:gdLst/>
              <a:ahLst/>
              <a:rect l="0" t="0" r="r" b="b"/>
              <a:pathLst>
                <a:path w="1130" h="2748">
                  <a:moveTo>
                    <a:pt x="989" y="2748"/>
                  </a:moveTo>
                  <a:lnTo>
                    <a:pt x="141" y="2748"/>
                  </a:lnTo>
                  <a:lnTo>
                    <a:pt x="0" y="463"/>
                  </a:lnTo>
                  <a:lnTo>
                    <a:pt x="141" y="0"/>
                  </a:lnTo>
                  <a:lnTo>
                    <a:pt x="989" y="0"/>
                  </a:lnTo>
                  <a:lnTo>
                    <a:pt x="1130" y="604"/>
                  </a:lnTo>
                  <a:lnTo>
                    <a:pt x="1130" y="1067"/>
                  </a:lnTo>
                  <a:lnTo>
                    <a:pt x="1016" y="2404"/>
                  </a:lnTo>
                  <a:lnTo>
                    <a:pt x="989" y="2748"/>
                  </a:ln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4680" y="2479680"/>
              <a:ext cx="462240" cy="992520"/>
            </a:xfrm>
            <a:custGeom>
              <a:avLst/>
              <a:gdLst/>
              <a:ahLst/>
              <a:rect l="0" t="0" r="r" b="b"/>
              <a:pathLst>
                <a:path w="1284" h="2757">
                  <a:moveTo>
                    <a:pt x="1284" y="2752"/>
                  </a:moveTo>
                  <a:lnTo>
                    <a:pt x="0" y="2757"/>
                  </a:lnTo>
                  <a:lnTo>
                    <a:pt x="0" y="26"/>
                  </a:lnTo>
                  <a:lnTo>
                    <a:pt x="1284" y="0"/>
                  </a:lnTo>
                  <a:lnTo>
                    <a:pt x="1284" y="2179"/>
                  </a:lnTo>
                  <a:lnTo>
                    <a:pt x="1284" y="2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7280" y="2481120"/>
              <a:ext cx="574920" cy="989280"/>
            </a:xfrm>
            <a:custGeom>
              <a:avLst/>
              <a:gdLst/>
              <a:ahLst/>
              <a:rect l="0" t="0" r="r" b="b"/>
              <a:pathLst>
                <a:path w="1597" h="2748">
                  <a:moveTo>
                    <a:pt x="1597" y="2748"/>
                  </a:moveTo>
                  <a:lnTo>
                    <a:pt x="0" y="2748"/>
                  </a:lnTo>
                  <a:lnTo>
                    <a:pt x="0" y="2748"/>
                  </a:lnTo>
                  <a:lnTo>
                    <a:pt x="189" y="2152"/>
                  </a:lnTo>
                  <a:lnTo>
                    <a:pt x="189" y="1694"/>
                  </a:lnTo>
                  <a:lnTo>
                    <a:pt x="0" y="423"/>
                  </a:lnTo>
                  <a:lnTo>
                    <a:pt x="0" y="0"/>
                  </a:lnTo>
                  <a:lnTo>
                    <a:pt x="1597" y="0"/>
                  </a:lnTo>
                  <a:lnTo>
                    <a:pt x="1597" y="2748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3280" y="2481120"/>
              <a:ext cx="501840" cy="1003680"/>
            </a:xfrm>
            <a:custGeom>
              <a:avLst/>
              <a:gdLst/>
              <a:ahLst/>
              <a:rect l="0" t="0" r="r" b="b"/>
              <a:pathLst>
                <a:path w="1394" h="2788">
                  <a:moveTo>
                    <a:pt x="1394" y="2788"/>
                  </a:moveTo>
                  <a:lnTo>
                    <a:pt x="198" y="2788"/>
                  </a:lnTo>
                  <a:lnTo>
                    <a:pt x="198" y="2180"/>
                  </a:lnTo>
                  <a:lnTo>
                    <a:pt x="198" y="1716"/>
                  </a:lnTo>
                  <a:lnTo>
                    <a:pt x="0" y="286"/>
                  </a:lnTo>
                  <a:lnTo>
                    <a:pt x="198" y="0"/>
                  </a:lnTo>
                  <a:lnTo>
                    <a:pt x="1394" y="0"/>
                  </a:lnTo>
                  <a:lnTo>
                    <a:pt x="1394" y="1892"/>
                  </a:lnTo>
                  <a:lnTo>
                    <a:pt x="1394" y="2361"/>
                  </a:lnTo>
                  <a:lnTo>
                    <a:pt x="1394" y="2700"/>
                  </a:lnTo>
                  <a:lnTo>
                    <a:pt x="1394" y="2788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3240" y="2438280"/>
              <a:ext cx="9147600" cy="332280"/>
            </a:xfrm>
            <a:custGeom>
              <a:avLst/>
              <a:gdLst/>
              <a:ahLst/>
              <a:rect l="0" t="0" r="r" b="b"/>
              <a:pathLst>
                <a:path w="25410" h="923">
                  <a:moveTo>
                    <a:pt x="25410" y="923"/>
                  </a:moveTo>
                  <a:lnTo>
                    <a:pt x="15377" y="437"/>
                  </a:lnTo>
                  <a:lnTo>
                    <a:pt x="0" y="888"/>
                  </a:lnTo>
                  <a:lnTo>
                    <a:pt x="0" y="17"/>
                  </a:lnTo>
                  <a:lnTo>
                    <a:pt x="25410" y="0"/>
                  </a:lnTo>
                  <a:lnTo>
                    <a:pt x="25410" y="9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4680" y="3201840"/>
              <a:ext cx="9145800" cy="300240"/>
            </a:xfrm>
            <a:custGeom>
              <a:avLst/>
              <a:gdLst/>
              <a:ahLst/>
              <a:rect l="0" t="0" r="r" b="b"/>
              <a:pathLst>
                <a:path w="25405" h="834">
                  <a:moveTo>
                    <a:pt x="25405" y="123"/>
                  </a:moveTo>
                  <a:lnTo>
                    <a:pt x="3483" y="710"/>
                  </a:lnTo>
                  <a:lnTo>
                    <a:pt x="0" y="0"/>
                  </a:lnTo>
                  <a:lnTo>
                    <a:pt x="0" y="834"/>
                  </a:lnTo>
                  <a:lnTo>
                    <a:pt x="25401" y="834"/>
                  </a:lnTo>
                  <a:lnTo>
                    <a:pt x="25405" y="123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173240" y="1341360"/>
            <a:ext cx="60660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Media of Mass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 of Mas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lassic Communic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25440" y="1682640"/>
            <a:ext cx="2806560" cy="44460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1674720" y="1674720"/>
            <a:ext cx="168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959360" y="1835280"/>
            <a:ext cx="173988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5408640" y="1827360"/>
            <a:ext cx="1146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044960" y="1911240"/>
            <a:ext cx="901800" cy="21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378080" y="2749680"/>
            <a:ext cx="2730600" cy="44460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674720" y="2741760"/>
            <a:ext cx="2333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En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883040" y="3054240"/>
            <a:ext cx="2273400" cy="44460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5103720" y="3046320"/>
            <a:ext cx="1519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92480" y="4044960"/>
            <a:ext cx="2882880" cy="5968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2360520" y="4113360"/>
            <a:ext cx="2620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r de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121280" y="4959360"/>
            <a:ext cx="3187800" cy="44460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341960" y="495144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r internal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117960" y="2216160"/>
            <a:ext cx="2679480" cy="520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21280" y="2978280"/>
            <a:ext cx="749160" cy="29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803760" y="3511440"/>
            <a:ext cx="2298600" cy="444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97240" y="4654440"/>
            <a:ext cx="1816200" cy="29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315200" y="2895480"/>
            <a:ext cx="1289520" cy="2203920"/>
          </a:xfrm>
          <a:custGeom>
            <a:avLst/>
            <a:gdLst/>
            <a:ahLst/>
            <a:rect l="0" t="0" r="r" b="b"/>
            <a:pathLst>
              <a:path fill="none" w="3582" h="6122">
                <a:moveTo>
                  <a:pt x="0" y="6122"/>
                </a:moveTo>
                <a:lnTo>
                  <a:pt x="0" y="6122"/>
                </a:lnTo>
                <a:cubicBezTo>
                  <a:pt x="629" y="6122"/>
                  <a:pt x="1246" y="5839"/>
                  <a:pt x="1791" y="5302"/>
                </a:cubicBezTo>
                <a:cubicBezTo>
                  <a:pt x="2336" y="4764"/>
                  <a:pt x="2788" y="3992"/>
                  <a:pt x="3102" y="3061"/>
                </a:cubicBezTo>
                <a:cubicBezTo>
                  <a:pt x="3416" y="2130"/>
                  <a:pt x="3582" y="1075"/>
                  <a:pt x="3582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705720" y="2065320"/>
            <a:ext cx="1899000" cy="832320"/>
          </a:xfrm>
          <a:custGeom>
            <a:avLst/>
            <a:gdLst/>
            <a:ahLst/>
            <a:rect l="0" t="0" r="r" b="b"/>
            <a:pathLst>
              <a:path fill="none" w="5275" h="2312">
                <a:moveTo>
                  <a:pt x="5275" y="2312"/>
                </a:moveTo>
                <a:lnTo>
                  <a:pt x="5275" y="2312"/>
                </a:lnTo>
                <a:lnTo>
                  <a:pt x="5275" y="2312"/>
                </a:lnTo>
                <a:cubicBezTo>
                  <a:pt x="5275" y="1906"/>
                  <a:pt x="5031" y="1507"/>
                  <a:pt x="4568" y="1156"/>
                </a:cubicBezTo>
                <a:cubicBezTo>
                  <a:pt x="4105" y="805"/>
                  <a:pt x="3439" y="513"/>
                  <a:pt x="2637" y="310"/>
                </a:cubicBezTo>
                <a:cubicBezTo>
                  <a:pt x="1836" y="107"/>
                  <a:pt x="92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702560" y="3054240"/>
            <a:ext cx="1359000" cy="44460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0960" y="3046320"/>
            <a:ext cx="14176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113360" y="2406600"/>
            <a:ext cx="17622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1827360" y="5637240"/>
            <a:ext cx="5959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nnon and Weaver, 1948 and Sch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centric Circl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ed by Hiebert, Ungurait and Bohn (197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message from a communicator must transcend many barriers before reaching the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rriers: codes, gatekeepers, mass media, regulators, filters and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miot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359160" y="1903320"/>
            <a:ext cx="13669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309680" y="3274920"/>
            <a:ext cx="22320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gnif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457880" y="3274920"/>
            <a:ext cx="23526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gn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2098800" y="2521080"/>
            <a:ext cx="1336680" cy="78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97240" y="2521080"/>
            <a:ext cx="901800" cy="74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35480" y="36576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2970360" y="4494240"/>
            <a:ext cx="21463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Saussa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miotic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ign is the relationship between the signifier and the sign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ignifier is the letters or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ignified is the mental con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miot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359160" y="1903320"/>
            <a:ext cx="1366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1309680" y="3274920"/>
            <a:ext cx="223200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457880" y="3274920"/>
            <a:ext cx="235260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gn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098800" y="2521080"/>
            <a:ext cx="1336680" cy="78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197240" y="2521080"/>
            <a:ext cx="901800" cy="74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435480" y="36576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2970360" y="4494240"/>
            <a:ext cx="12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399360" y="2101680"/>
            <a:ext cx="25542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110280" y="4265640"/>
            <a:ext cx="2867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5950080" y="2584440"/>
            <a:ext cx="520560" cy="85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873760" y="3816360"/>
            <a:ext cx="82548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arthes’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otation - the simple everyday meaning of the 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notation - the additional level of meaning, which evokes and “imag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studying the relationship between denotation and connotation, we can uncover mythologies - a culture’s belief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ierce’s Classification of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cons - Signs that resemble what they represent; e.g. washroom 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ex - Directly related to what a sign represents, e.g smoke means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mbol - entirely connotative, arbitrary signs which are symbolic of what they represent, Lance, UW Maple Leaf Lo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1173240" y="457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rshall McLuhan - Canada’s Communication Theory 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famous idea - the Medium is the Message - media shape the way in which content is presented and commun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dia which require effort and involvement (HOT) communicate more effectively than media which require passivity (COL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Ma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hicles that carry messages: books, TV, radio, newspapers, CD-ROM, posters, billboard ads, 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ss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rocess by which messages reach the audience through mass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research why mass communication works or doe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of the primary ways in which we get information or attit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mportance of Ma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dia are perva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carry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enter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persu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provide shared knowledge and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itist or Populi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tist: media should advance social and cultural intere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CBC Arts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ist: Give the various audiences what they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More U.S. TV sh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1173240" y="457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conomics of Mass Media or Who pa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rs pay media companies to give their messages expos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audience= great place to advert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audience= high a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companies get some revenue from circulation f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s subsidize media e.g. CBC, TVO, Access Alb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ss media trend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lomeration - a few people own many media outlets and related indus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gers Communications owns many cable companies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linger owns most daily newspapers in Canada and recently bought controlling interests in South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ss media trend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ssification - smaller specialized aud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TV channels e.g. Kids-TV, Women’s channel, TSN, CM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ss media trend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9cc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ding - the process by which media are experimenting with other delivery forms which resemble other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papers on-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clips on WWW and CD-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Times New Roman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C Real-Time Radio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Richard F. Lewis</dc:creator>
  <dc:description/>
  <dc:language>en-US</dc:language>
  <cp:lastModifiedBy>Dr. Richard F. Lewis</cp:lastModifiedBy>
  <cp:revision>0</cp:revision>
  <dc:subject>Class 2</dc:subject>
  <dc:title>Communication Studies 101(01)</dc:title>
</cp:coreProperties>
</file>