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2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440"/>
              <a:ext cx="9144000" cy="161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609560"/>
              <a:ext cx="9144000" cy="1033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14680"/>
              <a:ext cx="9144000" cy="1033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817640"/>
              <a:ext cx="9144000" cy="10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920960"/>
              <a:ext cx="9144000" cy="1033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49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00400"/>
              <a:ext cx="9144000" cy="1033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305160"/>
              <a:ext cx="9144000" cy="1033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408480"/>
              <a:ext cx="9144000" cy="10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511440"/>
              <a:ext cx="9144000" cy="1033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71288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Chapter 1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Media and Adverti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Sometimes work together for discou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Media have their own ad re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Internal ad people develop marketing plans - ad agencies do the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Placing 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Sophisticated business relying on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Based on more than C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Uses BBM, Audit Bureau of Cir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30492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Advantages and Disadvantages of Media for 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Newspap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Magaz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Saturation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Pitching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Brand names and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Market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Redund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Seller Bewa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Support for clai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odes of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Should media censor a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3049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Canadian Code of Advertis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Administered by the Canadian Advertising Foundation. Self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Read the 15 elements in the code so that you can recall them in general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Advertising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omplete model on the sheet which contains a chart illustrating the models. Know the steps for the ex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Need - Goal - Format - Appeal - Field Test - Media Ch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Advertising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98108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New product or idea to be int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"What the agency, company will d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Describe the Target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ollect Psychograph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What else is happening in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What will the audience do after seeing the 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Advertising Desig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98108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Specify measurement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Review formats and appeals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Should I use TV, radi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Select formats and app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Write the script, co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Use audience test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Modify, Run the 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Skills to enter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re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Excellent written skills, artistic ta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Business knowledge (account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Media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Presentation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Excellent grasp of cultural myt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ertising Analysis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ontent analysis - number of words, imag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Semiotics - how the elements mak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Motivational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Interviews discovered deep motivational principles below the level of awar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Subliminal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hampioned by Wilson Bryan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Non scientific or corroborative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Must be seen as a curio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Key in a consumer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s an information as well as persuasive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Essential to prospe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Financial basis for contemporary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an play a role in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3049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Basis of Advertising: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Our desires/needs/wants as a key to our hearts, minds and wall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Why people 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How are attitudes chan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How can intention be turned to behavi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Research: a key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Focus groups collect opinion and persuade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Audience studies measure appeal, attention and re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onsumer behaviour is compared to campa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Formats are continually tes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Ad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onduct marke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Design and produce 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hoos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Evaluate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 Black"/>
              </a:rPr>
              <a:t>Agenc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reative po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Client Li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Media Bu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0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Arial Black"/>
              </a:rPr>
              <a:t>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Richard F. Lewis</dc:creator>
  <dc:description/>
  <dc:language>en-US</dc:language>
  <cp:lastModifiedBy>Dr. Richard F. Lewis</cp:lastModifiedBy>
  <cp:revision>0</cp:revision>
  <dc:subject/>
  <dc:title>Advertising</dc:title>
</cp:coreProperties>
</file>