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-17640"/>
            <a:ext cx="9177480" cy="6905880"/>
            <a:chOff x="0" y="-17640"/>
            <a:chExt cx="9177480" cy="6905880"/>
          </a:xfrm>
        </p:grpSpPr>
        <p:sp>
          <p:nvSpPr>
            <p:cNvPr id="2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415360" y="-17640"/>
              <a:ext cx="381240" cy="6799680"/>
            </a:xfrm>
            <a:custGeom>
              <a:avLst/>
              <a:gdLst/>
              <a:ahLst/>
              <a:rect l="0" t="0" r="r" b="b"/>
              <a:pathLst>
                <a:path w="1059" h="18888">
                  <a:moveTo>
                    <a:pt x="0" y="18672"/>
                  </a:moveTo>
                  <a:lnTo>
                    <a:pt x="0" y="0"/>
                  </a:lnTo>
                  <a:lnTo>
                    <a:pt x="1059" y="0"/>
                  </a:lnTo>
                  <a:lnTo>
                    <a:pt x="1059" y="18672"/>
                  </a:lnTo>
                  <a:lnTo>
                    <a:pt x="847" y="18888"/>
                  </a:lnTo>
                  <a:lnTo>
                    <a:pt x="636" y="18880"/>
                  </a:lnTo>
                  <a:lnTo>
                    <a:pt x="493" y="18880"/>
                  </a:lnTo>
                  <a:lnTo>
                    <a:pt x="216" y="18880"/>
                  </a:lnTo>
                  <a:lnTo>
                    <a:pt x="0" y="18672"/>
                  </a:lnTo>
                  <a:close/>
                </a:path>
              </a:pathLst>
            </a:custGeom>
            <a:gradFill rotWithShape="0">
              <a:gsLst>
                <a:gs pos="0">
                  <a:srgbClr val="00005b"/>
                </a:gs>
                <a:gs pos="50000">
                  <a:srgbClr val="0000ff"/>
                </a:gs>
                <a:gs pos="100000">
                  <a:srgbClr val="00005b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96240" y="-17640"/>
              <a:ext cx="381240" cy="6799680"/>
            </a:xfrm>
            <a:custGeom>
              <a:avLst/>
              <a:gdLst/>
              <a:ahLst/>
              <a:rect l="0" t="0" r="r" b="b"/>
              <a:pathLst>
                <a:path w="1059" h="18888">
                  <a:moveTo>
                    <a:pt x="0" y="18672"/>
                  </a:moveTo>
                  <a:lnTo>
                    <a:pt x="0" y="0"/>
                  </a:lnTo>
                  <a:lnTo>
                    <a:pt x="1059" y="0"/>
                  </a:lnTo>
                  <a:lnTo>
                    <a:pt x="1059" y="18672"/>
                  </a:lnTo>
                  <a:lnTo>
                    <a:pt x="847" y="18888"/>
                  </a:lnTo>
                  <a:lnTo>
                    <a:pt x="636" y="18880"/>
                  </a:lnTo>
                  <a:lnTo>
                    <a:pt x="493" y="18880"/>
                  </a:lnTo>
                  <a:lnTo>
                    <a:pt x="216" y="18880"/>
                  </a:lnTo>
                  <a:lnTo>
                    <a:pt x="0" y="18672"/>
                  </a:lnTo>
                  <a:close/>
                </a:path>
              </a:pathLst>
            </a:custGeom>
            <a:gradFill rotWithShape="0">
              <a:gsLst>
                <a:gs pos="0">
                  <a:srgbClr val="00005b"/>
                </a:gs>
                <a:gs pos="50000">
                  <a:srgbClr val="0000ff"/>
                </a:gs>
                <a:gs pos="100000">
                  <a:srgbClr val="00005b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0"/>
              <a:ext cx="381240" cy="6782040"/>
            </a:xfrm>
            <a:custGeom>
              <a:avLst/>
              <a:gdLst/>
              <a:ahLst/>
              <a:rect l="0" t="0" r="r" b="b"/>
              <a:pathLst>
                <a:path w="1059" h="18839">
                  <a:moveTo>
                    <a:pt x="0" y="18623"/>
                  </a:moveTo>
                  <a:lnTo>
                    <a:pt x="0" y="0"/>
                  </a:lnTo>
                  <a:lnTo>
                    <a:pt x="1059" y="0"/>
                  </a:lnTo>
                  <a:lnTo>
                    <a:pt x="1059" y="18623"/>
                  </a:lnTo>
                  <a:lnTo>
                    <a:pt x="847" y="18839"/>
                  </a:lnTo>
                  <a:lnTo>
                    <a:pt x="636" y="18830"/>
                  </a:lnTo>
                  <a:lnTo>
                    <a:pt x="493" y="18830"/>
                  </a:lnTo>
                  <a:lnTo>
                    <a:pt x="216" y="18830"/>
                  </a:lnTo>
                  <a:lnTo>
                    <a:pt x="0" y="18623"/>
                  </a:lnTo>
                  <a:close/>
                </a:path>
              </a:pathLst>
            </a:custGeom>
            <a:gradFill rotWithShape="0">
              <a:gsLst>
                <a:gs pos="0">
                  <a:srgbClr val="00005b"/>
                </a:gs>
                <a:gs pos="50000">
                  <a:srgbClr val="0000ff"/>
                </a:gs>
                <a:gs pos="100000">
                  <a:srgbClr val="00005b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0"/>
              <a:ext cx="381240" cy="6782040"/>
            </a:xfrm>
            <a:custGeom>
              <a:avLst/>
              <a:gdLst/>
              <a:ahLst/>
              <a:rect l="0" t="0" r="r" b="b"/>
              <a:pathLst>
                <a:path w="1059" h="18839">
                  <a:moveTo>
                    <a:pt x="0" y="18623"/>
                  </a:moveTo>
                  <a:lnTo>
                    <a:pt x="0" y="0"/>
                  </a:lnTo>
                  <a:lnTo>
                    <a:pt x="1059" y="0"/>
                  </a:lnTo>
                  <a:lnTo>
                    <a:pt x="1059" y="18623"/>
                  </a:lnTo>
                  <a:lnTo>
                    <a:pt x="847" y="18839"/>
                  </a:lnTo>
                  <a:lnTo>
                    <a:pt x="635" y="18830"/>
                  </a:lnTo>
                  <a:lnTo>
                    <a:pt x="493" y="18830"/>
                  </a:lnTo>
                  <a:lnTo>
                    <a:pt x="216" y="18830"/>
                  </a:lnTo>
                  <a:lnTo>
                    <a:pt x="0" y="18623"/>
                  </a:lnTo>
                  <a:close/>
                </a:path>
              </a:pathLst>
            </a:custGeom>
            <a:gradFill rotWithShape="0">
              <a:gsLst>
                <a:gs pos="0">
                  <a:srgbClr val="00005b"/>
                </a:gs>
                <a:gs pos="50000">
                  <a:srgbClr val="0000ff"/>
                </a:gs>
                <a:gs pos="100000">
                  <a:srgbClr val="00005b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64600" y="1165320"/>
              <a:ext cx="246600" cy="184680"/>
            </a:xfrm>
            <a:custGeom>
              <a:avLst/>
              <a:gdLst/>
              <a:ahLst/>
              <a:rect l="0" t="0" r="r" b="b"/>
              <a:pathLst>
                <a:path w="685" h="513">
                  <a:moveTo>
                    <a:pt x="367" y="0"/>
                  </a:moveTo>
                  <a:lnTo>
                    <a:pt x="592" y="83"/>
                  </a:lnTo>
                  <a:lnTo>
                    <a:pt x="672" y="199"/>
                  </a:lnTo>
                  <a:lnTo>
                    <a:pt x="685" y="309"/>
                  </a:lnTo>
                  <a:lnTo>
                    <a:pt x="685" y="367"/>
                  </a:lnTo>
                  <a:lnTo>
                    <a:pt x="645" y="438"/>
                  </a:lnTo>
                  <a:lnTo>
                    <a:pt x="557" y="473"/>
                  </a:lnTo>
                  <a:lnTo>
                    <a:pt x="464" y="500"/>
                  </a:lnTo>
                  <a:lnTo>
                    <a:pt x="380" y="513"/>
                  </a:lnTo>
                  <a:lnTo>
                    <a:pt x="305" y="513"/>
                  </a:lnTo>
                  <a:lnTo>
                    <a:pt x="181" y="491"/>
                  </a:lnTo>
                  <a:lnTo>
                    <a:pt x="92" y="469"/>
                  </a:lnTo>
                  <a:lnTo>
                    <a:pt x="39" y="434"/>
                  </a:lnTo>
                  <a:lnTo>
                    <a:pt x="8" y="394"/>
                  </a:lnTo>
                  <a:lnTo>
                    <a:pt x="0" y="344"/>
                  </a:lnTo>
                  <a:lnTo>
                    <a:pt x="8" y="265"/>
                  </a:lnTo>
                  <a:lnTo>
                    <a:pt x="39" y="48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58120" y="1184400"/>
              <a:ext cx="138600" cy="117720"/>
            </a:xfrm>
            <a:custGeom>
              <a:avLst/>
              <a:gdLst/>
              <a:ahLst/>
              <a:rect l="0" t="0" r="r" b="b"/>
              <a:pathLst>
                <a:path w="385" h="327">
                  <a:moveTo>
                    <a:pt x="0" y="305"/>
                  </a:moveTo>
                  <a:lnTo>
                    <a:pt x="48" y="0"/>
                  </a:lnTo>
                  <a:lnTo>
                    <a:pt x="239" y="22"/>
                  </a:lnTo>
                  <a:lnTo>
                    <a:pt x="385" y="39"/>
                  </a:lnTo>
                  <a:lnTo>
                    <a:pt x="345" y="327"/>
                  </a:lnTo>
                  <a:lnTo>
                    <a:pt x="332" y="261"/>
                  </a:lnTo>
                  <a:lnTo>
                    <a:pt x="287" y="212"/>
                  </a:lnTo>
                  <a:lnTo>
                    <a:pt x="208" y="195"/>
                  </a:lnTo>
                  <a:lnTo>
                    <a:pt x="120" y="199"/>
                  </a:lnTo>
                  <a:lnTo>
                    <a:pt x="48" y="23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54200" y="1150920"/>
              <a:ext cx="246600" cy="184680"/>
            </a:xfrm>
            <a:custGeom>
              <a:avLst/>
              <a:gdLst/>
              <a:ahLst/>
              <a:rect l="0" t="0" r="r" b="b"/>
              <a:pathLst>
                <a:path w="685" h="513">
                  <a:moveTo>
                    <a:pt x="318" y="0"/>
                  </a:moveTo>
                  <a:lnTo>
                    <a:pt x="92" y="83"/>
                  </a:lnTo>
                  <a:lnTo>
                    <a:pt x="13" y="199"/>
                  </a:lnTo>
                  <a:lnTo>
                    <a:pt x="0" y="309"/>
                  </a:lnTo>
                  <a:lnTo>
                    <a:pt x="0" y="367"/>
                  </a:lnTo>
                  <a:lnTo>
                    <a:pt x="39" y="438"/>
                  </a:lnTo>
                  <a:lnTo>
                    <a:pt x="127" y="473"/>
                  </a:lnTo>
                  <a:lnTo>
                    <a:pt x="221" y="500"/>
                  </a:lnTo>
                  <a:lnTo>
                    <a:pt x="305" y="513"/>
                  </a:lnTo>
                  <a:lnTo>
                    <a:pt x="380" y="513"/>
                  </a:lnTo>
                  <a:lnTo>
                    <a:pt x="503" y="491"/>
                  </a:lnTo>
                  <a:lnTo>
                    <a:pt x="592" y="469"/>
                  </a:lnTo>
                  <a:lnTo>
                    <a:pt x="645" y="434"/>
                  </a:lnTo>
                  <a:lnTo>
                    <a:pt x="676" y="394"/>
                  </a:lnTo>
                  <a:lnTo>
                    <a:pt x="685" y="344"/>
                  </a:lnTo>
                  <a:lnTo>
                    <a:pt x="676" y="265"/>
                  </a:lnTo>
                  <a:lnTo>
                    <a:pt x="645" y="48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8320" y="1171440"/>
              <a:ext cx="138600" cy="117720"/>
            </a:xfrm>
            <a:custGeom>
              <a:avLst/>
              <a:gdLst/>
              <a:ahLst/>
              <a:rect l="0" t="0" r="r" b="b"/>
              <a:pathLst>
                <a:path w="385" h="327">
                  <a:moveTo>
                    <a:pt x="385" y="300"/>
                  </a:moveTo>
                  <a:lnTo>
                    <a:pt x="337" y="0"/>
                  </a:lnTo>
                  <a:lnTo>
                    <a:pt x="146" y="22"/>
                  </a:lnTo>
                  <a:lnTo>
                    <a:pt x="0" y="39"/>
                  </a:lnTo>
                  <a:lnTo>
                    <a:pt x="39" y="327"/>
                  </a:lnTo>
                  <a:lnTo>
                    <a:pt x="52" y="256"/>
                  </a:lnTo>
                  <a:lnTo>
                    <a:pt x="98" y="208"/>
                  </a:lnTo>
                  <a:lnTo>
                    <a:pt x="177" y="195"/>
                  </a:lnTo>
                  <a:lnTo>
                    <a:pt x="265" y="199"/>
                  </a:lnTo>
                  <a:lnTo>
                    <a:pt x="337" y="230"/>
                  </a:lnTo>
                  <a:lnTo>
                    <a:pt x="385" y="30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3206880" y="488880"/>
              <a:ext cx="304560" cy="138240"/>
            </a:xfrm>
            <a:prstGeom prst="line">
              <a:avLst/>
            </a:prstGeom>
            <a:ln w="12600">
              <a:solidFill>
                <a:srgbClr val="3500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35240" y="34920"/>
              <a:ext cx="4708800" cy="724320"/>
            </a:xfrm>
            <a:custGeom>
              <a:avLst/>
              <a:gdLst/>
              <a:ahLst/>
              <a:rect l="0" t="0" r="r" b="b"/>
              <a:pathLst>
                <a:path w="13080" h="2012">
                  <a:moveTo>
                    <a:pt x="0" y="538"/>
                  </a:moveTo>
                  <a:lnTo>
                    <a:pt x="912" y="343"/>
                  </a:lnTo>
                  <a:lnTo>
                    <a:pt x="1949" y="211"/>
                  </a:lnTo>
                  <a:lnTo>
                    <a:pt x="2822" y="141"/>
                  </a:lnTo>
                  <a:lnTo>
                    <a:pt x="3955" y="70"/>
                  </a:lnTo>
                  <a:lnTo>
                    <a:pt x="5357" y="8"/>
                  </a:lnTo>
                  <a:lnTo>
                    <a:pt x="6138" y="0"/>
                  </a:lnTo>
                  <a:lnTo>
                    <a:pt x="7541" y="0"/>
                  </a:lnTo>
                  <a:lnTo>
                    <a:pt x="8807" y="44"/>
                  </a:lnTo>
                  <a:lnTo>
                    <a:pt x="9958" y="92"/>
                  </a:lnTo>
                  <a:lnTo>
                    <a:pt x="10994" y="167"/>
                  </a:lnTo>
                  <a:lnTo>
                    <a:pt x="11792" y="238"/>
                  </a:lnTo>
                  <a:lnTo>
                    <a:pt x="12471" y="321"/>
                  </a:lnTo>
                  <a:lnTo>
                    <a:pt x="13080" y="405"/>
                  </a:lnTo>
                  <a:lnTo>
                    <a:pt x="13080" y="2012"/>
                  </a:lnTo>
                  <a:lnTo>
                    <a:pt x="12493" y="1915"/>
                  </a:lnTo>
                  <a:lnTo>
                    <a:pt x="11303" y="1761"/>
                  </a:lnTo>
                  <a:lnTo>
                    <a:pt x="10504" y="1686"/>
                  </a:lnTo>
                  <a:lnTo>
                    <a:pt x="9411" y="1615"/>
                  </a:lnTo>
                  <a:lnTo>
                    <a:pt x="8573" y="1580"/>
                  </a:lnTo>
                  <a:lnTo>
                    <a:pt x="7700" y="1545"/>
                  </a:lnTo>
                  <a:lnTo>
                    <a:pt x="6743" y="1545"/>
                  </a:lnTo>
                  <a:lnTo>
                    <a:pt x="5710" y="1545"/>
                  </a:lnTo>
                  <a:lnTo>
                    <a:pt x="4616" y="1567"/>
                  </a:lnTo>
                  <a:lnTo>
                    <a:pt x="3761" y="1602"/>
                  </a:lnTo>
                  <a:lnTo>
                    <a:pt x="2883" y="1651"/>
                  </a:lnTo>
                  <a:lnTo>
                    <a:pt x="2063" y="1712"/>
                  </a:lnTo>
                  <a:lnTo>
                    <a:pt x="1305" y="1783"/>
                  </a:lnTo>
                  <a:lnTo>
                    <a:pt x="661" y="1867"/>
                  </a:lnTo>
                  <a:lnTo>
                    <a:pt x="57" y="1964"/>
                  </a:lnTo>
                  <a:lnTo>
                    <a:pt x="0" y="538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63720" y="187200"/>
              <a:ext cx="1305360" cy="682920"/>
            </a:xfrm>
            <a:custGeom>
              <a:avLst/>
              <a:gdLst/>
              <a:ahLst/>
              <a:rect l="0" t="0" r="r" b="b"/>
              <a:pathLst>
                <a:path w="3626" h="1897">
                  <a:moveTo>
                    <a:pt x="3595" y="119"/>
                  </a:moveTo>
                  <a:lnTo>
                    <a:pt x="3626" y="1544"/>
                  </a:lnTo>
                  <a:lnTo>
                    <a:pt x="3291" y="1685"/>
                  </a:lnTo>
                  <a:lnTo>
                    <a:pt x="2982" y="1782"/>
                  </a:lnTo>
                  <a:lnTo>
                    <a:pt x="2731" y="1831"/>
                  </a:lnTo>
                  <a:lnTo>
                    <a:pt x="2518" y="1857"/>
                  </a:lnTo>
                  <a:lnTo>
                    <a:pt x="2280" y="1883"/>
                  </a:lnTo>
                  <a:lnTo>
                    <a:pt x="1883" y="1897"/>
                  </a:lnTo>
                  <a:lnTo>
                    <a:pt x="1517" y="1866"/>
                  </a:lnTo>
                  <a:lnTo>
                    <a:pt x="1143" y="1808"/>
                  </a:lnTo>
                  <a:lnTo>
                    <a:pt x="780" y="1711"/>
                  </a:lnTo>
                  <a:lnTo>
                    <a:pt x="463" y="1579"/>
                  </a:lnTo>
                  <a:lnTo>
                    <a:pt x="180" y="1434"/>
                  </a:lnTo>
                  <a:lnTo>
                    <a:pt x="0" y="1297"/>
                  </a:lnTo>
                  <a:lnTo>
                    <a:pt x="0" y="0"/>
                  </a:lnTo>
                  <a:lnTo>
                    <a:pt x="202" y="110"/>
                  </a:lnTo>
                  <a:lnTo>
                    <a:pt x="463" y="207"/>
                  </a:lnTo>
                  <a:lnTo>
                    <a:pt x="771" y="291"/>
                  </a:lnTo>
                  <a:lnTo>
                    <a:pt x="1076" y="357"/>
                  </a:lnTo>
                  <a:lnTo>
                    <a:pt x="1385" y="392"/>
                  </a:lnTo>
                  <a:lnTo>
                    <a:pt x="1592" y="410"/>
                  </a:lnTo>
                  <a:lnTo>
                    <a:pt x="1769" y="418"/>
                  </a:lnTo>
                  <a:lnTo>
                    <a:pt x="2077" y="418"/>
                  </a:lnTo>
                  <a:lnTo>
                    <a:pt x="2272" y="405"/>
                  </a:lnTo>
                  <a:lnTo>
                    <a:pt x="2448" y="383"/>
                  </a:lnTo>
                  <a:lnTo>
                    <a:pt x="2646" y="370"/>
                  </a:lnTo>
                  <a:lnTo>
                    <a:pt x="2824" y="335"/>
                  </a:lnTo>
                  <a:lnTo>
                    <a:pt x="3040" y="295"/>
                  </a:lnTo>
                  <a:lnTo>
                    <a:pt x="3234" y="242"/>
                  </a:lnTo>
                  <a:lnTo>
                    <a:pt x="3428" y="180"/>
                  </a:lnTo>
                  <a:lnTo>
                    <a:pt x="3595" y="119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44440" y="846000"/>
              <a:ext cx="873360" cy="536760"/>
            </a:xfrm>
            <a:custGeom>
              <a:avLst/>
              <a:gdLst/>
              <a:ahLst/>
              <a:rect l="0" t="0" r="r" b="b"/>
              <a:pathLst>
                <a:path w="2426" h="1491">
                  <a:moveTo>
                    <a:pt x="70" y="233"/>
                  </a:moveTo>
                  <a:lnTo>
                    <a:pt x="0" y="537"/>
                  </a:lnTo>
                  <a:lnTo>
                    <a:pt x="44" y="643"/>
                  </a:lnTo>
                  <a:lnTo>
                    <a:pt x="145" y="807"/>
                  </a:lnTo>
                  <a:lnTo>
                    <a:pt x="251" y="953"/>
                  </a:lnTo>
                  <a:lnTo>
                    <a:pt x="374" y="1076"/>
                  </a:lnTo>
                  <a:lnTo>
                    <a:pt x="529" y="1196"/>
                  </a:lnTo>
                  <a:lnTo>
                    <a:pt x="674" y="1279"/>
                  </a:lnTo>
                  <a:lnTo>
                    <a:pt x="833" y="1359"/>
                  </a:lnTo>
                  <a:lnTo>
                    <a:pt x="1036" y="1429"/>
                  </a:lnTo>
                  <a:lnTo>
                    <a:pt x="1190" y="1465"/>
                  </a:lnTo>
                  <a:lnTo>
                    <a:pt x="1376" y="1491"/>
                  </a:lnTo>
                  <a:lnTo>
                    <a:pt x="1548" y="1491"/>
                  </a:lnTo>
                  <a:lnTo>
                    <a:pt x="1734" y="1469"/>
                  </a:lnTo>
                  <a:lnTo>
                    <a:pt x="1923" y="1416"/>
                  </a:lnTo>
                  <a:lnTo>
                    <a:pt x="2095" y="1332"/>
                  </a:lnTo>
                  <a:lnTo>
                    <a:pt x="2197" y="1262"/>
                  </a:lnTo>
                  <a:lnTo>
                    <a:pt x="2320" y="1156"/>
                  </a:lnTo>
                  <a:lnTo>
                    <a:pt x="2386" y="1072"/>
                  </a:lnTo>
                  <a:lnTo>
                    <a:pt x="2426" y="997"/>
                  </a:lnTo>
                  <a:lnTo>
                    <a:pt x="2426" y="918"/>
                  </a:lnTo>
                  <a:lnTo>
                    <a:pt x="2399" y="825"/>
                  </a:lnTo>
                  <a:lnTo>
                    <a:pt x="2346" y="750"/>
                  </a:lnTo>
                  <a:lnTo>
                    <a:pt x="2307" y="595"/>
                  </a:lnTo>
                  <a:lnTo>
                    <a:pt x="2289" y="511"/>
                  </a:lnTo>
                  <a:lnTo>
                    <a:pt x="1177" y="582"/>
                  </a:lnTo>
                  <a:lnTo>
                    <a:pt x="1031" y="555"/>
                  </a:lnTo>
                  <a:lnTo>
                    <a:pt x="851" y="498"/>
                  </a:lnTo>
                  <a:lnTo>
                    <a:pt x="714" y="427"/>
                  </a:lnTo>
                  <a:lnTo>
                    <a:pt x="568" y="339"/>
                  </a:lnTo>
                  <a:lnTo>
                    <a:pt x="427" y="211"/>
                  </a:lnTo>
                  <a:lnTo>
                    <a:pt x="343" y="105"/>
                  </a:lnTo>
                  <a:lnTo>
                    <a:pt x="264" y="0"/>
                  </a:lnTo>
                  <a:lnTo>
                    <a:pt x="70" y="233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2760" y="189000"/>
              <a:ext cx="752760" cy="875160"/>
            </a:xfrm>
            <a:custGeom>
              <a:avLst/>
              <a:gdLst/>
              <a:ahLst/>
              <a:rect l="0" t="0" r="r" b="b"/>
              <a:pathLst>
                <a:path w="2091" h="2431">
                  <a:moveTo>
                    <a:pt x="2091" y="0"/>
                  </a:moveTo>
                  <a:lnTo>
                    <a:pt x="2091" y="1297"/>
                  </a:lnTo>
                  <a:lnTo>
                    <a:pt x="1967" y="1284"/>
                  </a:lnTo>
                  <a:lnTo>
                    <a:pt x="1813" y="1293"/>
                  </a:lnTo>
                  <a:lnTo>
                    <a:pt x="1557" y="1319"/>
                  </a:lnTo>
                  <a:lnTo>
                    <a:pt x="1306" y="1368"/>
                  </a:lnTo>
                  <a:lnTo>
                    <a:pt x="1072" y="1425"/>
                  </a:lnTo>
                  <a:lnTo>
                    <a:pt x="881" y="1495"/>
                  </a:lnTo>
                  <a:lnTo>
                    <a:pt x="657" y="1606"/>
                  </a:lnTo>
                  <a:lnTo>
                    <a:pt x="485" y="1720"/>
                  </a:lnTo>
                  <a:lnTo>
                    <a:pt x="357" y="1832"/>
                  </a:lnTo>
                  <a:lnTo>
                    <a:pt x="264" y="1937"/>
                  </a:lnTo>
                  <a:lnTo>
                    <a:pt x="207" y="2034"/>
                  </a:lnTo>
                  <a:lnTo>
                    <a:pt x="154" y="2153"/>
                  </a:lnTo>
                  <a:lnTo>
                    <a:pt x="132" y="2264"/>
                  </a:lnTo>
                  <a:lnTo>
                    <a:pt x="101" y="2431"/>
                  </a:lnTo>
                  <a:lnTo>
                    <a:pt x="74" y="2286"/>
                  </a:lnTo>
                  <a:lnTo>
                    <a:pt x="35" y="2123"/>
                  </a:lnTo>
                  <a:lnTo>
                    <a:pt x="22" y="1999"/>
                  </a:lnTo>
                  <a:lnTo>
                    <a:pt x="0" y="1854"/>
                  </a:lnTo>
                  <a:lnTo>
                    <a:pt x="8" y="1734"/>
                  </a:lnTo>
                  <a:lnTo>
                    <a:pt x="35" y="1592"/>
                  </a:lnTo>
                  <a:lnTo>
                    <a:pt x="66" y="1398"/>
                  </a:lnTo>
                  <a:lnTo>
                    <a:pt x="132" y="1231"/>
                  </a:lnTo>
                  <a:lnTo>
                    <a:pt x="220" y="1050"/>
                  </a:lnTo>
                  <a:lnTo>
                    <a:pt x="330" y="865"/>
                  </a:lnTo>
                  <a:lnTo>
                    <a:pt x="489" y="671"/>
                  </a:lnTo>
                  <a:lnTo>
                    <a:pt x="670" y="511"/>
                  </a:lnTo>
                  <a:lnTo>
                    <a:pt x="829" y="383"/>
                  </a:lnTo>
                  <a:lnTo>
                    <a:pt x="1027" y="264"/>
                  </a:lnTo>
                  <a:lnTo>
                    <a:pt x="1231" y="176"/>
                  </a:lnTo>
                  <a:lnTo>
                    <a:pt x="1469" y="92"/>
                  </a:lnTo>
                  <a:lnTo>
                    <a:pt x="1676" y="44"/>
                  </a:lnTo>
                  <a:lnTo>
                    <a:pt x="1919" y="13"/>
                  </a:lnTo>
                  <a:lnTo>
                    <a:pt x="2091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69960" y="1090440"/>
              <a:ext cx="246600" cy="184680"/>
            </a:xfrm>
            <a:custGeom>
              <a:avLst/>
              <a:gdLst/>
              <a:ahLst/>
              <a:rect l="0" t="0" r="r" b="b"/>
              <a:pathLst>
                <a:path w="685" h="513">
                  <a:moveTo>
                    <a:pt x="318" y="0"/>
                  </a:moveTo>
                  <a:lnTo>
                    <a:pt x="92" y="83"/>
                  </a:lnTo>
                  <a:lnTo>
                    <a:pt x="13" y="199"/>
                  </a:lnTo>
                  <a:lnTo>
                    <a:pt x="0" y="309"/>
                  </a:lnTo>
                  <a:lnTo>
                    <a:pt x="0" y="367"/>
                  </a:lnTo>
                  <a:lnTo>
                    <a:pt x="39" y="438"/>
                  </a:lnTo>
                  <a:lnTo>
                    <a:pt x="127" y="473"/>
                  </a:lnTo>
                  <a:lnTo>
                    <a:pt x="221" y="500"/>
                  </a:lnTo>
                  <a:lnTo>
                    <a:pt x="305" y="513"/>
                  </a:lnTo>
                  <a:lnTo>
                    <a:pt x="380" y="513"/>
                  </a:lnTo>
                  <a:lnTo>
                    <a:pt x="503" y="491"/>
                  </a:lnTo>
                  <a:lnTo>
                    <a:pt x="592" y="469"/>
                  </a:lnTo>
                  <a:lnTo>
                    <a:pt x="645" y="434"/>
                  </a:lnTo>
                  <a:lnTo>
                    <a:pt x="676" y="394"/>
                  </a:lnTo>
                  <a:lnTo>
                    <a:pt x="685" y="344"/>
                  </a:lnTo>
                  <a:lnTo>
                    <a:pt x="676" y="265"/>
                  </a:lnTo>
                  <a:lnTo>
                    <a:pt x="645" y="48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84080" y="1111320"/>
              <a:ext cx="138600" cy="116280"/>
            </a:xfrm>
            <a:custGeom>
              <a:avLst/>
              <a:gdLst/>
              <a:ahLst/>
              <a:rect l="0" t="0" r="r" b="b"/>
              <a:pathLst>
                <a:path w="385" h="323">
                  <a:moveTo>
                    <a:pt x="385" y="297"/>
                  </a:moveTo>
                  <a:lnTo>
                    <a:pt x="337" y="0"/>
                  </a:lnTo>
                  <a:lnTo>
                    <a:pt x="146" y="22"/>
                  </a:lnTo>
                  <a:lnTo>
                    <a:pt x="0" y="35"/>
                  </a:lnTo>
                  <a:lnTo>
                    <a:pt x="39" y="323"/>
                  </a:lnTo>
                  <a:lnTo>
                    <a:pt x="52" y="253"/>
                  </a:lnTo>
                  <a:lnTo>
                    <a:pt x="98" y="208"/>
                  </a:lnTo>
                  <a:lnTo>
                    <a:pt x="177" y="190"/>
                  </a:lnTo>
                  <a:lnTo>
                    <a:pt x="265" y="195"/>
                  </a:lnTo>
                  <a:lnTo>
                    <a:pt x="337" y="225"/>
                  </a:lnTo>
                  <a:lnTo>
                    <a:pt x="385" y="297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12720" y="760320"/>
              <a:ext cx="505080" cy="452880"/>
            </a:xfrm>
            <a:custGeom>
              <a:avLst/>
              <a:gdLst/>
              <a:ahLst/>
              <a:rect l="0" t="0" r="r" b="b"/>
              <a:pathLst>
                <a:path w="1403" h="1258">
                  <a:moveTo>
                    <a:pt x="1398" y="1214"/>
                  </a:moveTo>
                  <a:lnTo>
                    <a:pt x="1390" y="1122"/>
                  </a:lnTo>
                  <a:lnTo>
                    <a:pt x="1350" y="1038"/>
                  </a:lnTo>
                  <a:lnTo>
                    <a:pt x="1319" y="967"/>
                  </a:lnTo>
                  <a:lnTo>
                    <a:pt x="1297" y="856"/>
                  </a:lnTo>
                  <a:lnTo>
                    <a:pt x="1271" y="710"/>
                  </a:lnTo>
                  <a:lnTo>
                    <a:pt x="1253" y="556"/>
                  </a:lnTo>
                  <a:lnTo>
                    <a:pt x="1240" y="415"/>
                  </a:lnTo>
                  <a:lnTo>
                    <a:pt x="1231" y="295"/>
                  </a:lnTo>
                  <a:lnTo>
                    <a:pt x="1226" y="189"/>
                  </a:lnTo>
                  <a:lnTo>
                    <a:pt x="1191" y="127"/>
                  </a:lnTo>
                  <a:lnTo>
                    <a:pt x="1125" y="70"/>
                  </a:lnTo>
                  <a:lnTo>
                    <a:pt x="1059" y="39"/>
                  </a:lnTo>
                  <a:lnTo>
                    <a:pt x="953" y="8"/>
                  </a:lnTo>
                  <a:lnTo>
                    <a:pt x="834" y="0"/>
                  </a:lnTo>
                  <a:lnTo>
                    <a:pt x="648" y="0"/>
                  </a:lnTo>
                  <a:lnTo>
                    <a:pt x="485" y="8"/>
                  </a:lnTo>
                  <a:lnTo>
                    <a:pt x="326" y="39"/>
                  </a:lnTo>
                  <a:lnTo>
                    <a:pt x="180" y="92"/>
                  </a:lnTo>
                  <a:lnTo>
                    <a:pt x="88" y="154"/>
                  </a:lnTo>
                  <a:lnTo>
                    <a:pt x="35" y="207"/>
                  </a:lnTo>
                  <a:lnTo>
                    <a:pt x="0" y="268"/>
                  </a:lnTo>
                  <a:lnTo>
                    <a:pt x="8" y="331"/>
                  </a:lnTo>
                  <a:lnTo>
                    <a:pt x="22" y="393"/>
                  </a:lnTo>
                  <a:lnTo>
                    <a:pt x="66" y="459"/>
                  </a:lnTo>
                  <a:lnTo>
                    <a:pt x="101" y="543"/>
                  </a:lnTo>
                  <a:lnTo>
                    <a:pt x="119" y="658"/>
                  </a:lnTo>
                  <a:lnTo>
                    <a:pt x="132" y="777"/>
                  </a:lnTo>
                  <a:lnTo>
                    <a:pt x="154" y="882"/>
                  </a:lnTo>
                  <a:lnTo>
                    <a:pt x="158" y="1038"/>
                  </a:lnTo>
                  <a:lnTo>
                    <a:pt x="167" y="1170"/>
                  </a:lnTo>
                  <a:lnTo>
                    <a:pt x="167" y="1258"/>
                  </a:lnTo>
                  <a:lnTo>
                    <a:pt x="211" y="1148"/>
                  </a:lnTo>
                  <a:lnTo>
                    <a:pt x="299" y="1095"/>
                  </a:lnTo>
                  <a:lnTo>
                    <a:pt x="379" y="1064"/>
                  </a:lnTo>
                  <a:lnTo>
                    <a:pt x="476" y="1042"/>
                  </a:lnTo>
                  <a:lnTo>
                    <a:pt x="630" y="1011"/>
                  </a:lnTo>
                  <a:lnTo>
                    <a:pt x="781" y="1007"/>
                  </a:lnTo>
                  <a:lnTo>
                    <a:pt x="869" y="1007"/>
                  </a:lnTo>
                  <a:lnTo>
                    <a:pt x="1006" y="1016"/>
                  </a:lnTo>
                  <a:lnTo>
                    <a:pt x="1165" y="1047"/>
                  </a:lnTo>
                  <a:lnTo>
                    <a:pt x="1266" y="1086"/>
                  </a:lnTo>
                  <a:lnTo>
                    <a:pt x="1332" y="1126"/>
                  </a:lnTo>
                  <a:lnTo>
                    <a:pt x="1403" y="1183"/>
                  </a:lnTo>
                  <a:lnTo>
                    <a:pt x="1398" y="1214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97840" y="852480"/>
              <a:ext cx="873360" cy="530640"/>
            </a:xfrm>
            <a:custGeom>
              <a:avLst/>
              <a:gdLst/>
              <a:ahLst/>
              <a:rect l="0" t="0" r="r" b="b"/>
              <a:pathLst>
                <a:path w="2426" h="1474">
                  <a:moveTo>
                    <a:pt x="2355" y="211"/>
                  </a:moveTo>
                  <a:lnTo>
                    <a:pt x="2426" y="516"/>
                  </a:lnTo>
                  <a:lnTo>
                    <a:pt x="2382" y="627"/>
                  </a:lnTo>
                  <a:lnTo>
                    <a:pt x="2280" y="790"/>
                  </a:lnTo>
                  <a:lnTo>
                    <a:pt x="2174" y="935"/>
                  </a:lnTo>
                  <a:lnTo>
                    <a:pt x="2051" y="1054"/>
                  </a:lnTo>
                  <a:lnTo>
                    <a:pt x="1897" y="1179"/>
                  </a:lnTo>
                  <a:lnTo>
                    <a:pt x="1751" y="1263"/>
                  </a:lnTo>
                  <a:lnTo>
                    <a:pt x="1592" y="1342"/>
                  </a:lnTo>
                  <a:lnTo>
                    <a:pt x="1390" y="1413"/>
                  </a:lnTo>
                  <a:lnTo>
                    <a:pt x="1235" y="1448"/>
                  </a:lnTo>
                  <a:lnTo>
                    <a:pt x="1049" y="1474"/>
                  </a:lnTo>
                  <a:lnTo>
                    <a:pt x="877" y="1474"/>
                  </a:lnTo>
                  <a:lnTo>
                    <a:pt x="692" y="1452"/>
                  </a:lnTo>
                  <a:lnTo>
                    <a:pt x="502" y="1399"/>
                  </a:lnTo>
                  <a:lnTo>
                    <a:pt x="330" y="1316"/>
                  </a:lnTo>
                  <a:lnTo>
                    <a:pt x="229" y="1245"/>
                  </a:lnTo>
                  <a:lnTo>
                    <a:pt x="105" y="1139"/>
                  </a:lnTo>
                  <a:lnTo>
                    <a:pt x="39" y="1050"/>
                  </a:lnTo>
                  <a:lnTo>
                    <a:pt x="0" y="979"/>
                  </a:lnTo>
                  <a:lnTo>
                    <a:pt x="0" y="900"/>
                  </a:lnTo>
                  <a:lnTo>
                    <a:pt x="26" y="803"/>
                  </a:lnTo>
                  <a:lnTo>
                    <a:pt x="79" y="733"/>
                  </a:lnTo>
                  <a:lnTo>
                    <a:pt x="119" y="578"/>
                  </a:lnTo>
                  <a:lnTo>
                    <a:pt x="136" y="494"/>
                  </a:lnTo>
                  <a:lnTo>
                    <a:pt x="1248" y="565"/>
                  </a:lnTo>
                  <a:lnTo>
                    <a:pt x="1394" y="538"/>
                  </a:lnTo>
                  <a:lnTo>
                    <a:pt x="1575" y="481"/>
                  </a:lnTo>
                  <a:lnTo>
                    <a:pt x="1711" y="411"/>
                  </a:lnTo>
                  <a:lnTo>
                    <a:pt x="1857" y="321"/>
                  </a:lnTo>
                  <a:lnTo>
                    <a:pt x="1998" y="194"/>
                  </a:lnTo>
                  <a:lnTo>
                    <a:pt x="2082" y="83"/>
                  </a:lnTo>
                  <a:lnTo>
                    <a:pt x="2144" y="0"/>
                  </a:lnTo>
                  <a:lnTo>
                    <a:pt x="2355" y="211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0120" y="189000"/>
              <a:ext cx="752760" cy="875160"/>
            </a:xfrm>
            <a:custGeom>
              <a:avLst/>
              <a:gdLst/>
              <a:ahLst/>
              <a:rect l="0" t="0" r="r" b="b"/>
              <a:pathLst>
                <a:path w="2091" h="2431">
                  <a:moveTo>
                    <a:pt x="0" y="0"/>
                  </a:moveTo>
                  <a:lnTo>
                    <a:pt x="0" y="1297"/>
                  </a:lnTo>
                  <a:lnTo>
                    <a:pt x="123" y="1284"/>
                  </a:lnTo>
                  <a:lnTo>
                    <a:pt x="277" y="1293"/>
                  </a:lnTo>
                  <a:lnTo>
                    <a:pt x="533" y="1319"/>
                  </a:lnTo>
                  <a:lnTo>
                    <a:pt x="784" y="1368"/>
                  </a:lnTo>
                  <a:lnTo>
                    <a:pt x="1018" y="1425"/>
                  </a:lnTo>
                  <a:lnTo>
                    <a:pt x="1209" y="1495"/>
                  </a:lnTo>
                  <a:lnTo>
                    <a:pt x="1434" y="1606"/>
                  </a:lnTo>
                  <a:lnTo>
                    <a:pt x="1606" y="1720"/>
                  </a:lnTo>
                  <a:lnTo>
                    <a:pt x="1734" y="1832"/>
                  </a:lnTo>
                  <a:lnTo>
                    <a:pt x="1826" y="1937"/>
                  </a:lnTo>
                  <a:lnTo>
                    <a:pt x="1883" y="2034"/>
                  </a:lnTo>
                  <a:lnTo>
                    <a:pt x="1936" y="2153"/>
                  </a:lnTo>
                  <a:lnTo>
                    <a:pt x="1958" y="2264"/>
                  </a:lnTo>
                  <a:lnTo>
                    <a:pt x="1989" y="2431"/>
                  </a:lnTo>
                  <a:lnTo>
                    <a:pt x="2016" y="2286"/>
                  </a:lnTo>
                  <a:lnTo>
                    <a:pt x="2055" y="2123"/>
                  </a:lnTo>
                  <a:lnTo>
                    <a:pt x="2069" y="1999"/>
                  </a:lnTo>
                  <a:lnTo>
                    <a:pt x="2091" y="1854"/>
                  </a:lnTo>
                  <a:lnTo>
                    <a:pt x="2082" y="1734"/>
                  </a:lnTo>
                  <a:lnTo>
                    <a:pt x="2055" y="1592"/>
                  </a:lnTo>
                  <a:lnTo>
                    <a:pt x="2025" y="1398"/>
                  </a:lnTo>
                  <a:lnTo>
                    <a:pt x="1958" y="1231"/>
                  </a:lnTo>
                  <a:lnTo>
                    <a:pt x="1870" y="1050"/>
                  </a:lnTo>
                  <a:lnTo>
                    <a:pt x="1760" y="865"/>
                  </a:lnTo>
                  <a:lnTo>
                    <a:pt x="1601" y="671"/>
                  </a:lnTo>
                  <a:lnTo>
                    <a:pt x="1420" y="511"/>
                  </a:lnTo>
                  <a:lnTo>
                    <a:pt x="1262" y="383"/>
                  </a:lnTo>
                  <a:lnTo>
                    <a:pt x="1063" y="264"/>
                  </a:lnTo>
                  <a:lnTo>
                    <a:pt x="859" y="176"/>
                  </a:lnTo>
                  <a:lnTo>
                    <a:pt x="621" y="92"/>
                  </a:lnTo>
                  <a:lnTo>
                    <a:pt x="414" y="44"/>
                  </a:lnTo>
                  <a:lnTo>
                    <a:pt x="171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299440" y="1090440"/>
              <a:ext cx="246600" cy="184680"/>
            </a:xfrm>
            <a:custGeom>
              <a:avLst/>
              <a:gdLst/>
              <a:ahLst/>
              <a:rect l="0" t="0" r="r" b="b"/>
              <a:pathLst>
                <a:path w="685" h="513">
                  <a:moveTo>
                    <a:pt x="367" y="0"/>
                  </a:moveTo>
                  <a:lnTo>
                    <a:pt x="592" y="83"/>
                  </a:lnTo>
                  <a:lnTo>
                    <a:pt x="672" y="199"/>
                  </a:lnTo>
                  <a:lnTo>
                    <a:pt x="685" y="309"/>
                  </a:lnTo>
                  <a:lnTo>
                    <a:pt x="685" y="367"/>
                  </a:lnTo>
                  <a:lnTo>
                    <a:pt x="645" y="438"/>
                  </a:lnTo>
                  <a:lnTo>
                    <a:pt x="557" y="473"/>
                  </a:lnTo>
                  <a:lnTo>
                    <a:pt x="464" y="500"/>
                  </a:lnTo>
                  <a:lnTo>
                    <a:pt x="380" y="513"/>
                  </a:lnTo>
                  <a:lnTo>
                    <a:pt x="305" y="513"/>
                  </a:lnTo>
                  <a:lnTo>
                    <a:pt x="181" y="491"/>
                  </a:lnTo>
                  <a:lnTo>
                    <a:pt x="92" y="469"/>
                  </a:lnTo>
                  <a:lnTo>
                    <a:pt x="39" y="434"/>
                  </a:lnTo>
                  <a:lnTo>
                    <a:pt x="8" y="394"/>
                  </a:lnTo>
                  <a:lnTo>
                    <a:pt x="0" y="344"/>
                  </a:lnTo>
                  <a:lnTo>
                    <a:pt x="8" y="265"/>
                  </a:lnTo>
                  <a:lnTo>
                    <a:pt x="39" y="48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292960" y="1109520"/>
              <a:ext cx="138600" cy="117720"/>
            </a:xfrm>
            <a:custGeom>
              <a:avLst/>
              <a:gdLst/>
              <a:ahLst/>
              <a:rect l="0" t="0" r="r" b="b"/>
              <a:pathLst>
                <a:path w="385" h="327">
                  <a:moveTo>
                    <a:pt x="0" y="305"/>
                  </a:moveTo>
                  <a:lnTo>
                    <a:pt x="48" y="0"/>
                  </a:lnTo>
                  <a:lnTo>
                    <a:pt x="239" y="22"/>
                  </a:lnTo>
                  <a:lnTo>
                    <a:pt x="385" y="39"/>
                  </a:lnTo>
                  <a:lnTo>
                    <a:pt x="345" y="327"/>
                  </a:lnTo>
                  <a:lnTo>
                    <a:pt x="332" y="261"/>
                  </a:lnTo>
                  <a:lnTo>
                    <a:pt x="287" y="212"/>
                  </a:lnTo>
                  <a:lnTo>
                    <a:pt x="208" y="195"/>
                  </a:lnTo>
                  <a:lnTo>
                    <a:pt x="120" y="199"/>
                  </a:lnTo>
                  <a:lnTo>
                    <a:pt x="48" y="23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097840" y="760320"/>
              <a:ext cx="505080" cy="452880"/>
            </a:xfrm>
            <a:custGeom>
              <a:avLst/>
              <a:gdLst/>
              <a:ahLst/>
              <a:rect l="0" t="0" r="r" b="b"/>
              <a:pathLst>
                <a:path w="1403" h="1258">
                  <a:moveTo>
                    <a:pt x="4" y="1214"/>
                  </a:moveTo>
                  <a:lnTo>
                    <a:pt x="13" y="1122"/>
                  </a:lnTo>
                  <a:lnTo>
                    <a:pt x="52" y="1038"/>
                  </a:lnTo>
                  <a:lnTo>
                    <a:pt x="83" y="967"/>
                  </a:lnTo>
                  <a:lnTo>
                    <a:pt x="105" y="856"/>
                  </a:lnTo>
                  <a:lnTo>
                    <a:pt x="132" y="710"/>
                  </a:lnTo>
                  <a:lnTo>
                    <a:pt x="149" y="556"/>
                  </a:lnTo>
                  <a:lnTo>
                    <a:pt x="163" y="415"/>
                  </a:lnTo>
                  <a:lnTo>
                    <a:pt x="171" y="295"/>
                  </a:lnTo>
                  <a:lnTo>
                    <a:pt x="176" y="189"/>
                  </a:lnTo>
                  <a:lnTo>
                    <a:pt x="211" y="127"/>
                  </a:lnTo>
                  <a:lnTo>
                    <a:pt x="277" y="70"/>
                  </a:lnTo>
                  <a:lnTo>
                    <a:pt x="343" y="39"/>
                  </a:lnTo>
                  <a:lnTo>
                    <a:pt x="449" y="8"/>
                  </a:lnTo>
                  <a:lnTo>
                    <a:pt x="568" y="0"/>
                  </a:lnTo>
                  <a:lnTo>
                    <a:pt x="755" y="0"/>
                  </a:lnTo>
                  <a:lnTo>
                    <a:pt x="918" y="8"/>
                  </a:lnTo>
                  <a:lnTo>
                    <a:pt x="1076" y="39"/>
                  </a:lnTo>
                  <a:lnTo>
                    <a:pt x="1222" y="92"/>
                  </a:lnTo>
                  <a:lnTo>
                    <a:pt x="1315" y="154"/>
                  </a:lnTo>
                  <a:lnTo>
                    <a:pt x="1368" y="207"/>
                  </a:lnTo>
                  <a:lnTo>
                    <a:pt x="1403" y="268"/>
                  </a:lnTo>
                  <a:lnTo>
                    <a:pt x="1394" y="331"/>
                  </a:lnTo>
                  <a:lnTo>
                    <a:pt x="1381" y="393"/>
                  </a:lnTo>
                  <a:lnTo>
                    <a:pt x="1337" y="459"/>
                  </a:lnTo>
                  <a:lnTo>
                    <a:pt x="1301" y="543"/>
                  </a:lnTo>
                  <a:lnTo>
                    <a:pt x="1284" y="658"/>
                  </a:lnTo>
                  <a:lnTo>
                    <a:pt x="1271" y="777"/>
                  </a:lnTo>
                  <a:lnTo>
                    <a:pt x="1248" y="882"/>
                  </a:lnTo>
                  <a:lnTo>
                    <a:pt x="1244" y="1038"/>
                  </a:lnTo>
                  <a:lnTo>
                    <a:pt x="1235" y="1170"/>
                  </a:lnTo>
                  <a:lnTo>
                    <a:pt x="1235" y="1258"/>
                  </a:lnTo>
                  <a:lnTo>
                    <a:pt x="1191" y="1148"/>
                  </a:lnTo>
                  <a:lnTo>
                    <a:pt x="1103" y="1095"/>
                  </a:lnTo>
                  <a:lnTo>
                    <a:pt x="1024" y="1064"/>
                  </a:lnTo>
                  <a:lnTo>
                    <a:pt x="927" y="1042"/>
                  </a:lnTo>
                  <a:lnTo>
                    <a:pt x="772" y="1011"/>
                  </a:lnTo>
                  <a:lnTo>
                    <a:pt x="621" y="1007"/>
                  </a:lnTo>
                  <a:lnTo>
                    <a:pt x="533" y="1007"/>
                  </a:lnTo>
                  <a:lnTo>
                    <a:pt x="396" y="1016"/>
                  </a:lnTo>
                  <a:lnTo>
                    <a:pt x="238" y="1047"/>
                  </a:lnTo>
                  <a:lnTo>
                    <a:pt x="136" y="1086"/>
                  </a:lnTo>
                  <a:lnTo>
                    <a:pt x="70" y="1126"/>
                  </a:lnTo>
                  <a:lnTo>
                    <a:pt x="0" y="1183"/>
                  </a:lnTo>
                  <a:lnTo>
                    <a:pt x="4" y="1214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939000" y="189000"/>
              <a:ext cx="1319400" cy="665640"/>
            </a:xfrm>
            <a:custGeom>
              <a:avLst/>
              <a:gdLst/>
              <a:ahLst/>
              <a:rect l="0" t="0" r="r" b="b"/>
              <a:pathLst>
                <a:path w="3665" h="1849">
                  <a:moveTo>
                    <a:pt x="0" y="0"/>
                  </a:moveTo>
                  <a:lnTo>
                    <a:pt x="0" y="1571"/>
                  </a:lnTo>
                  <a:lnTo>
                    <a:pt x="370" y="1651"/>
                  </a:lnTo>
                  <a:lnTo>
                    <a:pt x="674" y="1735"/>
                  </a:lnTo>
                  <a:lnTo>
                    <a:pt x="926" y="1783"/>
                  </a:lnTo>
                  <a:lnTo>
                    <a:pt x="1137" y="1809"/>
                  </a:lnTo>
                  <a:lnTo>
                    <a:pt x="1375" y="1836"/>
                  </a:lnTo>
                  <a:lnTo>
                    <a:pt x="1772" y="1849"/>
                  </a:lnTo>
                  <a:lnTo>
                    <a:pt x="2139" y="1818"/>
                  </a:lnTo>
                  <a:lnTo>
                    <a:pt x="2514" y="1761"/>
                  </a:lnTo>
                  <a:lnTo>
                    <a:pt x="2876" y="1664"/>
                  </a:lnTo>
                  <a:lnTo>
                    <a:pt x="3193" y="1532"/>
                  </a:lnTo>
                  <a:lnTo>
                    <a:pt x="3458" y="1350"/>
                  </a:lnTo>
                  <a:lnTo>
                    <a:pt x="3656" y="1284"/>
                  </a:lnTo>
                  <a:lnTo>
                    <a:pt x="3665" y="8"/>
                  </a:lnTo>
                  <a:lnTo>
                    <a:pt x="3467" y="39"/>
                  </a:lnTo>
                  <a:lnTo>
                    <a:pt x="3202" y="127"/>
                  </a:lnTo>
                  <a:lnTo>
                    <a:pt x="2884" y="242"/>
                  </a:lnTo>
                  <a:lnTo>
                    <a:pt x="2580" y="308"/>
                  </a:lnTo>
                  <a:lnTo>
                    <a:pt x="2272" y="343"/>
                  </a:lnTo>
                  <a:lnTo>
                    <a:pt x="2064" y="361"/>
                  </a:lnTo>
                  <a:lnTo>
                    <a:pt x="1888" y="370"/>
                  </a:lnTo>
                  <a:lnTo>
                    <a:pt x="1578" y="370"/>
                  </a:lnTo>
                  <a:lnTo>
                    <a:pt x="1384" y="357"/>
                  </a:lnTo>
                  <a:lnTo>
                    <a:pt x="1208" y="335"/>
                  </a:lnTo>
                  <a:lnTo>
                    <a:pt x="1009" y="321"/>
                  </a:lnTo>
                  <a:lnTo>
                    <a:pt x="837" y="291"/>
                  </a:lnTo>
                  <a:lnTo>
                    <a:pt x="617" y="251"/>
                  </a:lnTo>
                  <a:lnTo>
                    <a:pt x="423" y="194"/>
                  </a:lnTo>
                  <a:lnTo>
                    <a:pt x="216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282160" y="1228680"/>
              <a:ext cx="246600" cy="186120"/>
            </a:xfrm>
            <a:custGeom>
              <a:avLst/>
              <a:gdLst/>
              <a:ahLst/>
              <a:rect l="0" t="0" r="r" b="b"/>
              <a:pathLst>
                <a:path w="685" h="517">
                  <a:moveTo>
                    <a:pt x="367" y="0"/>
                  </a:moveTo>
                  <a:lnTo>
                    <a:pt x="592" y="83"/>
                  </a:lnTo>
                  <a:lnTo>
                    <a:pt x="672" y="203"/>
                  </a:lnTo>
                  <a:lnTo>
                    <a:pt x="685" y="309"/>
                  </a:lnTo>
                  <a:lnTo>
                    <a:pt x="685" y="371"/>
                  </a:lnTo>
                  <a:lnTo>
                    <a:pt x="645" y="442"/>
                  </a:lnTo>
                  <a:lnTo>
                    <a:pt x="557" y="478"/>
                  </a:lnTo>
                  <a:lnTo>
                    <a:pt x="464" y="504"/>
                  </a:lnTo>
                  <a:lnTo>
                    <a:pt x="380" y="517"/>
                  </a:lnTo>
                  <a:lnTo>
                    <a:pt x="305" y="517"/>
                  </a:lnTo>
                  <a:lnTo>
                    <a:pt x="181" y="495"/>
                  </a:lnTo>
                  <a:lnTo>
                    <a:pt x="92" y="473"/>
                  </a:lnTo>
                  <a:lnTo>
                    <a:pt x="39" y="434"/>
                  </a:lnTo>
                  <a:lnTo>
                    <a:pt x="8" y="398"/>
                  </a:lnTo>
                  <a:lnTo>
                    <a:pt x="0" y="344"/>
                  </a:lnTo>
                  <a:lnTo>
                    <a:pt x="8" y="265"/>
                  </a:lnTo>
                  <a:lnTo>
                    <a:pt x="39" y="48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275680" y="1249200"/>
              <a:ext cx="138600" cy="116280"/>
            </a:xfrm>
            <a:custGeom>
              <a:avLst/>
              <a:gdLst/>
              <a:ahLst/>
              <a:rect l="0" t="0" r="r" b="b"/>
              <a:pathLst>
                <a:path w="385" h="323">
                  <a:moveTo>
                    <a:pt x="0" y="301"/>
                  </a:moveTo>
                  <a:lnTo>
                    <a:pt x="48" y="0"/>
                  </a:lnTo>
                  <a:lnTo>
                    <a:pt x="239" y="22"/>
                  </a:lnTo>
                  <a:lnTo>
                    <a:pt x="385" y="39"/>
                  </a:lnTo>
                  <a:lnTo>
                    <a:pt x="345" y="323"/>
                  </a:lnTo>
                  <a:lnTo>
                    <a:pt x="332" y="257"/>
                  </a:lnTo>
                  <a:lnTo>
                    <a:pt x="287" y="208"/>
                  </a:lnTo>
                  <a:lnTo>
                    <a:pt x="208" y="195"/>
                  </a:lnTo>
                  <a:lnTo>
                    <a:pt x="120" y="199"/>
                  </a:lnTo>
                  <a:lnTo>
                    <a:pt x="48" y="230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71400" y="1214280"/>
              <a:ext cx="246600" cy="186120"/>
            </a:xfrm>
            <a:custGeom>
              <a:avLst/>
              <a:gdLst/>
              <a:ahLst/>
              <a:rect l="0" t="0" r="r" b="b"/>
              <a:pathLst>
                <a:path w="685" h="517">
                  <a:moveTo>
                    <a:pt x="318" y="0"/>
                  </a:moveTo>
                  <a:lnTo>
                    <a:pt x="92" y="83"/>
                  </a:lnTo>
                  <a:lnTo>
                    <a:pt x="13" y="203"/>
                  </a:lnTo>
                  <a:lnTo>
                    <a:pt x="0" y="309"/>
                  </a:lnTo>
                  <a:lnTo>
                    <a:pt x="0" y="371"/>
                  </a:lnTo>
                  <a:lnTo>
                    <a:pt x="39" y="442"/>
                  </a:lnTo>
                  <a:lnTo>
                    <a:pt x="127" y="478"/>
                  </a:lnTo>
                  <a:lnTo>
                    <a:pt x="221" y="504"/>
                  </a:lnTo>
                  <a:lnTo>
                    <a:pt x="305" y="517"/>
                  </a:lnTo>
                  <a:lnTo>
                    <a:pt x="380" y="517"/>
                  </a:lnTo>
                  <a:lnTo>
                    <a:pt x="503" y="495"/>
                  </a:lnTo>
                  <a:lnTo>
                    <a:pt x="592" y="473"/>
                  </a:lnTo>
                  <a:lnTo>
                    <a:pt x="645" y="434"/>
                  </a:lnTo>
                  <a:lnTo>
                    <a:pt x="676" y="398"/>
                  </a:lnTo>
                  <a:lnTo>
                    <a:pt x="685" y="344"/>
                  </a:lnTo>
                  <a:lnTo>
                    <a:pt x="676" y="265"/>
                  </a:lnTo>
                  <a:lnTo>
                    <a:pt x="645" y="48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85880" y="1236600"/>
              <a:ext cx="138600" cy="116280"/>
            </a:xfrm>
            <a:custGeom>
              <a:avLst/>
              <a:gdLst/>
              <a:ahLst/>
              <a:rect l="0" t="0" r="r" b="b"/>
              <a:pathLst>
                <a:path w="385" h="323">
                  <a:moveTo>
                    <a:pt x="385" y="297"/>
                  </a:moveTo>
                  <a:lnTo>
                    <a:pt x="337" y="0"/>
                  </a:lnTo>
                  <a:lnTo>
                    <a:pt x="146" y="22"/>
                  </a:lnTo>
                  <a:lnTo>
                    <a:pt x="0" y="35"/>
                  </a:lnTo>
                  <a:lnTo>
                    <a:pt x="39" y="323"/>
                  </a:lnTo>
                  <a:lnTo>
                    <a:pt x="52" y="253"/>
                  </a:lnTo>
                  <a:lnTo>
                    <a:pt x="98" y="208"/>
                  </a:lnTo>
                  <a:lnTo>
                    <a:pt x="177" y="190"/>
                  </a:lnTo>
                  <a:lnTo>
                    <a:pt x="265" y="195"/>
                  </a:lnTo>
                  <a:lnTo>
                    <a:pt x="337" y="225"/>
                  </a:lnTo>
                  <a:lnTo>
                    <a:pt x="385" y="297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3124080" y="554040"/>
              <a:ext cx="304920" cy="138240"/>
            </a:xfrm>
            <a:prstGeom prst="line">
              <a:avLst/>
            </a:prstGeom>
            <a:ln w="12600">
              <a:solidFill>
                <a:srgbClr val="3500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152800" y="100080"/>
              <a:ext cx="4708800" cy="724320"/>
            </a:xfrm>
            <a:custGeom>
              <a:avLst/>
              <a:gdLst/>
              <a:ahLst/>
              <a:rect l="0" t="0" r="r" b="b"/>
              <a:pathLst>
                <a:path w="13080" h="2012">
                  <a:moveTo>
                    <a:pt x="0" y="538"/>
                  </a:moveTo>
                  <a:lnTo>
                    <a:pt x="912" y="343"/>
                  </a:lnTo>
                  <a:lnTo>
                    <a:pt x="1949" y="211"/>
                  </a:lnTo>
                  <a:lnTo>
                    <a:pt x="2822" y="141"/>
                  </a:lnTo>
                  <a:lnTo>
                    <a:pt x="3955" y="70"/>
                  </a:lnTo>
                  <a:lnTo>
                    <a:pt x="5357" y="8"/>
                  </a:lnTo>
                  <a:lnTo>
                    <a:pt x="6138" y="0"/>
                  </a:lnTo>
                  <a:lnTo>
                    <a:pt x="7541" y="0"/>
                  </a:lnTo>
                  <a:lnTo>
                    <a:pt x="8807" y="44"/>
                  </a:lnTo>
                  <a:lnTo>
                    <a:pt x="9958" y="92"/>
                  </a:lnTo>
                  <a:lnTo>
                    <a:pt x="10994" y="167"/>
                  </a:lnTo>
                  <a:lnTo>
                    <a:pt x="11792" y="238"/>
                  </a:lnTo>
                  <a:lnTo>
                    <a:pt x="12471" y="321"/>
                  </a:lnTo>
                  <a:lnTo>
                    <a:pt x="13080" y="405"/>
                  </a:lnTo>
                  <a:lnTo>
                    <a:pt x="13080" y="2012"/>
                  </a:lnTo>
                  <a:lnTo>
                    <a:pt x="12493" y="1915"/>
                  </a:lnTo>
                  <a:lnTo>
                    <a:pt x="11303" y="1761"/>
                  </a:lnTo>
                  <a:lnTo>
                    <a:pt x="10504" y="1686"/>
                  </a:lnTo>
                  <a:lnTo>
                    <a:pt x="9411" y="1615"/>
                  </a:lnTo>
                  <a:lnTo>
                    <a:pt x="8573" y="1580"/>
                  </a:lnTo>
                  <a:lnTo>
                    <a:pt x="7700" y="1545"/>
                  </a:lnTo>
                  <a:lnTo>
                    <a:pt x="6743" y="1545"/>
                  </a:lnTo>
                  <a:lnTo>
                    <a:pt x="5710" y="1545"/>
                  </a:lnTo>
                  <a:lnTo>
                    <a:pt x="4616" y="1567"/>
                  </a:lnTo>
                  <a:lnTo>
                    <a:pt x="3761" y="1602"/>
                  </a:lnTo>
                  <a:lnTo>
                    <a:pt x="2883" y="1651"/>
                  </a:lnTo>
                  <a:lnTo>
                    <a:pt x="2063" y="1712"/>
                  </a:lnTo>
                  <a:lnTo>
                    <a:pt x="1305" y="1783"/>
                  </a:lnTo>
                  <a:lnTo>
                    <a:pt x="661" y="1867"/>
                  </a:lnTo>
                  <a:lnTo>
                    <a:pt x="57" y="1964"/>
                  </a:lnTo>
                  <a:lnTo>
                    <a:pt x="0" y="538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80920" y="252360"/>
              <a:ext cx="1305360" cy="682920"/>
            </a:xfrm>
            <a:custGeom>
              <a:avLst/>
              <a:gdLst/>
              <a:ahLst/>
              <a:rect l="0" t="0" r="r" b="b"/>
              <a:pathLst>
                <a:path w="3626" h="1897">
                  <a:moveTo>
                    <a:pt x="3595" y="119"/>
                  </a:moveTo>
                  <a:lnTo>
                    <a:pt x="3626" y="1544"/>
                  </a:lnTo>
                  <a:lnTo>
                    <a:pt x="3291" y="1685"/>
                  </a:lnTo>
                  <a:lnTo>
                    <a:pt x="2982" y="1782"/>
                  </a:lnTo>
                  <a:lnTo>
                    <a:pt x="2731" y="1831"/>
                  </a:lnTo>
                  <a:lnTo>
                    <a:pt x="2518" y="1857"/>
                  </a:lnTo>
                  <a:lnTo>
                    <a:pt x="2280" y="1883"/>
                  </a:lnTo>
                  <a:lnTo>
                    <a:pt x="1883" y="1897"/>
                  </a:lnTo>
                  <a:lnTo>
                    <a:pt x="1517" y="1866"/>
                  </a:lnTo>
                  <a:lnTo>
                    <a:pt x="1143" y="1808"/>
                  </a:lnTo>
                  <a:lnTo>
                    <a:pt x="780" y="1711"/>
                  </a:lnTo>
                  <a:lnTo>
                    <a:pt x="463" y="1579"/>
                  </a:lnTo>
                  <a:lnTo>
                    <a:pt x="180" y="1434"/>
                  </a:lnTo>
                  <a:lnTo>
                    <a:pt x="0" y="1297"/>
                  </a:lnTo>
                  <a:lnTo>
                    <a:pt x="0" y="0"/>
                  </a:lnTo>
                  <a:lnTo>
                    <a:pt x="202" y="110"/>
                  </a:lnTo>
                  <a:lnTo>
                    <a:pt x="463" y="207"/>
                  </a:lnTo>
                  <a:lnTo>
                    <a:pt x="771" y="291"/>
                  </a:lnTo>
                  <a:lnTo>
                    <a:pt x="1076" y="357"/>
                  </a:lnTo>
                  <a:lnTo>
                    <a:pt x="1385" y="392"/>
                  </a:lnTo>
                  <a:lnTo>
                    <a:pt x="1592" y="410"/>
                  </a:lnTo>
                  <a:lnTo>
                    <a:pt x="1769" y="418"/>
                  </a:lnTo>
                  <a:lnTo>
                    <a:pt x="2077" y="418"/>
                  </a:lnTo>
                  <a:lnTo>
                    <a:pt x="2272" y="405"/>
                  </a:lnTo>
                  <a:lnTo>
                    <a:pt x="2448" y="383"/>
                  </a:lnTo>
                  <a:lnTo>
                    <a:pt x="2646" y="370"/>
                  </a:lnTo>
                  <a:lnTo>
                    <a:pt x="2824" y="335"/>
                  </a:lnTo>
                  <a:lnTo>
                    <a:pt x="3040" y="295"/>
                  </a:lnTo>
                  <a:lnTo>
                    <a:pt x="3234" y="242"/>
                  </a:lnTo>
                  <a:lnTo>
                    <a:pt x="3428" y="180"/>
                  </a:lnTo>
                  <a:lnTo>
                    <a:pt x="3595" y="119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62000" y="909720"/>
              <a:ext cx="873360" cy="538560"/>
            </a:xfrm>
            <a:custGeom>
              <a:avLst/>
              <a:gdLst/>
              <a:ahLst/>
              <a:rect l="0" t="0" r="r" b="b"/>
              <a:pathLst>
                <a:path w="2426" h="1496">
                  <a:moveTo>
                    <a:pt x="70" y="233"/>
                  </a:moveTo>
                  <a:lnTo>
                    <a:pt x="0" y="538"/>
                  </a:lnTo>
                  <a:lnTo>
                    <a:pt x="44" y="644"/>
                  </a:lnTo>
                  <a:lnTo>
                    <a:pt x="145" y="812"/>
                  </a:lnTo>
                  <a:lnTo>
                    <a:pt x="251" y="957"/>
                  </a:lnTo>
                  <a:lnTo>
                    <a:pt x="374" y="1076"/>
                  </a:lnTo>
                  <a:lnTo>
                    <a:pt x="529" y="1197"/>
                  </a:lnTo>
                  <a:lnTo>
                    <a:pt x="674" y="1280"/>
                  </a:lnTo>
                  <a:lnTo>
                    <a:pt x="833" y="1364"/>
                  </a:lnTo>
                  <a:lnTo>
                    <a:pt x="1036" y="1435"/>
                  </a:lnTo>
                  <a:lnTo>
                    <a:pt x="1190" y="1470"/>
                  </a:lnTo>
                  <a:lnTo>
                    <a:pt x="1376" y="1496"/>
                  </a:lnTo>
                  <a:lnTo>
                    <a:pt x="1548" y="1496"/>
                  </a:lnTo>
                  <a:lnTo>
                    <a:pt x="1734" y="1474"/>
                  </a:lnTo>
                  <a:lnTo>
                    <a:pt x="1923" y="1421"/>
                  </a:lnTo>
                  <a:lnTo>
                    <a:pt x="2095" y="1338"/>
                  </a:lnTo>
                  <a:lnTo>
                    <a:pt x="2197" y="1267"/>
                  </a:lnTo>
                  <a:lnTo>
                    <a:pt x="2320" y="1161"/>
                  </a:lnTo>
                  <a:lnTo>
                    <a:pt x="2386" y="1072"/>
                  </a:lnTo>
                  <a:lnTo>
                    <a:pt x="2426" y="1002"/>
                  </a:lnTo>
                  <a:lnTo>
                    <a:pt x="2426" y="922"/>
                  </a:lnTo>
                  <a:lnTo>
                    <a:pt x="2399" y="825"/>
                  </a:lnTo>
                  <a:lnTo>
                    <a:pt x="2346" y="755"/>
                  </a:lnTo>
                  <a:lnTo>
                    <a:pt x="2307" y="596"/>
                  </a:lnTo>
                  <a:lnTo>
                    <a:pt x="2289" y="512"/>
                  </a:lnTo>
                  <a:lnTo>
                    <a:pt x="1177" y="587"/>
                  </a:lnTo>
                  <a:lnTo>
                    <a:pt x="1031" y="556"/>
                  </a:lnTo>
                  <a:lnTo>
                    <a:pt x="851" y="503"/>
                  </a:lnTo>
                  <a:lnTo>
                    <a:pt x="714" y="428"/>
                  </a:lnTo>
                  <a:lnTo>
                    <a:pt x="568" y="339"/>
                  </a:lnTo>
                  <a:lnTo>
                    <a:pt x="427" y="211"/>
                  </a:lnTo>
                  <a:lnTo>
                    <a:pt x="343" y="105"/>
                  </a:lnTo>
                  <a:lnTo>
                    <a:pt x="264" y="0"/>
                  </a:lnTo>
                  <a:lnTo>
                    <a:pt x="70" y="233"/>
                  </a:lnTo>
                  <a:close/>
                </a:path>
              </a:pathLst>
            </a:custGeom>
            <a:gradFill rotWithShape="0">
              <a:gsLst>
                <a:gs pos="0">
                  <a:srgbClr val="350035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30320" y="254160"/>
              <a:ext cx="752760" cy="875160"/>
            </a:xfrm>
            <a:custGeom>
              <a:avLst/>
              <a:gdLst/>
              <a:ahLst/>
              <a:rect l="0" t="0" r="r" b="b"/>
              <a:pathLst>
                <a:path w="2091" h="2431">
                  <a:moveTo>
                    <a:pt x="2091" y="0"/>
                  </a:moveTo>
                  <a:lnTo>
                    <a:pt x="2091" y="1297"/>
                  </a:lnTo>
                  <a:lnTo>
                    <a:pt x="1967" y="1284"/>
                  </a:lnTo>
                  <a:lnTo>
                    <a:pt x="1813" y="1293"/>
                  </a:lnTo>
                  <a:lnTo>
                    <a:pt x="1557" y="1319"/>
                  </a:lnTo>
                  <a:lnTo>
                    <a:pt x="1306" y="1368"/>
                  </a:lnTo>
                  <a:lnTo>
                    <a:pt x="1072" y="1425"/>
                  </a:lnTo>
                  <a:lnTo>
                    <a:pt x="881" y="1495"/>
                  </a:lnTo>
                  <a:lnTo>
                    <a:pt x="657" y="1606"/>
                  </a:lnTo>
                  <a:lnTo>
                    <a:pt x="485" y="1720"/>
                  </a:lnTo>
                  <a:lnTo>
                    <a:pt x="357" y="1832"/>
                  </a:lnTo>
                  <a:lnTo>
                    <a:pt x="264" y="1937"/>
                  </a:lnTo>
                  <a:lnTo>
                    <a:pt x="207" y="2034"/>
                  </a:lnTo>
                  <a:lnTo>
                    <a:pt x="154" y="2153"/>
                  </a:lnTo>
                  <a:lnTo>
                    <a:pt x="132" y="2264"/>
                  </a:lnTo>
                  <a:lnTo>
                    <a:pt x="101" y="2431"/>
                  </a:lnTo>
                  <a:lnTo>
                    <a:pt x="74" y="2286"/>
                  </a:lnTo>
                  <a:lnTo>
                    <a:pt x="35" y="2123"/>
                  </a:lnTo>
                  <a:lnTo>
                    <a:pt x="22" y="1999"/>
                  </a:lnTo>
                  <a:lnTo>
                    <a:pt x="0" y="1854"/>
                  </a:lnTo>
                  <a:lnTo>
                    <a:pt x="8" y="1734"/>
                  </a:lnTo>
                  <a:lnTo>
                    <a:pt x="35" y="1592"/>
                  </a:lnTo>
                  <a:lnTo>
                    <a:pt x="66" y="1398"/>
                  </a:lnTo>
                  <a:lnTo>
                    <a:pt x="132" y="1231"/>
                  </a:lnTo>
                  <a:lnTo>
                    <a:pt x="220" y="1050"/>
                  </a:lnTo>
                  <a:lnTo>
                    <a:pt x="330" y="865"/>
                  </a:lnTo>
                  <a:lnTo>
                    <a:pt x="489" y="671"/>
                  </a:lnTo>
                  <a:lnTo>
                    <a:pt x="670" y="511"/>
                  </a:lnTo>
                  <a:lnTo>
                    <a:pt x="829" y="383"/>
                  </a:lnTo>
                  <a:lnTo>
                    <a:pt x="1027" y="264"/>
                  </a:lnTo>
                  <a:lnTo>
                    <a:pt x="1231" y="176"/>
                  </a:lnTo>
                  <a:lnTo>
                    <a:pt x="1469" y="92"/>
                  </a:lnTo>
                  <a:lnTo>
                    <a:pt x="1676" y="44"/>
                  </a:lnTo>
                  <a:lnTo>
                    <a:pt x="1919" y="13"/>
                  </a:lnTo>
                  <a:lnTo>
                    <a:pt x="20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87520" y="1154160"/>
              <a:ext cx="246600" cy="186120"/>
            </a:xfrm>
            <a:custGeom>
              <a:avLst/>
              <a:gdLst/>
              <a:ahLst/>
              <a:rect l="0" t="0" r="r" b="b"/>
              <a:pathLst>
                <a:path w="685" h="517">
                  <a:moveTo>
                    <a:pt x="318" y="0"/>
                  </a:moveTo>
                  <a:lnTo>
                    <a:pt x="92" y="83"/>
                  </a:lnTo>
                  <a:lnTo>
                    <a:pt x="13" y="203"/>
                  </a:lnTo>
                  <a:lnTo>
                    <a:pt x="0" y="309"/>
                  </a:lnTo>
                  <a:lnTo>
                    <a:pt x="0" y="371"/>
                  </a:lnTo>
                  <a:lnTo>
                    <a:pt x="39" y="442"/>
                  </a:lnTo>
                  <a:lnTo>
                    <a:pt x="127" y="478"/>
                  </a:lnTo>
                  <a:lnTo>
                    <a:pt x="221" y="504"/>
                  </a:lnTo>
                  <a:lnTo>
                    <a:pt x="305" y="517"/>
                  </a:lnTo>
                  <a:lnTo>
                    <a:pt x="380" y="517"/>
                  </a:lnTo>
                  <a:lnTo>
                    <a:pt x="503" y="495"/>
                  </a:lnTo>
                  <a:lnTo>
                    <a:pt x="592" y="473"/>
                  </a:lnTo>
                  <a:lnTo>
                    <a:pt x="645" y="434"/>
                  </a:lnTo>
                  <a:lnTo>
                    <a:pt x="676" y="398"/>
                  </a:lnTo>
                  <a:lnTo>
                    <a:pt x="685" y="344"/>
                  </a:lnTo>
                  <a:lnTo>
                    <a:pt x="676" y="265"/>
                  </a:lnTo>
                  <a:lnTo>
                    <a:pt x="645" y="48"/>
                  </a:lnTo>
                  <a:lnTo>
                    <a:pt x="3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50035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01640" y="1176480"/>
              <a:ext cx="138600" cy="116280"/>
            </a:xfrm>
            <a:custGeom>
              <a:avLst/>
              <a:gdLst/>
              <a:ahLst/>
              <a:rect l="0" t="0" r="r" b="b"/>
              <a:pathLst>
                <a:path w="385" h="323">
                  <a:moveTo>
                    <a:pt x="385" y="297"/>
                  </a:moveTo>
                  <a:lnTo>
                    <a:pt x="337" y="0"/>
                  </a:lnTo>
                  <a:lnTo>
                    <a:pt x="146" y="22"/>
                  </a:lnTo>
                  <a:lnTo>
                    <a:pt x="0" y="35"/>
                  </a:lnTo>
                  <a:lnTo>
                    <a:pt x="39" y="323"/>
                  </a:lnTo>
                  <a:lnTo>
                    <a:pt x="52" y="253"/>
                  </a:lnTo>
                  <a:lnTo>
                    <a:pt x="98" y="208"/>
                  </a:lnTo>
                  <a:lnTo>
                    <a:pt x="177" y="190"/>
                  </a:lnTo>
                  <a:lnTo>
                    <a:pt x="265" y="195"/>
                  </a:lnTo>
                  <a:lnTo>
                    <a:pt x="337" y="225"/>
                  </a:lnTo>
                  <a:lnTo>
                    <a:pt x="385" y="297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30280" y="825480"/>
              <a:ext cx="505080" cy="452880"/>
            </a:xfrm>
            <a:custGeom>
              <a:avLst/>
              <a:gdLst/>
              <a:ahLst/>
              <a:rect l="0" t="0" r="r" b="b"/>
              <a:pathLst>
                <a:path w="1403" h="1258">
                  <a:moveTo>
                    <a:pt x="1398" y="1214"/>
                  </a:moveTo>
                  <a:lnTo>
                    <a:pt x="1390" y="1122"/>
                  </a:lnTo>
                  <a:lnTo>
                    <a:pt x="1350" y="1038"/>
                  </a:lnTo>
                  <a:lnTo>
                    <a:pt x="1319" y="967"/>
                  </a:lnTo>
                  <a:lnTo>
                    <a:pt x="1297" y="856"/>
                  </a:lnTo>
                  <a:lnTo>
                    <a:pt x="1271" y="710"/>
                  </a:lnTo>
                  <a:lnTo>
                    <a:pt x="1253" y="556"/>
                  </a:lnTo>
                  <a:lnTo>
                    <a:pt x="1240" y="415"/>
                  </a:lnTo>
                  <a:lnTo>
                    <a:pt x="1231" y="295"/>
                  </a:lnTo>
                  <a:lnTo>
                    <a:pt x="1226" y="189"/>
                  </a:lnTo>
                  <a:lnTo>
                    <a:pt x="1191" y="127"/>
                  </a:lnTo>
                  <a:lnTo>
                    <a:pt x="1125" y="70"/>
                  </a:lnTo>
                  <a:lnTo>
                    <a:pt x="1059" y="39"/>
                  </a:lnTo>
                  <a:lnTo>
                    <a:pt x="953" y="8"/>
                  </a:lnTo>
                  <a:lnTo>
                    <a:pt x="834" y="0"/>
                  </a:lnTo>
                  <a:lnTo>
                    <a:pt x="648" y="0"/>
                  </a:lnTo>
                  <a:lnTo>
                    <a:pt x="485" y="8"/>
                  </a:lnTo>
                  <a:lnTo>
                    <a:pt x="326" y="39"/>
                  </a:lnTo>
                  <a:lnTo>
                    <a:pt x="180" y="92"/>
                  </a:lnTo>
                  <a:lnTo>
                    <a:pt x="88" y="154"/>
                  </a:lnTo>
                  <a:lnTo>
                    <a:pt x="35" y="207"/>
                  </a:lnTo>
                  <a:lnTo>
                    <a:pt x="0" y="268"/>
                  </a:lnTo>
                  <a:lnTo>
                    <a:pt x="8" y="331"/>
                  </a:lnTo>
                  <a:lnTo>
                    <a:pt x="22" y="393"/>
                  </a:lnTo>
                  <a:lnTo>
                    <a:pt x="66" y="459"/>
                  </a:lnTo>
                  <a:lnTo>
                    <a:pt x="101" y="543"/>
                  </a:lnTo>
                  <a:lnTo>
                    <a:pt x="119" y="658"/>
                  </a:lnTo>
                  <a:lnTo>
                    <a:pt x="132" y="777"/>
                  </a:lnTo>
                  <a:lnTo>
                    <a:pt x="154" y="882"/>
                  </a:lnTo>
                  <a:lnTo>
                    <a:pt x="158" y="1038"/>
                  </a:lnTo>
                  <a:lnTo>
                    <a:pt x="167" y="1170"/>
                  </a:lnTo>
                  <a:lnTo>
                    <a:pt x="167" y="1258"/>
                  </a:lnTo>
                  <a:lnTo>
                    <a:pt x="211" y="1148"/>
                  </a:lnTo>
                  <a:lnTo>
                    <a:pt x="299" y="1095"/>
                  </a:lnTo>
                  <a:lnTo>
                    <a:pt x="379" y="1064"/>
                  </a:lnTo>
                  <a:lnTo>
                    <a:pt x="476" y="1042"/>
                  </a:lnTo>
                  <a:lnTo>
                    <a:pt x="630" y="1011"/>
                  </a:lnTo>
                  <a:lnTo>
                    <a:pt x="781" y="1007"/>
                  </a:lnTo>
                  <a:lnTo>
                    <a:pt x="869" y="1007"/>
                  </a:lnTo>
                  <a:lnTo>
                    <a:pt x="1006" y="1016"/>
                  </a:lnTo>
                  <a:lnTo>
                    <a:pt x="1165" y="1047"/>
                  </a:lnTo>
                  <a:lnTo>
                    <a:pt x="1266" y="1086"/>
                  </a:lnTo>
                  <a:lnTo>
                    <a:pt x="1332" y="1126"/>
                  </a:lnTo>
                  <a:lnTo>
                    <a:pt x="1403" y="1183"/>
                  </a:lnTo>
                  <a:lnTo>
                    <a:pt x="1398" y="1214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015400" y="917640"/>
              <a:ext cx="873360" cy="530640"/>
            </a:xfrm>
            <a:custGeom>
              <a:avLst/>
              <a:gdLst/>
              <a:ahLst/>
              <a:rect l="0" t="0" r="r" b="b"/>
              <a:pathLst>
                <a:path w="2426" h="1474">
                  <a:moveTo>
                    <a:pt x="2355" y="211"/>
                  </a:moveTo>
                  <a:lnTo>
                    <a:pt x="2426" y="516"/>
                  </a:lnTo>
                  <a:lnTo>
                    <a:pt x="2382" y="627"/>
                  </a:lnTo>
                  <a:lnTo>
                    <a:pt x="2280" y="790"/>
                  </a:lnTo>
                  <a:lnTo>
                    <a:pt x="2174" y="935"/>
                  </a:lnTo>
                  <a:lnTo>
                    <a:pt x="2051" y="1054"/>
                  </a:lnTo>
                  <a:lnTo>
                    <a:pt x="1897" y="1179"/>
                  </a:lnTo>
                  <a:lnTo>
                    <a:pt x="1751" y="1263"/>
                  </a:lnTo>
                  <a:lnTo>
                    <a:pt x="1592" y="1342"/>
                  </a:lnTo>
                  <a:lnTo>
                    <a:pt x="1390" y="1413"/>
                  </a:lnTo>
                  <a:lnTo>
                    <a:pt x="1235" y="1448"/>
                  </a:lnTo>
                  <a:lnTo>
                    <a:pt x="1049" y="1474"/>
                  </a:lnTo>
                  <a:lnTo>
                    <a:pt x="877" y="1474"/>
                  </a:lnTo>
                  <a:lnTo>
                    <a:pt x="692" y="1452"/>
                  </a:lnTo>
                  <a:lnTo>
                    <a:pt x="502" y="1399"/>
                  </a:lnTo>
                  <a:lnTo>
                    <a:pt x="330" y="1316"/>
                  </a:lnTo>
                  <a:lnTo>
                    <a:pt x="229" y="1245"/>
                  </a:lnTo>
                  <a:lnTo>
                    <a:pt x="105" y="1139"/>
                  </a:lnTo>
                  <a:lnTo>
                    <a:pt x="39" y="1050"/>
                  </a:lnTo>
                  <a:lnTo>
                    <a:pt x="0" y="979"/>
                  </a:lnTo>
                  <a:lnTo>
                    <a:pt x="0" y="900"/>
                  </a:lnTo>
                  <a:lnTo>
                    <a:pt x="26" y="803"/>
                  </a:lnTo>
                  <a:lnTo>
                    <a:pt x="79" y="733"/>
                  </a:lnTo>
                  <a:lnTo>
                    <a:pt x="119" y="578"/>
                  </a:lnTo>
                  <a:lnTo>
                    <a:pt x="136" y="494"/>
                  </a:lnTo>
                  <a:lnTo>
                    <a:pt x="1248" y="565"/>
                  </a:lnTo>
                  <a:lnTo>
                    <a:pt x="1394" y="538"/>
                  </a:lnTo>
                  <a:lnTo>
                    <a:pt x="1575" y="481"/>
                  </a:lnTo>
                  <a:lnTo>
                    <a:pt x="1711" y="411"/>
                  </a:lnTo>
                  <a:lnTo>
                    <a:pt x="1857" y="321"/>
                  </a:lnTo>
                  <a:lnTo>
                    <a:pt x="1998" y="194"/>
                  </a:lnTo>
                  <a:lnTo>
                    <a:pt x="2082" y="83"/>
                  </a:lnTo>
                  <a:lnTo>
                    <a:pt x="2144" y="0"/>
                  </a:lnTo>
                  <a:lnTo>
                    <a:pt x="2355" y="211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100000">
                  <a:srgbClr val="350035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167680" y="254160"/>
              <a:ext cx="752760" cy="875160"/>
            </a:xfrm>
            <a:custGeom>
              <a:avLst/>
              <a:gdLst/>
              <a:ahLst/>
              <a:rect l="0" t="0" r="r" b="b"/>
              <a:pathLst>
                <a:path w="2091" h="2431">
                  <a:moveTo>
                    <a:pt x="0" y="0"/>
                  </a:moveTo>
                  <a:lnTo>
                    <a:pt x="0" y="1297"/>
                  </a:lnTo>
                  <a:lnTo>
                    <a:pt x="123" y="1284"/>
                  </a:lnTo>
                  <a:lnTo>
                    <a:pt x="277" y="1293"/>
                  </a:lnTo>
                  <a:lnTo>
                    <a:pt x="533" y="1319"/>
                  </a:lnTo>
                  <a:lnTo>
                    <a:pt x="784" y="1368"/>
                  </a:lnTo>
                  <a:lnTo>
                    <a:pt x="1018" y="1425"/>
                  </a:lnTo>
                  <a:lnTo>
                    <a:pt x="1209" y="1495"/>
                  </a:lnTo>
                  <a:lnTo>
                    <a:pt x="1434" y="1606"/>
                  </a:lnTo>
                  <a:lnTo>
                    <a:pt x="1606" y="1720"/>
                  </a:lnTo>
                  <a:lnTo>
                    <a:pt x="1734" y="1832"/>
                  </a:lnTo>
                  <a:lnTo>
                    <a:pt x="1826" y="1937"/>
                  </a:lnTo>
                  <a:lnTo>
                    <a:pt x="1883" y="2034"/>
                  </a:lnTo>
                  <a:lnTo>
                    <a:pt x="1936" y="2153"/>
                  </a:lnTo>
                  <a:lnTo>
                    <a:pt x="1958" y="2264"/>
                  </a:lnTo>
                  <a:lnTo>
                    <a:pt x="1989" y="2431"/>
                  </a:lnTo>
                  <a:lnTo>
                    <a:pt x="2016" y="2286"/>
                  </a:lnTo>
                  <a:lnTo>
                    <a:pt x="2055" y="2123"/>
                  </a:lnTo>
                  <a:lnTo>
                    <a:pt x="2069" y="1999"/>
                  </a:lnTo>
                  <a:lnTo>
                    <a:pt x="2091" y="1854"/>
                  </a:lnTo>
                  <a:lnTo>
                    <a:pt x="2082" y="1734"/>
                  </a:lnTo>
                  <a:lnTo>
                    <a:pt x="2055" y="1592"/>
                  </a:lnTo>
                  <a:lnTo>
                    <a:pt x="2025" y="1398"/>
                  </a:lnTo>
                  <a:lnTo>
                    <a:pt x="1958" y="1231"/>
                  </a:lnTo>
                  <a:lnTo>
                    <a:pt x="1870" y="1050"/>
                  </a:lnTo>
                  <a:lnTo>
                    <a:pt x="1760" y="865"/>
                  </a:lnTo>
                  <a:lnTo>
                    <a:pt x="1601" y="671"/>
                  </a:lnTo>
                  <a:lnTo>
                    <a:pt x="1420" y="511"/>
                  </a:lnTo>
                  <a:lnTo>
                    <a:pt x="1262" y="383"/>
                  </a:lnTo>
                  <a:lnTo>
                    <a:pt x="1063" y="264"/>
                  </a:lnTo>
                  <a:lnTo>
                    <a:pt x="859" y="176"/>
                  </a:lnTo>
                  <a:lnTo>
                    <a:pt x="621" y="92"/>
                  </a:lnTo>
                  <a:lnTo>
                    <a:pt x="414" y="44"/>
                  </a:lnTo>
                  <a:lnTo>
                    <a:pt x="171" y="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217000" y="1154160"/>
              <a:ext cx="246600" cy="186120"/>
            </a:xfrm>
            <a:custGeom>
              <a:avLst/>
              <a:gdLst/>
              <a:ahLst/>
              <a:rect l="0" t="0" r="r" b="b"/>
              <a:pathLst>
                <a:path w="685" h="517">
                  <a:moveTo>
                    <a:pt x="367" y="0"/>
                  </a:moveTo>
                  <a:lnTo>
                    <a:pt x="592" y="83"/>
                  </a:lnTo>
                  <a:lnTo>
                    <a:pt x="672" y="203"/>
                  </a:lnTo>
                  <a:lnTo>
                    <a:pt x="685" y="309"/>
                  </a:lnTo>
                  <a:lnTo>
                    <a:pt x="685" y="371"/>
                  </a:lnTo>
                  <a:lnTo>
                    <a:pt x="645" y="442"/>
                  </a:lnTo>
                  <a:lnTo>
                    <a:pt x="557" y="478"/>
                  </a:lnTo>
                  <a:lnTo>
                    <a:pt x="464" y="504"/>
                  </a:lnTo>
                  <a:lnTo>
                    <a:pt x="380" y="517"/>
                  </a:lnTo>
                  <a:lnTo>
                    <a:pt x="305" y="517"/>
                  </a:lnTo>
                  <a:lnTo>
                    <a:pt x="181" y="495"/>
                  </a:lnTo>
                  <a:lnTo>
                    <a:pt x="92" y="473"/>
                  </a:lnTo>
                  <a:lnTo>
                    <a:pt x="39" y="434"/>
                  </a:lnTo>
                  <a:lnTo>
                    <a:pt x="8" y="398"/>
                  </a:lnTo>
                  <a:lnTo>
                    <a:pt x="0" y="344"/>
                  </a:lnTo>
                  <a:lnTo>
                    <a:pt x="8" y="265"/>
                  </a:lnTo>
                  <a:lnTo>
                    <a:pt x="39" y="48"/>
                  </a:lnTo>
                  <a:lnTo>
                    <a:pt x="367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100000">
                  <a:srgbClr val="350035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210520" y="1174680"/>
              <a:ext cx="138600" cy="116280"/>
            </a:xfrm>
            <a:custGeom>
              <a:avLst/>
              <a:gdLst/>
              <a:ahLst/>
              <a:rect l="0" t="0" r="r" b="b"/>
              <a:pathLst>
                <a:path w="385" h="323">
                  <a:moveTo>
                    <a:pt x="0" y="301"/>
                  </a:moveTo>
                  <a:lnTo>
                    <a:pt x="48" y="0"/>
                  </a:lnTo>
                  <a:lnTo>
                    <a:pt x="239" y="22"/>
                  </a:lnTo>
                  <a:lnTo>
                    <a:pt x="385" y="39"/>
                  </a:lnTo>
                  <a:lnTo>
                    <a:pt x="345" y="323"/>
                  </a:lnTo>
                  <a:lnTo>
                    <a:pt x="332" y="257"/>
                  </a:lnTo>
                  <a:lnTo>
                    <a:pt x="287" y="208"/>
                  </a:lnTo>
                  <a:lnTo>
                    <a:pt x="208" y="195"/>
                  </a:lnTo>
                  <a:lnTo>
                    <a:pt x="120" y="199"/>
                  </a:lnTo>
                  <a:lnTo>
                    <a:pt x="48" y="230"/>
                  </a:lnTo>
                  <a:lnTo>
                    <a:pt x="0" y="301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015400" y="825480"/>
              <a:ext cx="505080" cy="452880"/>
            </a:xfrm>
            <a:custGeom>
              <a:avLst/>
              <a:gdLst/>
              <a:ahLst/>
              <a:rect l="0" t="0" r="r" b="b"/>
              <a:pathLst>
                <a:path w="1403" h="1258">
                  <a:moveTo>
                    <a:pt x="4" y="1214"/>
                  </a:moveTo>
                  <a:lnTo>
                    <a:pt x="13" y="1122"/>
                  </a:lnTo>
                  <a:lnTo>
                    <a:pt x="52" y="1038"/>
                  </a:lnTo>
                  <a:lnTo>
                    <a:pt x="83" y="967"/>
                  </a:lnTo>
                  <a:lnTo>
                    <a:pt x="105" y="856"/>
                  </a:lnTo>
                  <a:lnTo>
                    <a:pt x="132" y="710"/>
                  </a:lnTo>
                  <a:lnTo>
                    <a:pt x="149" y="556"/>
                  </a:lnTo>
                  <a:lnTo>
                    <a:pt x="163" y="415"/>
                  </a:lnTo>
                  <a:lnTo>
                    <a:pt x="171" y="295"/>
                  </a:lnTo>
                  <a:lnTo>
                    <a:pt x="176" y="189"/>
                  </a:lnTo>
                  <a:lnTo>
                    <a:pt x="211" y="127"/>
                  </a:lnTo>
                  <a:lnTo>
                    <a:pt x="277" y="70"/>
                  </a:lnTo>
                  <a:lnTo>
                    <a:pt x="343" y="39"/>
                  </a:lnTo>
                  <a:lnTo>
                    <a:pt x="449" y="8"/>
                  </a:lnTo>
                  <a:lnTo>
                    <a:pt x="568" y="0"/>
                  </a:lnTo>
                  <a:lnTo>
                    <a:pt x="755" y="0"/>
                  </a:lnTo>
                  <a:lnTo>
                    <a:pt x="918" y="8"/>
                  </a:lnTo>
                  <a:lnTo>
                    <a:pt x="1076" y="39"/>
                  </a:lnTo>
                  <a:lnTo>
                    <a:pt x="1222" y="92"/>
                  </a:lnTo>
                  <a:lnTo>
                    <a:pt x="1315" y="154"/>
                  </a:lnTo>
                  <a:lnTo>
                    <a:pt x="1368" y="207"/>
                  </a:lnTo>
                  <a:lnTo>
                    <a:pt x="1403" y="268"/>
                  </a:lnTo>
                  <a:lnTo>
                    <a:pt x="1394" y="331"/>
                  </a:lnTo>
                  <a:lnTo>
                    <a:pt x="1381" y="393"/>
                  </a:lnTo>
                  <a:lnTo>
                    <a:pt x="1337" y="459"/>
                  </a:lnTo>
                  <a:lnTo>
                    <a:pt x="1301" y="543"/>
                  </a:lnTo>
                  <a:lnTo>
                    <a:pt x="1284" y="658"/>
                  </a:lnTo>
                  <a:lnTo>
                    <a:pt x="1271" y="777"/>
                  </a:lnTo>
                  <a:lnTo>
                    <a:pt x="1248" y="882"/>
                  </a:lnTo>
                  <a:lnTo>
                    <a:pt x="1244" y="1038"/>
                  </a:lnTo>
                  <a:lnTo>
                    <a:pt x="1235" y="1170"/>
                  </a:lnTo>
                  <a:lnTo>
                    <a:pt x="1235" y="1258"/>
                  </a:lnTo>
                  <a:lnTo>
                    <a:pt x="1191" y="1148"/>
                  </a:lnTo>
                  <a:lnTo>
                    <a:pt x="1103" y="1095"/>
                  </a:lnTo>
                  <a:lnTo>
                    <a:pt x="1024" y="1064"/>
                  </a:lnTo>
                  <a:lnTo>
                    <a:pt x="927" y="1042"/>
                  </a:lnTo>
                  <a:lnTo>
                    <a:pt x="772" y="1011"/>
                  </a:lnTo>
                  <a:lnTo>
                    <a:pt x="621" y="1007"/>
                  </a:lnTo>
                  <a:lnTo>
                    <a:pt x="533" y="1007"/>
                  </a:lnTo>
                  <a:lnTo>
                    <a:pt x="396" y="1016"/>
                  </a:lnTo>
                  <a:lnTo>
                    <a:pt x="238" y="1047"/>
                  </a:lnTo>
                  <a:lnTo>
                    <a:pt x="136" y="1086"/>
                  </a:lnTo>
                  <a:lnTo>
                    <a:pt x="70" y="1126"/>
                  </a:lnTo>
                  <a:lnTo>
                    <a:pt x="0" y="1183"/>
                  </a:lnTo>
                  <a:lnTo>
                    <a:pt x="4" y="1214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56560" y="254160"/>
              <a:ext cx="1319400" cy="665640"/>
            </a:xfrm>
            <a:custGeom>
              <a:avLst/>
              <a:gdLst/>
              <a:ahLst/>
              <a:rect l="0" t="0" r="r" b="b"/>
              <a:pathLst>
                <a:path w="3665" h="1849">
                  <a:moveTo>
                    <a:pt x="0" y="0"/>
                  </a:moveTo>
                  <a:lnTo>
                    <a:pt x="0" y="1571"/>
                  </a:lnTo>
                  <a:lnTo>
                    <a:pt x="370" y="1651"/>
                  </a:lnTo>
                  <a:lnTo>
                    <a:pt x="674" y="1735"/>
                  </a:lnTo>
                  <a:lnTo>
                    <a:pt x="926" y="1783"/>
                  </a:lnTo>
                  <a:lnTo>
                    <a:pt x="1137" y="1809"/>
                  </a:lnTo>
                  <a:lnTo>
                    <a:pt x="1375" y="1836"/>
                  </a:lnTo>
                  <a:lnTo>
                    <a:pt x="1772" y="1849"/>
                  </a:lnTo>
                  <a:lnTo>
                    <a:pt x="2139" y="1818"/>
                  </a:lnTo>
                  <a:lnTo>
                    <a:pt x="2514" y="1761"/>
                  </a:lnTo>
                  <a:lnTo>
                    <a:pt x="2876" y="1664"/>
                  </a:lnTo>
                  <a:lnTo>
                    <a:pt x="3193" y="1532"/>
                  </a:lnTo>
                  <a:lnTo>
                    <a:pt x="3458" y="1350"/>
                  </a:lnTo>
                  <a:lnTo>
                    <a:pt x="3656" y="1284"/>
                  </a:lnTo>
                  <a:lnTo>
                    <a:pt x="3665" y="8"/>
                  </a:lnTo>
                  <a:lnTo>
                    <a:pt x="3467" y="39"/>
                  </a:lnTo>
                  <a:lnTo>
                    <a:pt x="3202" y="127"/>
                  </a:lnTo>
                  <a:lnTo>
                    <a:pt x="2884" y="242"/>
                  </a:lnTo>
                  <a:lnTo>
                    <a:pt x="2580" y="308"/>
                  </a:lnTo>
                  <a:lnTo>
                    <a:pt x="2272" y="343"/>
                  </a:lnTo>
                  <a:lnTo>
                    <a:pt x="2064" y="361"/>
                  </a:lnTo>
                  <a:lnTo>
                    <a:pt x="1888" y="370"/>
                  </a:lnTo>
                  <a:lnTo>
                    <a:pt x="1578" y="370"/>
                  </a:lnTo>
                  <a:lnTo>
                    <a:pt x="1384" y="357"/>
                  </a:lnTo>
                  <a:lnTo>
                    <a:pt x="1208" y="335"/>
                  </a:lnTo>
                  <a:lnTo>
                    <a:pt x="1009" y="321"/>
                  </a:lnTo>
                  <a:lnTo>
                    <a:pt x="837" y="291"/>
                  </a:lnTo>
                  <a:lnTo>
                    <a:pt x="617" y="251"/>
                  </a:lnTo>
                  <a:lnTo>
                    <a:pt x="423" y="194"/>
                  </a:lnTo>
                  <a:lnTo>
                    <a:pt x="216" y="10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-17640"/>
            <a:ext cx="9177480" cy="6905520"/>
            <a:chOff x="0" y="-17640"/>
            <a:chExt cx="9177480" cy="6905520"/>
          </a:xfrm>
        </p:grpSpPr>
        <p:sp>
          <p:nvSpPr>
            <p:cNvPr id="84" name=""/>
            <p:cNvSpPr/>
            <p:nvPr/>
          </p:nvSpPr>
          <p:spPr>
            <a:xfrm>
              <a:off x="0" y="2895480"/>
              <a:ext cx="9166320" cy="3992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415360" y="-17640"/>
              <a:ext cx="381240" cy="6799680"/>
            </a:xfrm>
            <a:custGeom>
              <a:avLst/>
              <a:gdLst/>
              <a:ahLst/>
              <a:rect l="0" t="0" r="r" b="b"/>
              <a:pathLst>
                <a:path w="1059" h="18888">
                  <a:moveTo>
                    <a:pt x="0" y="18672"/>
                  </a:moveTo>
                  <a:lnTo>
                    <a:pt x="0" y="0"/>
                  </a:lnTo>
                  <a:lnTo>
                    <a:pt x="1059" y="0"/>
                  </a:lnTo>
                  <a:lnTo>
                    <a:pt x="1059" y="18672"/>
                  </a:lnTo>
                  <a:lnTo>
                    <a:pt x="847" y="18888"/>
                  </a:lnTo>
                  <a:lnTo>
                    <a:pt x="636" y="18880"/>
                  </a:lnTo>
                  <a:lnTo>
                    <a:pt x="493" y="18880"/>
                  </a:lnTo>
                  <a:lnTo>
                    <a:pt x="216" y="18880"/>
                  </a:lnTo>
                  <a:lnTo>
                    <a:pt x="0" y="18672"/>
                  </a:lnTo>
                  <a:close/>
                </a:path>
              </a:pathLst>
            </a:custGeom>
            <a:gradFill rotWithShape="0">
              <a:gsLst>
                <a:gs pos="0">
                  <a:srgbClr val="00005b"/>
                </a:gs>
                <a:gs pos="50000">
                  <a:srgbClr val="0000ff"/>
                </a:gs>
                <a:gs pos="100000">
                  <a:srgbClr val="00005b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96240" y="-17640"/>
              <a:ext cx="381240" cy="6799680"/>
            </a:xfrm>
            <a:custGeom>
              <a:avLst/>
              <a:gdLst/>
              <a:ahLst/>
              <a:rect l="0" t="0" r="r" b="b"/>
              <a:pathLst>
                <a:path w="1059" h="18888">
                  <a:moveTo>
                    <a:pt x="0" y="18672"/>
                  </a:moveTo>
                  <a:lnTo>
                    <a:pt x="0" y="0"/>
                  </a:lnTo>
                  <a:lnTo>
                    <a:pt x="1059" y="0"/>
                  </a:lnTo>
                  <a:lnTo>
                    <a:pt x="1059" y="18672"/>
                  </a:lnTo>
                  <a:lnTo>
                    <a:pt x="847" y="18888"/>
                  </a:lnTo>
                  <a:lnTo>
                    <a:pt x="636" y="18880"/>
                  </a:lnTo>
                  <a:lnTo>
                    <a:pt x="493" y="18880"/>
                  </a:lnTo>
                  <a:lnTo>
                    <a:pt x="216" y="18880"/>
                  </a:lnTo>
                  <a:lnTo>
                    <a:pt x="0" y="18672"/>
                  </a:lnTo>
                  <a:close/>
                </a:path>
              </a:pathLst>
            </a:custGeom>
            <a:gradFill rotWithShape="0">
              <a:gsLst>
                <a:gs pos="0">
                  <a:srgbClr val="00005b"/>
                </a:gs>
                <a:gs pos="50000">
                  <a:srgbClr val="0000ff"/>
                </a:gs>
                <a:gs pos="100000">
                  <a:srgbClr val="00005b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381240" cy="6782040"/>
            </a:xfrm>
            <a:custGeom>
              <a:avLst/>
              <a:gdLst/>
              <a:ahLst/>
              <a:rect l="0" t="0" r="r" b="b"/>
              <a:pathLst>
                <a:path w="1059" h="18839">
                  <a:moveTo>
                    <a:pt x="0" y="18623"/>
                  </a:moveTo>
                  <a:lnTo>
                    <a:pt x="0" y="0"/>
                  </a:lnTo>
                  <a:lnTo>
                    <a:pt x="1059" y="0"/>
                  </a:lnTo>
                  <a:lnTo>
                    <a:pt x="1059" y="18623"/>
                  </a:lnTo>
                  <a:lnTo>
                    <a:pt x="847" y="18839"/>
                  </a:lnTo>
                  <a:lnTo>
                    <a:pt x="636" y="18830"/>
                  </a:lnTo>
                  <a:lnTo>
                    <a:pt x="493" y="18830"/>
                  </a:lnTo>
                  <a:lnTo>
                    <a:pt x="216" y="18830"/>
                  </a:lnTo>
                  <a:lnTo>
                    <a:pt x="0" y="18623"/>
                  </a:lnTo>
                  <a:close/>
                </a:path>
              </a:pathLst>
            </a:custGeom>
            <a:gradFill rotWithShape="0">
              <a:gsLst>
                <a:gs pos="0">
                  <a:srgbClr val="00005b"/>
                </a:gs>
                <a:gs pos="50000">
                  <a:srgbClr val="0000ff"/>
                </a:gs>
                <a:gs pos="100000">
                  <a:srgbClr val="00005b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880" y="0"/>
              <a:ext cx="381240" cy="6782040"/>
            </a:xfrm>
            <a:custGeom>
              <a:avLst/>
              <a:gdLst/>
              <a:ahLst/>
              <a:rect l="0" t="0" r="r" b="b"/>
              <a:pathLst>
                <a:path w="1059" h="18839">
                  <a:moveTo>
                    <a:pt x="0" y="18623"/>
                  </a:moveTo>
                  <a:lnTo>
                    <a:pt x="0" y="0"/>
                  </a:lnTo>
                  <a:lnTo>
                    <a:pt x="1059" y="0"/>
                  </a:lnTo>
                  <a:lnTo>
                    <a:pt x="1059" y="18623"/>
                  </a:lnTo>
                  <a:lnTo>
                    <a:pt x="847" y="18839"/>
                  </a:lnTo>
                  <a:lnTo>
                    <a:pt x="635" y="18830"/>
                  </a:lnTo>
                  <a:lnTo>
                    <a:pt x="493" y="18830"/>
                  </a:lnTo>
                  <a:lnTo>
                    <a:pt x="216" y="18830"/>
                  </a:lnTo>
                  <a:lnTo>
                    <a:pt x="0" y="18623"/>
                  </a:lnTo>
                  <a:close/>
                </a:path>
              </a:pathLst>
            </a:custGeom>
            <a:gradFill rotWithShape="0">
              <a:gsLst>
                <a:gs pos="0">
                  <a:srgbClr val="00005b"/>
                </a:gs>
                <a:gs pos="50000">
                  <a:srgbClr val="0000ff"/>
                </a:gs>
                <a:gs pos="100000">
                  <a:srgbClr val="00005b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64600" y="2460600"/>
              <a:ext cx="246600" cy="184680"/>
            </a:xfrm>
            <a:custGeom>
              <a:avLst/>
              <a:gdLst/>
              <a:ahLst/>
              <a:rect l="0" t="0" r="r" b="b"/>
              <a:pathLst>
                <a:path w="685" h="513">
                  <a:moveTo>
                    <a:pt x="367" y="0"/>
                  </a:moveTo>
                  <a:lnTo>
                    <a:pt x="592" y="83"/>
                  </a:lnTo>
                  <a:lnTo>
                    <a:pt x="672" y="199"/>
                  </a:lnTo>
                  <a:lnTo>
                    <a:pt x="685" y="309"/>
                  </a:lnTo>
                  <a:lnTo>
                    <a:pt x="685" y="367"/>
                  </a:lnTo>
                  <a:lnTo>
                    <a:pt x="645" y="438"/>
                  </a:lnTo>
                  <a:lnTo>
                    <a:pt x="557" y="473"/>
                  </a:lnTo>
                  <a:lnTo>
                    <a:pt x="464" y="500"/>
                  </a:lnTo>
                  <a:lnTo>
                    <a:pt x="380" y="513"/>
                  </a:lnTo>
                  <a:lnTo>
                    <a:pt x="305" y="513"/>
                  </a:lnTo>
                  <a:lnTo>
                    <a:pt x="181" y="491"/>
                  </a:lnTo>
                  <a:lnTo>
                    <a:pt x="92" y="469"/>
                  </a:lnTo>
                  <a:lnTo>
                    <a:pt x="39" y="434"/>
                  </a:lnTo>
                  <a:lnTo>
                    <a:pt x="8" y="394"/>
                  </a:lnTo>
                  <a:lnTo>
                    <a:pt x="0" y="344"/>
                  </a:lnTo>
                  <a:lnTo>
                    <a:pt x="8" y="265"/>
                  </a:lnTo>
                  <a:lnTo>
                    <a:pt x="39" y="48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58120" y="2479680"/>
              <a:ext cx="138600" cy="117720"/>
            </a:xfrm>
            <a:custGeom>
              <a:avLst/>
              <a:gdLst/>
              <a:ahLst/>
              <a:rect l="0" t="0" r="r" b="b"/>
              <a:pathLst>
                <a:path w="385" h="327">
                  <a:moveTo>
                    <a:pt x="0" y="305"/>
                  </a:moveTo>
                  <a:lnTo>
                    <a:pt x="48" y="0"/>
                  </a:lnTo>
                  <a:lnTo>
                    <a:pt x="239" y="22"/>
                  </a:lnTo>
                  <a:lnTo>
                    <a:pt x="385" y="39"/>
                  </a:lnTo>
                  <a:lnTo>
                    <a:pt x="345" y="327"/>
                  </a:lnTo>
                  <a:lnTo>
                    <a:pt x="332" y="261"/>
                  </a:lnTo>
                  <a:lnTo>
                    <a:pt x="287" y="212"/>
                  </a:lnTo>
                  <a:lnTo>
                    <a:pt x="208" y="195"/>
                  </a:lnTo>
                  <a:lnTo>
                    <a:pt x="120" y="199"/>
                  </a:lnTo>
                  <a:lnTo>
                    <a:pt x="48" y="23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4200" y="2446200"/>
              <a:ext cx="246600" cy="184680"/>
            </a:xfrm>
            <a:custGeom>
              <a:avLst/>
              <a:gdLst/>
              <a:ahLst/>
              <a:rect l="0" t="0" r="r" b="b"/>
              <a:pathLst>
                <a:path w="685" h="513">
                  <a:moveTo>
                    <a:pt x="318" y="0"/>
                  </a:moveTo>
                  <a:lnTo>
                    <a:pt x="92" y="83"/>
                  </a:lnTo>
                  <a:lnTo>
                    <a:pt x="13" y="199"/>
                  </a:lnTo>
                  <a:lnTo>
                    <a:pt x="0" y="309"/>
                  </a:lnTo>
                  <a:lnTo>
                    <a:pt x="0" y="367"/>
                  </a:lnTo>
                  <a:lnTo>
                    <a:pt x="39" y="438"/>
                  </a:lnTo>
                  <a:lnTo>
                    <a:pt x="127" y="473"/>
                  </a:lnTo>
                  <a:lnTo>
                    <a:pt x="221" y="500"/>
                  </a:lnTo>
                  <a:lnTo>
                    <a:pt x="305" y="513"/>
                  </a:lnTo>
                  <a:lnTo>
                    <a:pt x="380" y="513"/>
                  </a:lnTo>
                  <a:lnTo>
                    <a:pt x="503" y="491"/>
                  </a:lnTo>
                  <a:lnTo>
                    <a:pt x="592" y="469"/>
                  </a:lnTo>
                  <a:lnTo>
                    <a:pt x="645" y="434"/>
                  </a:lnTo>
                  <a:lnTo>
                    <a:pt x="676" y="394"/>
                  </a:lnTo>
                  <a:lnTo>
                    <a:pt x="685" y="344"/>
                  </a:lnTo>
                  <a:lnTo>
                    <a:pt x="676" y="265"/>
                  </a:lnTo>
                  <a:lnTo>
                    <a:pt x="645" y="48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20" y="2467080"/>
              <a:ext cx="138600" cy="117720"/>
            </a:xfrm>
            <a:custGeom>
              <a:avLst/>
              <a:gdLst/>
              <a:ahLst/>
              <a:rect l="0" t="0" r="r" b="b"/>
              <a:pathLst>
                <a:path w="385" h="327">
                  <a:moveTo>
                    <a:pt x="385" y="300"/>
                  </a:moveTo>
                  <a:lnTo>
                    <a:pt x="337" y="0"/>
                  </a:lnTo>
                  <a:lnTo>
                    <a:pt x="146" y="22"/>
                  </a:lnTo>
                  <a:lnTo>
                    <a:pt x="0" y="39"/>
                  </a:lnTo>
                  <a:lnTo>
                    <a:pt x="39" y="327"/>
                  </a:lnTo>
                  <a:lnTo>
                    <a:pt x="52" y="256"/>
                  </a:lnTo>
                  <a:lnTo>
                    <a:pt x="98" y="208"/>
                  </a:lnTo>
                  <a:lnTo>
                    <a:pt x="177" y="195"/>
                  </a:lnTo>
                  <a:lnTo>
                    <a:pt x="265" y="199"/>
                  </a:lnTo>
                  <a:lnTo>
                    <a:pt x="337" y="230"/>
                  </a:lnTo>
                  <a:lnTo>
                    <a:pt x="385" y="30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206880" y="1784520"/>
              <a:ext cx="304560" cy="137880"/>
            </a:xfrm>
            <a:prstGeom prst="line">
              <a:avLst/>
            </a:prstGeom>
            <a:ln w="12600">
              <a:solidFill>
                <a:srgbClr val="3500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35240" y="1330200"/>
              <a:ext cx="4708800" cy="724320"/>
            </a:xfrm>
            <a:custGeom>
              <a:avLst/>
              <a:gdLst/>
              <a:ahLst/>
              <a:rect l="0" t="0" r="r" b="b"/>
              <a:pathLst>
                <a:path w="13080" h="2012">
                  <a:moveTo>
                    <a:pt x="0" y="538"/>
                  </a:moveTo>
                  <a:lnTo>
                    <a:pt x="912" y="343"/>
                  </a:lnTo>
                  <a:lnTo>
                    <a:pt x="1949" y="211"/>
                  </a:lnTo>
                  <a:lnTo>
                    <a:pt x="2822" y="141"/>
                  </a:lnTo>
                  <a:lnTo>
                    <a:pt x="3955" y="70"/>
                  </a:lnTo>
                  <a:lnTo>
                    <a:pt x="5357" y="8"/>
                  </a:lnTo>
                  <a:lnTo>
                    <a:pt x="6138" y="0"/>
                  </a:lnTo>
                  <a:lnTo>
                    <a:pt x="7541" y="0"/>
                  </a:lnTo>
                  <a:lnTo>
                    <a:pt x="8807" y="44"/>
                  </a:lnTo>
                  <a:lnTo>
                    <a:pt x="9958" y="92"/>
                  </a:lnTo>
                  <a:lnTo>
                    <a:pt x="10994" y="167"/>
                  </a:lnTo>
                  <a:lnTo>
                    <a:pt x="11792" y="238"/>
                  </a:lnTo>
                  <a:lnTo>
                    <a:pt x="12471" y="321"/>
                  </a:lnTo>
                  <a:lnTo>
                    <a:pt x="13080" y="405"/>
                  </a:lnTo>
                  <a:lnTo>
                    <a:pt x="13080" y="2012"/>
                  </a:lnTo>
                  <a:lnTo>
                    <a:pt x="12493" y="1915"/>
                  </a:lnTo>
                  <a:lnTo>
                    <a:pt x="11303" y="1761"/>
                  </a:lnTo>
                  <a:lnTo>
                    <a:pt x="10504" y="1686"/>
                  </a:lnTo>
                  <a:lnTo>
                    <a:pt x="9411" y="1615"/>
                  </a:lnTo>
                  <a:lnTo>
                    <a:pt x="8573" y="1580"/>
                  </a:lnTo>
                  <a:lnTo>
                    <a:pt x="7700" y="1545"/>
                  </a:lnTo>
                  <a:lnTo>
                    <a:pt x="6743" y="1545"/>
                  </a:lnTo>
                  <a:lnTo>
                    <a:pt x="5710" y="1545"/>
                  </a:lnTo>
                  <a:lnTo>
                    <a:pt x="4616" y="1567"/>
                  </a:lnTo>
                  <a:lnTo>
                    <a:pt x="3761" y="1602"/>
                  </a:lnTo>
                  <a:lnTo>
                    <a:pt x="2883" y="1651"/>
                  </a:lnTo>
                  <a:lnTo>
                    <a:pt x="2063" y="1712"/>
                  </a:lnTo>
                  <a:lnTo>
                    <a:pt x="1305" y="1783"/>
                  </a:lnTo>
                  <a:lnTo>
                    <a:pt x="661" y="1867"/>
                  </a:lnTo>
                  <a:lnTo>
                    <a:pt x="57" y="1964"/>
                  </a:lnTo>
                  <a:lnTo>
                    <a:pt x="0" y="538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3720" y="1482840"/>
              <a:ext cx="1305360" cy="682920"/>
            </a:xfrm>
            <a:custGeom>
              <a:avLst/>
              <a:gdLst/>
              <a:ahLst/>
              <a:rect l="0" t="0" r="r" b="b"/>
              <a:pathLst>
                <a:path w="3626" h="1897">
                  <a:moveTo>
                    <a:pt x="3595" y="119"/>
                  </a:moveTo>
                  <a:lnTo>
                    <a:pt x="3626" y="1544"/>
                  </a:lnTo>
                  <a:lnTo>
                    <a:pt x="3291" y="1685"/>
                  </a:lnTo>
                  <a:lnTo>
                    <a:pt x="2982" y="1782"/>
                  </a:lnTo>
                  <a:lnTo>
                    <a:pt x="2731" y="1831"/>
                  </a:lnTo>
                  <a:lnTo>
                    <a:pt x="2518" y="1857"/>
                  </a:lnTo>
                  <a:lnTo>
                    <a:pt x="2280" y="1883"/>
                  </a:lnTo>
                  <a:lnTo>
                    <a:pt x="1883" y="1897"/>
                  </a:lnTo>
                  <a:lnTo>
                    <a:pt x="1517" y="1866"/>
                  </a:lnTo>
                  <a:lnTo>
                    <a:pt x="1143" y="1808"/>
                  </a:lnTo>
                  <a:lnTo>
                    <a:pt x="780" y="1711"/>
                  </a:lnTo>
                  <a:lnTo>
                    <a:pt x="463" y="1579"/>
                  </a:lnTo>
                  <a:lnTo>
                    <a:pt x="180" y="1434"/>
                  </a:lnTo>
                  <a:lnTo>
                    <a:pt x="0" y="1297"/>
                  </a:lnTo>
                  <a:lnTo>
                    <a:pt x="0" y="0"/>
                  </a:lnTo>
                  <a:lnTo>
                    <a:pt x="202" y="110"/>
                  </a:lnTo>
                  <a:lnTo>
                    <a:pt x="463" y="207"/>
                  </a:lnTo>
                  <a:lnTo>
                    <a:pt x="771" y="291"/>
                  </a:lnTo>
                  <a:lnTo>
                    <a:pt x="1076" y="357"/>
                  </a:lnTo>
                  <a:lnTo>
                    <a:pt x="1385" y="392"/>
                  </a:lnTo>
                  <a:lnTo>
                    <a:pt x="1592" y="410"/>
                  </a:lnTo>
                  <a:lnTo>
                    <a:pt x="1769" y="418"/>
                  </a:lnTo>
                  <a:lnTo>
                    <a:pt x="2077" y="418"/>
                  </a:lnTo>
                  <a:lnTo>
                    <a:pt x="2272" y="405"/>
                  </a:lnTo>
                  <a:lnTo>
                    <a:pt x="2448" y="383"/>
                  </a:lnTo>
                  <a:lnTo>
                    <a:pt x="2646" y="370"/>
                  </a:lnTo>
                  <a:lnTo>
                    <a:pt x="2824" y="335"/>
                  </a:lnTo>
                  <a:lnTo>
                    <a:pt x="3040" y="295"/>
                  </a:lnTo>
                  <a:lnTo>
                    <a:pt x="3234" y="242"/>
                  </a:lnTo>
                  <a:lnTo>
                    <a:pt x="3428" y="180"/>
                  </a:lnTo>
                  <a:lnTo>
                    <a:pt x="3595" y="119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4440" y="2141640"/>
              <a:ext cx="873360" cy="536760"/>
            </a:xfrm>
            <a:custGeom>
              <a:avLst/>
              <a:gdLst/>
              <a:ahLst/>
              <a:rect l="0" t="0" r="r" b="b"/>
              <a:pathLst>
                <a:path w="2426" h="1491">
                  <a:moveTo>
                    <a:pt x="70" y="233"/>
                  </a:moveTo>
                  <a:lnTo>
                    <a:pt x="0" y="537"/>
                  </a:lnTo>
                  <a:lnTo>
                    <a:pt x="44" y="643"/>
                  </a:lnTo>
                  <a:lnTo>
                    <a:pt x="145" y="807"/>
                  </a:lnTo>
                  <a:lnTo>
                    <a:pt x="251" y="953"/>
                  </a:lnTo>
                  <a:lnTo>
                    <a:pt x="374" y="1076"/>
                  </a:lnTo>
                  <a:lnTo>
                    <a:pt x="529" y="1196"/>
                  </a:lnTo>
                  <a:lnTo>
                    <a:pt x="674" y="1279"/>
                  </a:lnTo>
                  <a:lnTo>
                    <a:pt x="833" y="1359"/>
                  </a:lnTo>
                  <a:lnTo>
                    <a:pt x="1036" y="1429"/>
                  </a:lnTo>
                  <a:lnTo>
                    <a:pt x="1190" y="1465"/>
                  </a:lnTo>
                  <a:lnTo>
                    <a:pt x="1376" y="1491"/>
                  </a:lnTo>
                  <a:lnTo>
                    <a:pt x="1548" y="1491"/>
                  </a:lnTo>
                  <a:lnTo>
                    <a:pt x="1734" y="1469"/>
                  </a:lnTo>
                  <a:lnTo>
                    <a:pt x="1923" y="1416"/>
                  </a:lnTo>
                  <a:lnTo>
                    <a:pt x="2095" y="1332"/>
                  </a:lnTo>
                  <a:lnTo>
                    <a:pt x="2197" y="1262"/>
                  </a:lnTo>
                  <a:lnTo>
                    <a:pt x="2320" y="1156"/>
                  </a:lnTo>
                  <a:lnTo>
                    <a:pt x="2386" y="1072"/>
                  </a:lnTo>
                  <a:lnTo>
                    <a:pt x="2426" y="997"/>
                  </a:lnTo>
                  <a:lnTo>
                    <a:pt x="2426" y="918"/>
                  </a:lnTo>
                  <a:lnTo>
                    <a:pt x="2399" y="825"/>
                  </a:lnTo>
                  <a:lnTo>
                    <a:pt x="2346" y="750"/>
                  </a:lnTo>
                  <a:lnTo>
                    <a:pt x="2307" y="595"/>
                  </a:lnTo>
                  <a:lnTo>
                    <a:pt x="2289" y="511"/>
                  </a:lnTo>
                  <a:lnTo>
                    <a:pt x="1177" y="582"/>
                  </a:lnTo>
                  <a:lnTo>
                    <a:pt x="1031" y="555"/>
                  </a:lnTo>
                  <a:lnTo>
                    <a:pt x="851" y="498"/>
                  </a:lnTo>
                  <a:lnTo>
                    <a:pt x="714" y="427"/>
                  </a:lnTo>
                  <a:lnTo>
                    <a:pt x="568" y="339"/>
                  </a:lnTo>
                  <a:lnTo>
                    <a:pt x="427" y="211"/>
                  </a:lnTo>
                  <a:lnTo>
                    <a:pt x="343" y="105"/>
                  </a:lnTo>
                  <a:lnTo>
                    <a:pt x="264" y="0"/>
                  </a:lnTo>
                  <a:lnTo>
                    <a:pt x="70" y="233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2760" y="1484280"/>
              <a:ext cx="752760" cy="875160"/>
            </a:xfrm>
            <a:custGeom>
              <a:avLst/>
              <a:gdLst/>
              <a:ahLst/>
              <a:rect l="0" t="0" r="r" b="b"/>
              <a:pathLst>
                <a:path w="2091" h="2431">
                  <a:moveTo>
                    <a:pt x="2091" y="0"/>
                  </a:moveTo>
                  <a:lnTo>
                    <a:pt x="2091" y="1297"/>
                  </a:lnTo>
                  <a:lnTo>
                    <a:pt x="1967" y="1284"/>
                  </a:lnTo>
                  <a:lnTo>
                    <a:pt x="1813" y="1293"/>
                  </a:lnTo>
                  <a:lnTo>
                    <a:pt x="1557" y="1319"/>
                  </a:lnTo>
                  <a:lnTo>
                    <a:pt x="1306" y="1368"/>
                  </a:lnTo>
                  <a:lnTo>
                    <a:pt x="1072" y="1425"/>
                  </a:lnTo>
                  <a:lnTo>
                    <a:pt x="881" y="1495"/>
                  </a:lnTo>
                  <a:lnTo>
                    <a:pt x="657" y="1606"/>
                  </a:lnTo>
                  <a:lnTo>
                    <a:pt x="485" y="1720"/>
                  </a:lnTo>
                  <a:lnTo>
                    <a:pt x="357" y="1832"/>
                  </a:lnTo>
                  <a:lnTo>
                    <a:pt x="264" y="1937"/>
                  </a:lnTo>
                  <a:lnTo>
                    <a:pt x="207" y="2034"/>
                  </a:lnTo>
                  <a:lnTo>
                    <a:pt x="154" y="2153"/>
                  </a:lnTo>
                  <a:lnTo>
                    <a:pt x="132" y="2264"/>
                  </a:lnTo>
                  <a:lnTo>
                    <a:pt x="101" y="2431"/>
                  </a:lnTo>
                  <a:lnTo>
                    <a:pt x="74" y="2286"/>
                  </a:lnTo>
                  <a:lnTo>
                    <a:pt x="35" y="2123"/>
                  </a:lnTo>
                  <a:lnTo>
                    <a:pt x="22" y="1999"/>
                  </a:lnTo>
                  <a:lnTo>
                    <a:pt x="0" y="1854"/>
                  </a:lnTo>
                  <a:lnTo>
                    <a:pt x="8" y="1734"/>
                  </a:lnTo>
                  <a:lnTo>
                    <a:pt x="35" y="1592"/>
                  </a:lnTo>
                  <a:lnTo>
                    <a:pt x="66" y="1398"/>
                  </a:lnTo>
                  <a:lnTo>
                    <a:pt x="132" y="1231"/>
                  </a:lnTo>
                  <a:lnTo>
                    <a:pt x="220" y="1050"/>
                  </a:lnTo>
                  <a:lnTo>
                    <a:pt x="330" y="865"/>
                  </a:lnTo>
                  <a:lnTo>
                    <a:pt x="489" y="671"/>
                  </a:lnTo>
                  <a:lnTo>
                    <a:pt x="670" y="511"/>
                  </a:lnTo>
                  <a:lnTo>
                    <a:pt x="829" y="383"/>
                  </a:lnTo>
                  <a:lnTo>
                    <a:pt x="1027" y="264"/>
                  </a:lnTo>
                  <a:lnTo>
                    <a:pt x="1231" y="176"/>
                  </a:lnTo>
                  <a:lnTo>
                    <a:pt x="1469" y="92"/>
                  </a:lnTo>
                  <a:lnTo>
                    <a:pt x="1676" y="44"/>
                  </a:lnTo>
                  <a:lnTo>
                    <a:pt x="1919" y="13"/>
                  </a:lnTo>
                  <a:lnTo>
                    <a:pt x="2091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9960" y="2386080"/>
              <a:ext cx="246600" cy="184680"/>
            </a:xfrm>
            <a:custGeom>
              <a:avLst/>
              <a:gdLst/>
              <a:ahLst/>
              <a:rect l="0" t="0" r="r" b="b"/>
              <a:pathLst>
                <a:path w="685" h="513">
                  <a:moveTo>
                    <a:pt x="318" y="0"/>
                  </a:moveTo>
                  <a:lnTo>
                    <a:pt x="92" y="83"/>
                  </a:lnTo>
                  <a:lnTo>
                    <a:pt x="13" y="199"/>
                  </a:lnTo>
                  <a:lnTo>
                    <a:pt x="0" y="309"/>
                  </a:lnTo>
                  <a:lnTo>
                    <a:pt x="0" y="367"/>
                  </a:lnTo>
                  <a:lnTo>
                    <a:pt x="39" y="438"/>
                  </a:lnTo>
                  <a:lnTo>
                    <a:pt x="127" y="473"/>
                  </a:lnTo>
                  <a:lnTo>
                    <a:pt x="221" y="500"/>
                  </a:lnTo>
                  <a:lnTo>
                    <a:pt x="305" y="513"/>
                  </a:lnTo>
                  <a:lnTo>
                    <a:pt x="380" y="513"/>
                  </a:lnTo>
                  <a:lnTo>
                    <a:pt x="503" y="491"/>
                  </a:lnTo>
                  <a:lnTo>
                    <a:pt x="592" y="469"/>
                  </a:lnTo>
                  <a:lnTo>
                    <a:pt x="645" y="434"/>
                  </a:lnTo>
                  <a:lnTo>
                    <a:pt x="676" y="394"/>
                  </a:lnTo>
                  <a:lnTo>
                    <a:pt x="685" y="344"/>
                  </a:lnTo>
                  <a:lnTo>
                    <a:pt x="676" y="265"/>
                  </a:lnTo>
                  <a:lnTo>
                    <a:pt x="645" y="48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4080" y="2406600"/>
              <a:ext cx="138600" cy="116280"/>
            </a:xfrm>
            <a:custGeom>
              <a:avLst/>
              <a:gdLst/>
              <a:ahLst/>
              <a:rect l="0" t="0" r="r" b="b"/>
              <a:pathLst>
                <a:path w="385" h="323">
                  <a:moveTo>
                    <a:pt x="385" y="297"/>
                  </a:moveTo>
                  <a:lnTo>
                    <a:pt x="337" y="0"/>
                  </a:lnTo>
                  <a:lnTo>
                    <a:pt x="146" y="22"/>
                  </a:lnTo>
                  <a:lnTo>
                    <a:pt x="0" y="35"/>
                  </a:lnTo>
                  <a:lnTo>
                    <a:pt x="39" y="323"/>
                  </a:lnTo>
                  <a:lnTo>
                    <a:pt x="52" y="253"/>
                  </a:lnTo>
                  <a:lnTo>
                    <a:pt x="98" y="208"/>
                  </a:lnTo>
                  <a:lnTo>
                    <a:pt x="177" y="190"/>
                  </a:lnTo>
                  <a:lnTo>
                    <a:pt x="265" y="195"/>
                  </a:lnTo>
                  <a:lnTo>
                    <a:pt x="337" y="225"/>
                  </a:lnTo>
                  <a:lnTo>
                    <a:pt x="385" y="297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2720" y="2055960"/>
              <a:ext cx="505080" cy="452880"/>
            </a:xfrm>
            <a:custGeom>
              <a:avLst/>
              <a:gdLst/>
              <a:ahLst/>
              <a:rect l="0" t="0" r="r" b="b"/>
              <a:pathLst>
                <a:path w="1403" h="1258">
                  <a:moveTo>
                    <a:pt x="1398" y="1214"/>
                  </a:moveTo>
                  <a:lnTo>
                    <a:pt x="1390" y="1122"/>
                  </a:lnTo>
                  <a:lnTo>
                    <a:pt x="1350" y="1038"/>
                  </a:lnTo>
                  <a:lnTo>
                    <a:pt x="1319" y="967"/>
                  </a:lnTo>
                  <a:lnTo>
                    <a:pt x="1297" y="856"/>
                  </a:lnTo>
                  <a:lnTo>
                    <a:pt x="1271" y="710"/>
                  </a:lnTo>
                  <a:lnTo>
                    <a:pt x="1253" y="556"/>
                  </a:lnTo>
                  <a:lnTo>
                    <a:pt x="1240" y="415"/>
                  </a:lnTo>
                  <a:lnTo>
                    <a:pt x="1231" y="295"/>
                  </a:lnTo>
                  <a:lnTo>
                    <a:pt x="1226" y="189"/>
                  </a:lnTo>
                  <a:lnTo>
                    <a:pt x="1191" y="127"/>
                  </a:lnTo>
                  <a:lnTo>
                    <a:pt x="1125" y="70"/>
                  </a:lnTo>
                  <a:lnTo>
                    <a:pt x="1059" y="39"/>
                  </a:lnTo>
                  <a:lnTo>
                    <a:pt x="953" y="8"/>
                  </a:lnTo>
                  <a:lnTo>
                    <a:pt x="834" y="0"/>
                  </a:lnTo>
                  <a:lnTo>
                    <a:pt x="648" y="0"/>
                  </a:lnTo>
                  <a:lnTo>
                    <a:pt x="485" y="8"/>
                  </a:lnTo>
                  <a:lnTo>
                    <a:pt x="326" y="39"/>
                  </a:lnTo>
                  <a:lnTo>
                    <a:pt x="180" y="92"/>
                  </a:lnTo>
                  <a:lnTo>
                    <a:pt x="88" y="154"/>
                  </a:lnTo>
                  <a:lnTo>
                    <a:pt x="35" y="207"/>
                  </a:lnTo>
                  <a:lnTo>
                    <a:pt x="0" y="268"/>
                  </a:lnTo>
                  <a:lnTo>
                    <a:pt x="8" y="331"/>
                  </a:lnTo>
                  <a:lnTo>
                    <a:pt x="22" y="393"/>
                  </a:lnTo>
                  <a:lnTo>
                    <a:pt x="66" y="459"/>
                  </a:lnTo>
                  <a:lnTo>
                    <a:pt x="101" y="543"/>
                  </a:lnTo>
                  <a:lnTo>
                    <a:pt x="119" y="658"/>
                  </a:lnTo>
                  <a:lnTo>
                    <a:pt x="132" y="777"/>
                  </a:lnTo>
                  <a:lnTo>
                    <a:pt x="154" y="882"/>
                  </a:lnTo>
                  <a:lnTo>
                    <a:pt x="158" y="1038"/>
                  </a:lnTo>
                  <a:lnTo>
                    <a:pt x="167" y="1170"/>
                  </a:lnTo>
                  <a:lnTo>
                    <a:pt x="167" y="1258"/>
                  </a:lnTo>
                  <a:lnTo>
                    <a:pt x="211" y="1148"/>
                  </a:lnTo>
                  <a:lnTo>
                    <a:pt x="299" y="1095"/>
                  </a:lnTo>
                  <a:lnTo>
                    <a:pt x="379" y="1064"/>
                  </a:lnTo>
                  <a:lnTo>
                    <a:pt x="476" y="1042"/>
                  </a:lnTo>
                  <a:lnTo>
                    <a:pt x="630" y="1011"/>
                  </a:lnTo>
                  <a:lnTo>
                    <a:pt x="781" y="1007"/>
                  </a:lnTo>
                  <a:lnTo>
                    <a:pt x="869" y="1007"/>
                  </a:lnTo>
                  <a:lnTo>
                    <a:pt x="1006" y="1016"/>
                  </a:lnTo>
                  <a:lnTo>
                    <a:pt x="1165" y="1047"/>
                  </a:lnTo>
                  <a:lnTo>
                    <a:pt x="1266" y="1086"/>
                  </a:lnTo>
                  <a:lnTo>
                    <a:pt x="1332" y="1126"/>
                  </a:lnTo>
                  <a:lnTo>
                    <a:pt x="1403" y="1183"/>
                  </a:lnTo>
                  <a:lnTo>
                    <a:pt x="1398" y="1214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97840" y="2147760"/>
              <a:ext cx="873360" cy="530640"/>
            </a:xfrm>
            <a:custGeom>
              <a:avLst/>
              <a:gdLst/>
              <a:ahLst/>
              <a:rect l="0" t="0" r="r" b="b"/>
              <a:pathLst>
                <a:path w="2426" h="1474">
                  <a:moveTo>
                    <a:pt x="2355" y="211"/>
                  </a:moveTo>
                  <a:lnTo>
                    <a:pt x="2426" y="516"/>
                  </a:lnTo>
                  <a:lnTo>
                    <a:pt x="2382" y="627"/>
                  </a:lnTo>
                  <a:lnTo>
                    <a:pt x="2280" y="790"/>
                  </a:lnTo>
                  <a:lnTo>
                    <a:pt x="2174" y="935"/>
                  </a:lnTo>
                  <a:lnTo>
                    <a:pt x="2051" y="1054"/>
                  </a:lnTo>
                  <a:lnTo>
                    <a:pt x="1897" y="1179"/>
                  </a:lnTo>
                  <a:lnTo>
                    <a:pt x="1751" y="1263"/>
                  </a:lnTo>
                  <a:lnTo>
                    <a:pt x="1592" y="1342"/>
                  </a:lnTo>
                  <a:lnTo>
                    <a:pt x="1390" y="1413"/>
                  </a:lnTo>
                  <a:lnTo>
                    <a:pt x="1235" y="1448"/>
                  </a:lnTo>
                  <a:lnTo>
                    <a:pt x="1049" y="1474"/>
                  </a:lnTo>
                  <a:lnTo>
                    <a:pt x="877" y="1474"/>
                  </a:lnTo>
                  <a:lnTo>
                    <a:pt x="692" y="1452"/>
                  </a:lnTo>
                  <a:lnTo>
                    <a:pt x="502" y="1399"/>
                  </a:lnTo>
                  <a:lnTo>
                    <a:pt x="330" y="1316"/>
                  </a:lnTo>
                  <a:lnTo>
                    <a:pt x="229" y="1245"/>
                  </a:lnTo>
                  <a:lnTo>
                    <a:pt x="105" y="1139"/>
                  </a:lnTo>
                  <a:lnTo>
                    <a:pt x="39" y="1050"/>
                  </a:lnTo>
                  <a:lnTo>
                    <a:pt x="0" y="979"/>
                  </a:lnTo>
                  <a:lnTo>
                    <a:pt x="0" y="900"/>
                  </a:lnTo>
                  <a:lnTo>
                    <a:pt x="26" y="803"/>
                  </a:lnTo>
                  <a:lnTo>
                    <a:pt x="79" y="733"/>
                  </a:lnTo>
                  <a:lnTo>
                    <a:pt x="119" y="578"/>
                  </a:lnTo>
                  <a:lnTo>
                    <a:pt x="136" y="494"/>
                  </a:lnTo>
                  <a:lnTo>
                    <a:pt x="1248" y="565"/>
                  </a:lnTo>
                  <a:lnTo>
                    <a:pt x="1394" y="538"/>
                  </a:lnTo>
                  <a:lnTo>
                    <a:pt x="1575" y="481"/>
                  </a:lnTo>
                  <a:lnTo>
                    <a:pt x="1711" y="411"/>
                  </a:lnTo>
                  <a:lnTo>
                    <a:pt x="1857" y="321"/>
                  </a:lnTo>
                  <a:lnTo>
                    <a:pt x="1998" y="194"/>
                  </a:lnTo>
                  <a:lnTo>
                    <a:pt x="2082" y="83"/>
                  </a:lnTo>
                  <a:lnTo>
                    <a:pt x="2144" y="0"/>
                  </a:lnTo>
                  <a:lnTo>
                    <a:pt x="2355" y="211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0120" y="1484280"/>
              <a:ext cx="752760" cy="875160"/>
            </a:xfrm>
            <a:custGeom>
              <a:avLst/>
              <a:gdLst/>
              <a:ahLst/>
              <a:rect l="0" t="0" r="r" b="b"/>
              <a:pathLst>
                <a:path w="2091" h="2431">
                  <a:moveTo>
                    <a:pt x="0" y="0"/>
                  </a:moveTo>
                  <a:lnTo>
                    <a:pt x="0" y="1297"/>
                  </a:lnTo>
                  <a:lnTo>
                    <a:pt x="123" y="1284"/>
                  </a:lnTo>
                  <a:lnTo>
                    <a:pt x="277" y="1293"/>
                  </a:lnTo>
                  <a:lnTo>
                    <a:pt x="533" y="1319"/>
                  </a:lnTo>
                  <a:lnTo>
                    <a:pt x="784" y="1368"/>
                  </a:lnTo>
                  <a:lnTo>
                    <a:pt x="1018" y="1425"/>
                  </a:lnTo>
                  <a:lnTo>
                    <a:pt x="1209" y="1495"/>
                  </a:lnTo>
                  <a:lnTo>
                    <a:pt x="1434" y="1606"/>
                  </a:lnTo>
                  <a:lnTo>
                    <a:pt x="1606" y="1720"/>
                  </a:lnTo>
                  <a:lnTo>
                    <a:pt x="1734" y="1832"/>
                  </a:lnTo>
                  <a:lnTo>
                    <a:pt x="1826" y="1937"/>
                  </a:lnTo>
                  <a:lnTo>
                    <a:pt x="1883" y="2034"/>
                  </a:lnTo>
                  <a:lnTo>
                    <a:pt x="1936" y="2153"/>
                  </a:lnTo>
                  <a:lnTo>
                    <a:pt x="1958" y="2264"/>
                  </a:lnTo>
                  <a:lnTo>
                    <a:pt x="1989" y="2431"/>
                  </a:lnTo>
                  <a:lnTo>
                    <a:pt x="2016" y="2286"/>
                  </a:lnTo>
                  <a:lnTo>
                    <a:pt x="2055" y="2123"/>
                  </a:lnTo>
                  <a:lnTo>
                    <a:pt x="2069" y="1999"/>
                  </a:lnTo>
                  <a:lnTo>
                    <a:pt x="2091" y="1854"/>
                  </a:lnTo>
                  <a:lnTo>
                    <a:pt x="2082" y="1734"/>
                  </a:lnTo>
                  <a:lnTo>
                    <a:pt x="2055" y="1592"/>
                  </a:lnTo>
                  <a:lnTo>
                    <a:pt x="2025" y="1398"/>
                  </a:lnTo>
                  <a:lnTo>
                    <a:pt x="1958" y="1231"/>
                  </a:lnTo>
                  <a:lnTo>
                    <a:pt x="1870" y="1050"/>
                  </a:lnTo>
                  <a:lnTo>
                    <a:pt x="1760" y="865"/>
                  </a:lnTo>
                  <a:lnTo>
                    <a:pt x="1601" y="671"/>
                  </a:lnTo>
                  <a:lnTo>
                    <a:pt x="1420" y="511"/>
                  </a:lnTo>
                  <a:lnTo>
                    <a:pt x="1262" y="383"/>
                  </a:lnTo>
                  <a:lnTo>
                    <a:pt x="1063" y="264"/>
                  </a:lnTo>
                  <a:lnTo>
                    <a:pt x="859" y="176"/>
                  </a:lnTo>
                  <a:lnTo>
                    <a:pt x="621" y="92"/>
                  </a:lnTo>
                  <a:lnTo>
                    <a:pt x="414" y="44"/>
                  </a:lnTo>
                  <a:lnTo>
                    <a:pt x="171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99440" y="2386080"/>
              <a:ext cx="246600" cy="184680"/>
            </a:xfrm>
            <a:custGeom>
              <a:avLst/>
              <a:gdLst/>
              <a:ahLst/>
              <a:rect l="0" t="0" r="r" b="b"/>
              <a:pathLst>
                <a:path w="685" h="513">
                  <a:moveTo>
                    <a:pt x="367" y="0"/>
                  </a:moveTo>
                  <a:lnTo>
                    <a:pt x="592" y="83"/>
                  </a:lnTo>
                  <a:lnTo>
                    <a:pt x="672" y="199"/>
                  </a:lnTo>
                  <a:lnTo>
                    <a:pt x="685" y="309"/>
                  </a:lnTo>
                  <a:lnTo>
                    <a:pt x="685" y="367"/>
                  </a:lnTo>
                  <a:lnTo>
                    <a:pt x="645" y="438"/>
                  </a:lnTo>
                  <a:lnTo>
                    <a:pt x="557" y="473"/>
                  </a:lnTo>
                  <a:lnTo>
                    <a:pt x="464" y="500"/>
                  </a:lnTo>
                  <a:lnTo>
                    <a:pt x="380" y="513"/>
                  </a:lnTo>
                  <a:lnTo>
                    <a:pt x="305" y="513"/>
                  </a:lnTo>
                  <a:lnTo>
                    <a:pt x="181" y="491"/>
                  </a:lnTo>
                  <a:lnTo>
                    <a:pt x="92" y="469"/>
                  </a:lnTo>
                  <a:lnTo>
                    <a:pt x="39" y="434"/>
                  </a:lnTo>
                  <a:lnTo>
                    <a:pt x="8" y="394"/>
                  </a:lnTo>
                  <a:lnTo>
                    <a:pt x="0" y="344"/>
                  </a:lnTo>
                  <a:lnTo>
                    <a:pt x="8" y="265"/>
                  </a:lnTo>
                  <a:lnTo>
                    <a:pt x="39" y="48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92960" y="2405160"/>
              <a:ext cx="138600" cy="117720"/>
            </a:xfrm>
            <a:custGeom>
              <a:avLst/>
              <a:gdLst/>
              <a:ahLst/>
              <a:rect l="0" t="0" r="r" b="b"/>
              <a:pathLst>
                <a:path w="385" h="327">
                  <a:moveTo>
                    <a:pt x="0" y="305"/>
                  </a:moveTo>
                  <a:lnTo>
                    <a:pt x="48" y="0"/>
                  </a:lnTo>
                  <a:lnTo>
                    <a:pt x="239" y="22"/>
                  </a:lnTo>
                  <a:lnTo>
                    <a:pt x="385" y="39"/>
                  </a:lnTo>
                  <a:lnTo>
                    <a:pt x="345" y="327"/>
                  </a:lnTo>
                  <a:lnTo>
                    <a:pt x="332" y="261"/>
                  </a:lnTo>
                  <a:lnTo>
                    <a:pt x="287" y="212"/>
                  </a:lnTo>
                  <a:lnTo>
                    <a:pt x="208" y="195"/>
                  </a:lnTo>
                  <a:lnTo>
                    <a:pt x="120" y="199"/>
                  </a:lnTo>
                  <a:lnTo>
                    <a:pt x="48" y="23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97840" y="2055960"/>
              <a:ext cx="505080" cy="452880"/>
            </a:xfrm>
            <a:custGeom>
              <a:avLst/>
              <a:gdLst/>
              <a:ahLst/>
              <a:rect l="0" t="0" r="r" b="b"/>
              <a:pathLst>
                <a:path w="1403" h="1258">
                  <a:moveTo>
                    <a:pt x="4" y="1214"/>
                  </a:moveTo>
                  <a:lnTo>
                    <a:pt x="13" y="1122"/>
                  </a:lnTo>
                  <a:lnTo>
                    <a:pt x="52" y="1038"/>
                  </a:lnTo>
                  <a:lnTo>
                    <a:pt x="83" y="967"/>
                  </a:lnTo>
                  <a:lnTo>
                    <a:pt x="105" y="856"/>
                  </a:lnTo>
                  <a:lnTo>
                    <a:pt x="132" y="710"/>
                  </a:lnTo>
                  <a:lnTo>
                    <a:pt x="149" y="556"/>
                  </a:lnTo>
                  <a:lnTo>
                    <a:pt x="163" y="415"/>
                  </a:lnTo>
                  <a:lnTo>
                    <a:pt x="171" y="295"/>
                  </a:lnTo>
                  <a:lnTo>
                    <a:pt x="176" y="189"/>
                  </a:lnTo>
                  <a:lnTo>
                    <a:pt x="211" y="127"/>
                  </a:lnTo>
                  <a:lnTo>
                    <a:pt x="277" y="70"/>
                  </a:lnTo>
                  <a:lnTo>
                    <a:pt x="343" y="39"/>
                  </a:lnTo>
                  <a:lnTo>
                    <a:pt x="449" y="8"/>
                  </a:lnTo>
                  <a:lnTo>
                    <a:pt x="568" y="0"/>
                  </a:lnTo>
                  <a:lnTo>
                    <a:pt x="755" y="0"/>
                  </a:lnTo>
                  <a:lnTo>
                    <a:pt x="918" y="8"/>
                  </a:lnTo>
                  <a:lnTo>
                    <a:pt x="1076" y="39"/>
                  </a:lnTo>
                  <a:lnTo>
                    <a:pt x="1222" y="92"/>
                  </a:lnTo>
                  <a:lnTo>
                    <a:pt x="1315" y="154"/>
                  </a:lnTo>
                  <a:lnTo>
                    <a:pt x="1368" y="207"/>
                  </a:lnTo>
                  <a:lnTo>
                    <a:pt x="1403" y="268"/>
                  </a:lnTo>
                  <a:lnTo>
                    <a:pt x="1394" y="331"/>
                  </a:lnTo>
                  <a:lnTo>
                    <a:pt x="1381" y="393"/>
                  </a:lnTo>
                  <a:lnTo>
                    <a:pt x="1337" y="459"/>
                  </a:lnTo>
                  <a:lnTo>
                    <a:pt x="1301" y="543"/>
                  </a:lnTo>
                  <a:lnTo>
                    <a:pt x="1284" y="658"/>
                  </a:lnTo>
                  <a:lnTo>
                    <a:pt x="1271" y="777"/>
                  </a:lnTo>
                  <a:lnTo>
                    <a:pt x="1248" y="882"/>
                  </a:lnTo>
                  <a:lnTo>
                    <a:pt x="1244" y="1038"/>
                  </a:lnTo>
                  <a:lnTo>
                    <a:pt x="1235" y="1170"/>
                  </a:lnTo>
                  <a:lnTo>
                    <a:pt x="1235" y="1258"/>
                  </a:lnTo>
                  <a:lnTo>
                    <a:pt x="1191" y="1148"/>
                  </a:lnTo>
                  <a:lnTo>
                    <a:pt x="1103" y="1095"/>
                  </a:lnTo>
                  <a:lnTo>
                    <a:pt x="1024" y="1064"/>
                  </a:lnTo>
                  <a:lnTo>
                    <a:pt x="927" y="1042"/>
                  </a:lnTo>
                  <a:lnTo>
                    <a:pt x="772" y="1011"/>
                  </a:lnTo>
                  <a:lnTo>
                    <a:pt x="621" y="1007"/>
                  </a:lnTo>
                  <a:lnTo>
                    <a:pt x="533" y="1007"/>
                  </a:lnTo>
                  <a:lnTo>
                    <a:pt x="396" y="1016"/>
                  </a:lnTo>
                  <a:lnTo>
                    <a:pt x="238" y="1047"/>
                  </a:lnTo>
                  <a:lnTo>
                    <a:pt x="136" y="1086"/>
                  </a:lnTo>
                  <a:lnTo>
                    <a:pt x="70" y="1126"/>
                  </a:lnTo>
                  <a:lnTo>
                    <a:pt x="0" y="1183"/>
                  </a:lnTo>
                  <a:lnTo>
                    <a:pt x="4" y="1214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39000" y="1484280"/>
              <a:ext cx="1319400" cy="665640"/>
            </a:xfrm>
            <a:custGeom>
              <a:avLst/>
              <a:gdLst/>
              <a:ahLst/>
              <a:rect l="0" t="0" r="r" b="b"/>
              <a:pathLst>
                <a:path w="3665" h="1849">
                  <a:moveTo>
                    <a:pt x="0" y="0"/>
                  </a:moveTo>
                  <a:lnTo>
                    <a:pt x="0" y="1571"/>
                  </a:lnTo>
                  <a:lnTo>
                    <a:pt x="370" y="1651"/>
                  </a:lnTo>
                  <a:lnTo>
                    <a:pt x="674" y="1735"/>
                  </a:lnTo>
                  <a:lnTo>
                    <a:pt x="926" y="1783"/>
                  </a:lnTo>
                  <a:lnTo>
                    <a:pt x="1137" y="1809"/>
                  </a:lnTo>
                  <a:lnTo>
                    <a:pt x="1375" y="1836"/>
                  </a:lnTo>
                  <a:lnTo>
                    <a:pt x="1772" y="1849"/>
                  </a:lnTo>
                  <a:lnTo>
                    <a:pt x="2139" y="1818"/>
                  </a:lnTo>
                  <a:lnTo>
                    <a:pt x="2514" y="1761"/>
                  </a:lnTo>
                  <a:lnTo>
                    <a:pt x="2876" y="1664"/>
                  </a:lnTo>
                  <a:lnTo>
                    <a:pt x="3193" y="1532"/>
                  </a:lnTo>
                  <a:lnTo>
                    <a:pt x="3458" y="1350"/>
                  </a:lnTo>
                  <a:lnTo>
                    <a:pt x="3656" y="1284"/>
                  </a:lnTo>
                  <a:lnTo>
                    <a:pt x="3665" y="8"/>
                  </a:lnTo>
                  <a:lnTo>
                    <a:pt x="3467" y="39"/>
                  </a:lnTo>
                  <a:lnTo>
                    <a:pt x="3202" y="127"/>
                  </a:lnTo>
                  <a:lnTo>
                    <a:pt x="2884" y="242"/>
                  </a:lnTo>
                  <a:lnTo>
                    <a:pt x="2580" y="308"/>
                  </a:lnTo>
                  <a:lnTo>
                    <a:pt x="2272" y="343"/>
                  </a:lnTo>
                  <a:lnTo>
                    <a:pt x="2064" y="361"/>
                  </a:lnTo>
                  <a:lnTo>
                    <a:pt x="1888" y="370"/>
                  </a:lnTo>
                  <a:lnTo>
                    <a:pt x="1578" y="370"/>
                  </a:lnTo>
                  <a:lnTo>
                    <a:pt x="1384" y="357"/>
                  </a:lnTo>
                  <a:lnTo>
                    <a:pt x="1208" y="335"/>
                  </a:lnTo>
                  <a:lnTo>
                    <a:pt x="1009" y="321"/>
                  </a:lnTo>
                  <a:lnTo>
                    <a:pt x="837" y="291"/>
                  </a:lnTo>
                  <a:lnTo>
                    <a:pt x="617" y="251"/>
                  </a:lnTo>
                  <a:lnTo>
                    <a:pt x="423" y="194"/>
                  </a:lnTo>
                  <a:lnTo>
                    <a:pt x="216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82160" y="2523960"/>
              <a:ext cx="246600" cy="186120"/>
            </a:xfrm>
            <a:custGeom>
              <a:avLst/>
              <a:gdLst/>
              <a:ahLst/>
              <a:rect l="0" t="0" r="r" b="b"/>
              <a:pathLst>
                <a:path w="685" h="517">
                  <a:moveTo>
                    <a:pt x="367" y="0"/>
                  </a:moveTo>
                  <a:lnTo>
                    <a:pt x="592" y="83"/>
                  </a:lnTo>
                  <a:lnTo>
                    <a:pt x="672" y="203"/>
                  </a:lnTo>
                  <a:lnTo>
                    <a:pt x="685" y="309"/>
                  </a:lnTo>
                  <a:lnTo>
                    <a:pt x="685" y="371"/>
                  </a:lnTo>
                  <a:lnTo>
                    <a:pt x="645" y="442"/>
                  </a:lnTo>
                  <a:lnTo>
                    <a:pt x="557" y="478"/>
                  </a:lnTo>
                  <a:lnTo>
                    <a:pt x="464" y="504"/>
                  </a:lnTo>
                  <a:lnTo>
                    <a:pt x="380" y="517"/>
                  </a:lnTo>
                  <a:lnTo>
                    <a:pt x="305" y="517"/>
                  </a:lnTo>
                  <a:lnTo>
                    <a:pt x="181" y="495"/>
                  </a:lnTo>
                  <a:lnTo>
                    <a:pt x="92" y="473"/>
                  </a:lnTo>
                  <a:lnTo>
                    <a:pt x="39" y="434"/>
                  </a:lnTo>
                  <a:lnTo>
                    <a:pt x="8" y="398"/>
                  </a:lnTo>
                  <a:lnTo>
                    <a:pt x="0" y="344"/>
                  </a:lnTo>
                  <a:lnTo>
                    <a:pt x="8" y="265"/>
                  </a:lnTo>
                  <a:lnTo>
                    <a:pt x="39" y="48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75680" y="2544840"/>
              <a:ext cx="138600" cy="116280"/>
            </a:xfrm>
            <a:custGeom>
              <a:avLst/>
              <a:gdLst/>
              <a:ahLst/>
              <a:rect l="0" t="0" r="r" b="b"/>
              <a:pathLst>
                <a:path w="385" h="323">
                  <a:moveTo>
                    <a:pt x="0" y="301"/>
                  </a:moveTo>
                  <a:lnTo>
                    <a:pt x="48" y="0"/>
                  </a:lnTo>
                  <a:lnTo>
                    <a:pt x="239" y="22"/>
                  </a:lnTo>
                  <a:lnTo>
                    <a:pt x="385" y="39"/>
                  </a:lnTo>
                  <a:lnTo>
                    <a:pt x="345" y="323"/>
                  </a:lnTo>
                  <a:lnTo>
                    <a:pt x="332" y="257"/>
                  </a:lnTo>
                  <a:lnTo>
                    <a:pt x="287" y="208"/>
                  </a:lnTo>
                  <a:lnTo>
                    <a:pt x="208" y="195"/>
                  </a:lnTo>
                  <a:lnTo>
                    <a:pt x="120" y="199"/>
                  </a:lnTo>
                  <a:lnTo>
                    <a:pt x="48" y="230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1400" y="2509920"/>
              <a:ext cx="246600" cy="186120"/>
            </a:xfrm>
            <a:custGeom>
              <a:avLst/>
              <a:gdLst/>
              <a:ahLst/>
              <a:rect l="0" t="0" r="r" b="b"/>
              <a:pathLst>
                <a:path w="685" h="517">
                  <a:moveTo>
                    <a:pt x="318" y="0"/>
                  </a:moveTo>
                  <a:lnTo>
                    <a:pt x="92" y="83"/>
                  </a:lnTo>
                  <a:lnTo>
                    <a:pt x="13" y="203"/>
                  </a:lnTo>
                  <a:lnTo>
                    <a:pt x="0" y="309"/>
                  </a:lnTo>
                  <a:lnTo>
                    <a:pt x="0" y="371"/>
                  </a:lnTo>
                  <a:lnTo>
                    <a:pt x="39" y="442"/>
                  </a:lnTo>
                  <a:lnTo>
                    <a:pt x="127" y="478"/>
                  </a:lnTo>
                  <a:lnTo>
                    <a:pt x="221" y="504"/>
                  </a:lnTo>
                  <a:lnTo>
                    <a:pt x="305" y="517"/>
                  </a:lnTo>
                  <a:lnTo>
                    <a:pt x="380" y="517"/>
                  </a:lnTo>
                  <a:lnTo>
                    <a:pt x="503" y="495"/>
                  </a:lnTo>
                  <a:lnTo>
                    <a:pt x="592" y="473"/>
                  </a:lnTo>
                  <a:lnTo>
                    <a:pt x="645" y="434"/>
                  </a:lnTo>
                  <a:lnTo>
                    <a:pt x="676" y="398"/>
                  </a:lnTo>
                  <a:lnTo>
                    <a:pt x="685" y="344"/>
                  </a:lnTo>
                  <a:lnTo>
                    <a:pt x="676" y="265"/>
                  </a:lnTo>
                  <a:lnTo>
                    <a:pt x="645" y="48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5880" y="2532240"/>
              <a:ext cx="138600" cy="116280"/>
            </a:xfrm>
            <a:custGeom>
              <a:avLst/>
              <a:gdLst/>
              <a:ahLst/>
              <a:rect l="0" t="0" r="r" b="b"/>
              <a:pathLst>
                <a:path w="385" h="323">
                  <a:moveTo>
                    <a:pt x="385" y="297"/>
                  </a:moveTo>
                  <a:lnTo>
                    <a:pt x="337" y="0"/>
                  </a:lnTo>
                  <a:lnTo>
                    <a:pt x="146" y="22"/>
                  </a:lnTo>
                  <a:lnTo>
                    <a:pt x="0" y="35"/>
                  </a:lnTo>
                  <a:lnTo>
                    <a:pt x="39" y="323"/>
                  </a:lnTo>
                  <a:lnTo>
                    <a:pt x="52" y="253"/>
                  </a:lnTo>
                  <a:lnTo>
                    <a:pt x="98" y="208"/>
                  </a:lnTo>
                  <a:lnTo>
                    <a:pt x="177" y="190"/>
                  </a:lnTo>
                  <a:lnTo>
                    <a:pt x="265" y="195"/>
                  </a:lnTo>
                  <a:lnTo>
                    <a:pt x="337" y="225"/>
                  </a:lnTo>
                  <a:lnTo>
                    <a:pt x="385" y="297"/>
                  </a:lnTo>
                  <a:close/>
                </a:path>
              </a:pathLst>
            </a:custGeom>
            <a:solidFill>
              <a:srgbClr val="00005b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124080" y="1849320"/>
              <a:ext cx="304920" cy="138240"/>
            </a:xfrm>
            <a:prstGeom prst="line">
              <a:avLst/>
            </a:prstGeom>
            <a:ln w="12600">
              <a:solidFill>
                <a:srgbClr val="3500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2800" y="1395360"/>
              <a:ext cx="4708800" cy="724320"/>
            </a:xfrm>
            <a:custGeom>
              <a:avLst/>
              <a:gdLst/>
              <a:ahLst/>
              <a:rect l="0" t="0" r="r" b="b"/>
              <a:pathLst>
                <a:path w="13080" h="2012">
                  <a:moveTo>
                    <a:pt x="0" y="538"/>
                  </a:moveTo>
                  <a:lnTo>
                    <a:pt x="912" y="343"/>
                  </a:lnTo>
                  <a:lnTo>
                    <a:pt x="1949" y="211"/>
                  </a:lnTo>
                  <a:lnTo>
                    <a:pt x="2822" y="141"/>
                  </a:lnTo>
                  <a:lnTo>
                    <a:pt x="3955" y="70"/>
                  </a:lnTo>
                  <a:lnTo>
                    <a:pt x="5357" y="8"/>
                  </a:lnTo>
                  <a:lnTo>
                    <a:pt x="6138" y="0"/>
                  </a:lnTo>
                  <a:lnTo>
                    <a:pt x="7541" y="0"/>
                  </a:lnTo>
                  <a:lnTo>
                    <a:pt x="8807" y="44"/>
                  </a:lnTo>
                  <a:lnTo>
                    <a:pt x="9958" y="92"/>
                  </a:lnTo>
                  <a:lnTo>
                    <a:pt x="10994" y="167"/>
                  </a:lnTo>
                  <a:lnTo>
                    <a:pt x="11792" y="238"/>
                  </a:lnTo>
                  <a:lnTo>
                    <a:pt x="12471" y="321"/>
                  </a:lnTo>
                  <a:lnTo>
                    <a:pt x="13080" y="405"/>
                  </a:lnTo>
                  <a:lnTo>
                    <a:pt x="13080" y="2012"/>
                  </a:lnTo>
                  <a:lnTo>
                    <a:pt x="12493" y="1915"/>
                  </a:lnTo>
                  <a:lnTo>
                    <a:pt x="11303" y="1761"/>
                  </a:lnTo>
                  <a:lnTo>
                    <a:pt x="10504" y="1686"/>
                  </a:lnTo>
                  <a:lnTo>
                    <a:pt x="9411" y="1615"/>
                  </a:lnTo>
                  <a:lnTo>
                    <a:pt x="8573" y="1580"/>
                  </a:lnTo>
                  <a:lnTo>
                    <a:pt x="7700" y="1545"/>
                  </a:lnTo>
                  <a:lnTo>
                    <a:pt x="6743" y="1545"/>
                  </a:lnTo>
                  <a:lnTo>
                    <a:pt x="5710" y="1545"/>
                  </a:lnTo>
                  <a:lnTo>
                    <a:pt x="4616" y="1567"/>
                  </a:lnTo>
                  <a:lnTo>
                    <a:pt x="3761" y="1602"/>
                  </a:lnTo>
                  <a:lnTo>
                    <a:pt x="2883" y="1651"/>
                  </a:lnTo>
                  <a:lnTo>
                    <a:pt x="2063" y="1712"/>
                  </a:lnTo>
                  <a:lnTo>
                    <a:pt x="1305" y="1783"/>
                  </a:lnTo>
                  <a:lnTo>
                    <a:pt x="661" y="1867"/>
                  </a:lnTo>
                  <a:lnTo>
                    <a:pt x="57" y="1964"/>
                  </a:lnTo>
                  <a:lnTo>
                    <a:pt x="0" y="538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80920" y="1547640"/>
              <a:ext cx="1305360" cy="682920"/>
            </a:xfrm>
            <a:custGeom>
              <a:avLst/>
              <a:gdLst/>
              <a:ahLst/>
              <a:rect l="0" t="0" r="r" b="b"/>
              <a:pathLst>
                <a:path w="3626" h="1897">
                  <a:moveTo>
                    <a:pt x="3595" y="119"/>
                  </a:moveTo>
                  <a:lnTo>
                    <a:pt x="3626" y="1544"/>
                  </a:lnTo>
                  <a:lnTo>
                    <a:pt x="3291" y="1685"/>
                  </a:lnTo>
                  <a:lnTo>
                    <a:pt x="2982" y="1782"/>
                  </a:lnTo>
                  <a:lnTo>
                    <a:pt x="2731" y="1831"/>
                  </a:lnTo>
                  <a:lnTo>
                    <a:pt x="2518" y="1857"/>
                  </a:lnTo>
                  <a:lnTo>
                    <a:pt x="2280" y="1883"/>
                  </a:lnTo>
                  <a:lnTo>
                    <a:pt x="1883" y="1897"/>
                  </a:lnTo>
                  <a:lnTo>
                    <a:pt x="1517" y="1866"/>
                  </a:lnTo>
                  <a:lnTo>
                    <a:pt x="1143" y="1808"/>
                  </a:lnTo>
                  <a:lnTo>
                    <a:pt x="780" y="1711"/>
                  </a:lnTo>
                  <a:lnTo>
                    <a:pt x="463" y="1579"/>
                  </a:lnTo>
                  <a:lnTo>
                    <a:pt x="180" y="1434"/>
                  </a:lnTo>
                  <a:lnTo>
                    <a:pt x="0" y="1297"/>
                  </a:lnTo>
                  <a:lnTo>
                    <a:pt x="0" y="0"/>
                  </a:lnTo>
                  <a:lnTo>
                    <a:pt x="202" y="110"/>
                  </a:lnTo>
                  <a:lnTo>
                    <a:pt x="463" y="207"/>
                  </a:lnTo>
                  <a:lnTo>
                    <a:pt x="771" y="291"/>
                  </a:lnTo>
                  <a:lnTo>
                    <a:pt x="1076" y="357"/>
                  </a:lnTo>
                  <a:lnTo>
                    <a:pt x="1385" y="392"/>
                  </a:lnTo>
                  <a:lnTo>
                    <a:pt x="1592" y="410"/>
                  </a:lnTo>
                  <a:lnTo>
                    <a:pt x="1769" y="418"/>
                  </a:lnTo>
                  <a:lnTo>
                    <a:pt x="2077" y="418"/>
                  </a:lnTo>
                  <a:lnTo>
                    <a:pt x="2272" y="405"/>
                  </a:lnTo>
                  <a:lnTo>
                    <a:pt x="2448" y="383"/>
                  </a:lnTo>
                  <a:lnTo>
                    <a:pt x="2646" y="370"/>
                  </a:lnTo>
                  <a:lnTo>
                    <a:pt x="2824" y="335"/>
                  </a:lnTo>
                  <a:lnTo>
                    <a:pt x="3040" y="295"/>
                  </a:lnTo>
                  <a:lnTo>
                    <a:pt x="3234" y="242"/>
                  </a:lnTo>
                  <a:lnTo>
                    <a:pt x="3428" y="180"/>
                  </a:lnTo>
                  <a:lnTo>
                    <a:pt x="3595" y="119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2000" y="2205000"/>
              <a:ext cx="873360" cy="538560"/>
            </a:xfrm>
            <a:custGeom>
              <a:avLst/>
              <a:gdLst/>
              <a:ahLst/>
              <a:rect l="0" t="0" r="r" b="b"/>
              <a:pathLst>
                <a:path w="2426" h="1496">
                  <a:moveTo>
                    <a:pt x="70" y="233"/>
                  </a:moveTo>
                  <a:lnTo>
                    <a:pt x="0" y="538"/>
                  </a:lnTo>
                  <a:lnTo>
                    <a:pt x="44" y="644"/>
                  </a:lnTo>
                  <a:lnTo>
                    <a:pt x="145" y="812"/>
                  </a:lnTo>
                  <a:lnTo>
                    <a:pt x="251" y="957"/>
                  </a:lnTo>
                  <a:lnTo>
                    <a:pt x="374" y="1076"/>
                  </a:lnTo>
                  <a:lnTo>
                    <a:pt x="529" y="1197"/>
                  </a:lnTo>
                  <a:lnTo>
                    <a:pt x="674" y="1280"/>
                  </a:lnTo>
                  <a:lnTo>
                    <a:pt x="833" y="1364"/>
                  </a:lnTo>
                  <a:lnTo>
                    <a:pt x="1036" y="1435"/>
                  </a:lnTo>
                  <a:lnTo>
                    <a:pt x="1190" y="1470"/>
                  </a:lnTo>
                  <a:lnTo>
                    <a:pt x="1376" y="1496"/>
                  </a:lnTo>
                  <a:lnTo>
                    <a:pt x="1548" y="1496"/>
                  </a:lnTo>
                  <a:lnTo>
                    <a:pt x="1734" y="1474"/>
                  </a:lnTo>
                  <a:lnTo>
                    <a:pt x="1923" y="1421"/>
                  </a:lnTo>
                  <a:lnTo>
                    <a:pt x="2095" y="1338"/>
                  </a:lnTo>
                  <a:lnTo>
                    <a:pt x="2197" y="1267"/>
                  </a:lnTo>
                  <a:lnTo>
                    <a:pt x="2320" y="1161"/>
                  </a:lnTo>
                  <a:lnTo>
                    <a:pt x="2386" y="1072"/>
                  </a:lnTo>
                  <a:lnTo>
                    <a:pt x="2426" y="1002"/>
                  </a:lnTo>
                  <a:lnTo>
                    <a:pt x="2426" y="922"/>
                  </a:lnTo>
                  <a:lnTo>
                    <a:pt x="2399" y="825"/>
                  </a:lnTo>
                  <a:lnTo>
                    <a:pt x="2346" y="755"/>
                  </a:lnTo>
                  <a:lnTo>
                    <a:pt x="2307" y="596"/>
                  </a:lnTo>
                  <a:lnTo>
                    <a:pt x="2289" y="512"/>
                  </a:lnTo>
                  <a:lnTo>
                    <a:pt x="1177" y="587"/>
                  </a:lnTo>
                  <a:lnTo>
                    <a:pt x="1031" y="556"/>
                  </a:lnTo>
                  <a:lnTo>
                    <a:pt x="851" y="503"/>
                  </a:lnTo>
                  <a:lnTo>
                    <a:pt x="714" y="428"/>
                  </a:lnTo>
                  <a:lnTo>
                    <a:pt x="568" y="339"/>
                  </a:lnTo>
                  <a:lnTo>
                    <a:pt x="427" y="211"/>
                  </a:lnTo>
                  <a:lnTo>
                    <a:pt x="343" y="105"/>
                  </a:lnTo>
                  <a:lnTo>
                    <a:pt x="264" y="0"/>
                  </a:lnTo>
                  <a:lnTo>
                    <a:pt x="70" y="233"/>
                  </a:lnTo>
                  <a:close/>
                </a:path>
              </a:pathLst>
            </a:custGeom>
            <a:gradFill rotWithShape="0">
              <a:gsLst>
                <a:gs pos="0">
                  <a:srgbClr val="350035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0320" y="1549440"/>
              <a:ext cx="752760" cy="875160"/>
            </a:xfrm>
            <a:custGeom>
              <a:avLst/>
              <a:gdLst/>
              <a:ahLst/>
              <a:rect l="0" t="0" r="r" b="b"/>
              <a:pathLst>
                <a:path w="2091" h="2431">
                  <a:moveTo>
                    <a:pt x="2091" y="0"/>
                  </a:moveTo>
                  <a:lnTo>
                    <a:pt x="2091" y="1297"/>
                  </a:lnTo>
                  <a:lnTo>
                    <a:pt x="1967" y="1284"/>
                  </a:lnTo>
                  <a:lnTo>
                    <a:pt x="1813" y="1293"/>
                  </a:lnTo>
                  <a:lnTo>
                    <a:pt x="1557" y="1319"/>
                  </a:lnTo>
                  <a:lnTo>
                    <a:pt x="1306" y="1368"/>
                  </a:lnTo>
                  <a:lnTo>
                    <a:pt x="1072" y="1425"/>
                  </a:lnTo>
                  <a:lnTo>
                    <a:pt x="881" y="1495"/>
                  </a:lnTo>
                  <a:lnTo>
                    <a:pt x="657" y="1606"/>
                  </a:lnTo>
                  <a:lnTo>
                    <a:pt x="485" y="1720"/>
                  </a:lnTo>
                  <a:lnTo>
                    <a:pt x="357" y="1832"/>
                  </a:lnTo>
                  <a:lnTo>
                    <a:pt x="264" y="1937"/>
                  </a:lnTo>
                  <a:lnTo>
                    <a:pt x="207" y="2034"/>
                  </a:lnTo>
                  <a:lnTo>
                    <a:pt x="154" y="2153"/>
                  </a:lnTo>
                  <a:lnTo>
                    <a:pt x="132" y="2264"/>
                  </a:lnTo>
                  <a:lnTo>
                    <a:pt x="101" y="2431"/>
                  </a:lnTo>
                  <a:lnTo>
                    <a:pt x="74" y="2286"/>
                  </a:lnTo>
                  <a:lnTo>
                    <a:pt x="35" y="2123"/>
                  </a:lnTo>
                  <a:lnTo>
                    <a:pt x="22" y="1999"/>
                  </a:lnTo>
                  <a:lnTo>
                    <a:pt x="0" y="1854"/>
                  </a:lnTo>
                  <a:lnTo>
                    <a:pt x="8" y="1734"/>
                  </a:lnTo>
                  <a:lnTo>
                    <a:pt x="35" y="1592"/>
                  </a:lnTo>
                  <a:lnTo>
                    <a:pt x="66" y="1398"/>
                  </a:lnTo>
                  <a:lnTo>
                    <a:pt x="132" y="1231"/>
                  </a:lnTo>
                  <a:lnTo>
                    <a:pt x="220" y="1050"/>
                  </a:lnTo>
                  <a:lnTo>
                    <a:pt x="330" y="865"/>
                  </a:lnTo>
                  <a:lnTo>
                    <a:pt x="489" y="671"/>
                  </a:lnTo>
                  <a:lnTo>
                    <a:pt x="670" y="511"/>
                  </a:lnTo>
                  <a:lnTo>
                    <a:pt x="829" y="383"/>
                  </a:lnTo>
                  <a:lnTo>
                    <a:pt x="1027" y="264"/>
                  </a:lnTo>
                  <a:lnTo>
                    <a:pt x="1231" y="176"/>
                  </a:lnTo>
                  <a:lnTo>
                    <a:pt x="1469" y="92"/>
                  </a:lnTo>
                  <a:lnTo>
                    <a:pt x="1676" y="44"/>
                  </a:lnTo>
                  <a:lnTo>
                    <a:pt x="1919" y="13"/>
                  </a:lnTo>
                  <a:lnTo>
                    <a:pt x="20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7520" y="2449440"/>
              <a:ext cx="246600" cy="186120"/>
            </a:xfrm>
            <a:custGeom>
              <a:avLst/>
              <a:gdLst/>
              <a:ahLst/>
              <a:rect l="0" t="0" r="r" b="b"/>
              <a:pathLst>
                <a:path w="685" h="517">
                  <a:moveTo>
                    <a:pt x="318" y="0"/>
                  </a:moveTo>
                  <a:lnTo>
                    <a:pt x="92" y="83"/>
                  </a:lnTo>
                  <a:lnTo>
                    <a:pt x="13" y="203"/>
                  </a:lnTo>
                  <a:lnTo>
                    <a:pt x="0" y="309"/>
                  </a:lnTo>
                  <a:lnTo>
                    <a:pt x="0" y="371"/>
                  </a:lnTo>
                  <a:lnTo>
                    <a:pt x="39" y="442"/>
                  </a:lnTo>
                  <a:lnTo>
                    <a:pt x="127" y="478"/>
                  </a:lnTo>
                  <a:lnTo>
                    <a:pt x="221" y="504"/>
                  </a:lnTo>
                  <a:lnTo>
                    <a:pt x="305" y="517"/>
                  </a:lnTo>
                  <a:lnTo>
                    <a:pt x="380" y="517"/>
                  </a:lnTo>
                  <a:lnTo>
                    <a:pt x="503" y="495"/>
                  </a:lnTo>
                  <a:lnTo>
                    <a:pt x="592" y="473"/>
                  </a:lnTo>
                  <a:lnTo>
                    <a:pt x="645" y="434"/>
                  </a:lnTo>
                  <a:lnTo>
                    <a:pt x="676" y="398"/>
                  </a:lnTo>
                  <a:lnTo>
                    <a:pt x="685" y="344"/>
                  </a:lnTo>
                  <a:lnTo>
                    <a:pt x="676" y="265"/>
                  </a:lnTo>
                  <a:lnTo>
                    <a:pt x="645" y="48"/>
                  </a:lnTo>
                  <a:lnTo>
                    <a:pt x="3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50035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640" y="2471760"/>
              <a:ext cx="138600" cy="116280"/>
            </a:xfrm>
            <a:custGeom>
              <a:avLst/>
              <a:gdLst/>
              <a:ahLst/>
              <a:rect l="0" t="0" r="r" b="b"/>
              <a:pathLst>
                <a:path w="385" h="323">
                  <a:moveTo>
                    <a:pt x="385" y="297"/>
                  </a:moveTo>
                  <a:lnTo>
                    <a:pt x="337" y="0"/>
                  </a:lnTo>
                  <a:lnTo>
                    <a:pt x="146" y="22"/>
                  </a:lnTo>
                  <a:lnTo>
                    <a:pt x="0" y="35"/>
                  </a:lnTo>
                  <a:lnTo>
                    <a:pt x="39" y="323"/>
                  </a:lnTo>
                  <a:lnTo>
                    <a:pt x="52" y="253"/>
                  </a:lnTo>
                  <a:lnTo>
                    <a:pt x="98" y="208"/>
                  </a:lnTo>
                  <a:lnTo>
                    <a:pt x="177" y="190"/>
                  </a:lnTo>
                  <a:lnTo>
                    <a:pt x="265" y="195"/>
                  </a:lnTo>
                  <a:lnTo>
                    <a:pt x="337" y="225"/>
                  </a:lnTo>
                  <a:lnTo>
                    <a:pt x="385" y="297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0280" y="2120760"/>
              <a:ext cx="505080" cy="452880"/>
            </a:xfrm>
            <a:custGeom>
              <a:avLst/>
              <a:gdLst/>
              <a:ahLst/>
              <a:rect l="0" t="0" r="r" b="b"/>
              <a:pathLst>
                <a:path w="1403" h="1258">
                  <a:moveTo>
                    <a:pt x="1398" y="1214"/>
                  </a:moveTo>
                  <a:lnTo>
                    <a:pt x="1390" y="1122"/>
                  </a:lnTo>
                  <a:lnTo>
                    <a:pt x="1350" y="1038"/>
                  </a:lnTo>
                  <a:lnTo>
                    <a:pt x="1319" y="967"/>
                  </a:lnTo>
                  <a:lnTo>
                    <a:pt x="1297" y="856"/>
                  </a:lnTo>
                  <a:lnTo>
                    <a:pt x="1271" y="710"/>
                  </a:lnTo>
                  <a:lnTo>
                    <a:pt x="1253" y="556"/>
                  </a:lnTo>
                  <a:lnTo>
                    <a:pt x="1240" y="415"/>
                  </a:lnTo>
                  <a:lnTo>
                    <a:pt x="1231" y="295"/>
                  </a:lnTo>
                  <a:lnTo>
                    <a:pt x="1226" y="189"/>
                  </a:lnTo>
                  <a:lnTo>
                    <a:pt x="1191" y="127"/>
                  </a:lnTo>
                  <a:lnTo>
                    <a:pt x="1125" y="70"/>
                  </a:lnTo>
                  <a:lnTo>
                    <a:pt x="1059" y="39"/>
                  </a:lnTo>
                  <a:lnTo>
                    <a:pt x="953" y="8"/>
                  </a:lnTo>
                  <a:lnTo>
                    <a:pt x="834" y="0"/>
                  </a:lnTo>
                  <a:lnTo>
                    <a:pt x="648" y="0"/>
                  </a:lnTo>
                  <a:lnTo>
                    <a:pt x="485" y="8"/>
                  </a:lnTo>
                  <a:lnTo>
                    <a:pt x="326" y="39"/>
                  </a:lnTo>
                  <a:lnTo>
                    <a:pt x="180" y="92"/>
                  </a:lnTo>
                  <a:lnTo>
                    <a:pt x="88" y="154"/>
                  </a:lnTo>
                  <a:lnTo>
                    <a:pt x="35" y="207"/>
                  </a:lnTo>
                  <a:lnTo>
                    <a:pt x="0" y="268"/>
                  </a:lnTo>
                  <a:lnTo>
                    <a:pt x="8" y="331"/>
                  </a:lnTo>
                  <a:lnTo>
                    <a:pt x="22" y="393"/>
                  </a:lnTo>
                  <a:lnTo>
                    <a:pt x="66" y="459"/>
                  </a:lnTo>
                  <a:lnTo>
                    <a:pt x="101" y="543"/>
                  </a:lnTo>
                  <a:lnTo>
                    <a:pt x="119" y="658"/>
                  </a:lnTo>
                  <a:lnTo>
                    <a:pt x="132" y="777"/>
                  </a:lnTo>
                  <a:lnTo>
                    <a:pt x="154" y="882"/>
                  </a:lnTo>
                  <a:lnTo>
                    <a:pt x="158" y="1038"/>
                  </a:lnTo>
                  <a:lnTo>
                    <a:pt x="167" y="1170"/>
                  </a:lnTo>
                  <a:lnTo>
                    <a:pt x="167" y="1258"/>
                  </a:lnTo>
                  <a:lnTo>
                    <a:pt x="211" y="1148"/>
                  </a:lnTo>
                  <a:lnTo>
                    <a:pt x="299" y="1095"/>
                  </a:lnTo>
                  <a:lnTo>
                    <a:pt x="379" y="1064"/>
                  </a:lnTo>
                  <a:lnTo>
                    <a:pt x="476" y="1042"/>
                  </a:lnTo>
                  <a:lnTo>
                    <a:pt x="630" y="1011"/>
                  </a:lnTo>
                  <a:lnTo>
                    <a:pt x="781" y="1007"/>
                  </a:lnTo>
                  <a:lnTo>
                    <a:pt x="869" y="1007"/>
                  </a:lnTo>
                  <a:lnTo>
                    <a:pt x="1006" y="1016"/>
                  </a:lnTo>
                  <a:lnTo>
                    <a:pt x="1165" y="1047"/>
                  </a:lnTo>
                  <a:lnTo>
                    <a:pt x="1266" y="1086"/>
                  </a:lnTo>
                  <a:lnTo>
                    <a:pt x="1332" y="1126"/>
                  </a:lnTo>
                  <a:lnTo>
                    <a:pt x="1403" y="1183"/>
                  </a:lnTo>
                  <a:lnTo>
                    <a:pt x="1398" y="1214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15400" y="2212920"/>
              <a:ext cx="873360" cy="530640"/>
            </a:xfrm>
            <a:custGeom>
              <a:avLst/>
              <a:gdLst/>
              <a:ahLst/>
              <a:rect l="0" t="0" r="r" b="b"/>
              <a:pathLst>
                <a:path w="2426" h="1474">
                  <a:moveTo>
                    <a:pt x="2355" y="211"/>
                  </a:moveTo>
                  <a:lnTo>
                    <a:pt x="2426" y="516"/>
                  </a:lnTo>
                  <a:lnTo>
                    <a:pt x="2382" y="627"/>
                  </a:lnTo>
                  <a:lnTo>
                    <a:pt x="2280" y="790"/>
                  </a:lnTo>
                  <a:lnTo>
                    <a:pt x="2174" y="935"/>
                  </a:lnTo>
                  <a:lnTo>
                    <a:pt x="2051" y="1054"/>
                  </a:lnTo>
                  <a:lnTo>
                    <a:pt x="1897" y="1179"/>
                  </a:lnTo>
                  <a:lnTo>
                    <a:pt x="1751" y="1263"/>
                  </a:lnTo>
                  <a:lnTo>
                    <a:pt x="1592" y="1342"/>
                  </a:lnTo>
                  <a:lnTo>
                    <a:pt x="1390" y="1413"/>
                  </a:lnTo>
                  <a:lnTo>
                    <a:pt x="1235" y="1448"/>
                  </a:lnTo>
                  <a:lnTo>
                    <a:pt x="1049" y="1474"/>
                  </a:lnTo>
                  <a:lnTo>
                    <a:pt x="877" y="1474"/>
                  </a:lnTo>
                  <a:lnTo>
                    <a:pt x="692" y="1452"/>
                  </a:lnTo>
                  <a:lnTo>
                    <a:pt x="502" y="1399"/>
                  </a:lnTo>
                  <a:lnTo>
                    <a:pt x="330" y="1316"/>
                  </a:lnTo>
                  <a:lnTo>
                    <a:pt x="229" y="1245"/>
                  </a:lnTo>
                  <a:lnTo>
                    <a:pt x="105" y="1139"/>
                  </a:lnTo>
                  <a:lnTo>
                    <a:pt x="39" y="1050"/>
                  </a:lnTo>
                  <a:lnTo>
                    <a:pt x="0" y="979"/>
                  </a:lnTo>
                  <a:lnTo>
                    <a:pt x="0" y="900"/>
                  </a:lnTo>
                  <a:lnTo>
                    <a:pt x="26" y="803"/>
                  </a:lnTo>
                  <a:lnTo>
                    <a:pt x="79" y="733"/>
                  </a:lnTo>
                  <a:lnTo>
                    <a:pt x="119" y="578"/>
                  </a:lnTo>
                  <a:lnTo>
                    <a:pt x="136" y="494"/>
                  </a:lnTo>
                  <a:lnTo>
                    <a:pt x="1248" y="565"/>
                  </a:lnTo>
                  <a:lnTo>
                    <a:pt x="1394" y="538"/>
                  </a:lnTo>
                  <a:lnTo>
                    <a:pt x="1575" y="481"/>
                  </a:lnTo>
                  <a:lnTo>
                    <a:pt x="1711" y="411"/>
                  </a:lnTo>
                  <a:lnTo>
                    <a:pt x="1857" y="321"/>
                  </a:lnTo>
                  <a:lnTo>
                    <a:pt x="1998" y="194"/>
                  </a:lnTo>
                  <a:lnTo>
                    <a:pt x="2082" y="83"/>
                  </a:lnTo>
                  <a:lnTo>
                    <a:pt x="2144" y="0"/>
                  </a:lnTo>
                  <a:lnTo>
                    <a:pt x="2355" y="211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100000">
                  <a:srgbClr val="350035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67680" y="1549440"/>
              <a:ext cx="752760" cy="875160"/>
            </a:xfrm>
            <a:custGeom>
              <a:avLst/>
              <a:gdLst/>
              <a:ahLst/>
              <a:rect l="0" t="0" r="r" b="b"/>
              <a:pathLst>
                <a:path w="2091" h="2431">
                  <a:moveTo>
                    <a:pt x="0" y="0"/>
                  </a:moveTo>
                  <a:lnTo>
                    <a:pt x="0" y="1297"/>
                  </a:lnTo>
                  <a:lnTo>
                    <a:pt x="123" y="1284"/>
                  </a:lnTo>
                  <a:lnTo>
                    <a:pt x="277" y="1293"/>
                  </a:lnTo>
                  <a:lnTo>
                    <a:pt x="533" y="1319"/>
                  </a:lnTo>
                  <a:lnTo>
                    <a:pt x="784" y="1368"/>
                  </a:lnTo>
                  <a:lnTo>
                    <a:pt x="1018" y="1425"/>
                  </a:lnTo>
                  <a:lnTo>
                    <a:pt x="1209" y="1495"/>
                  </a:lnTo>
                  <a:lnTo>
                    <a:pt x="1434" y="1606"/>
                  </a:lnTo>
                  <a:lnTo>
                    <a:pt x="1606" y="1720"/>
                  </a:lnTo>
                  <a:lnTo>
                    <a:pt x="1734" y="1832"/>
                  </a:lnTo>
                  <a:lnTo>
                    <a:pt x="1826" y="1937"/>
                  </a:lnTo>
                  <a:lnTo>
                    <a:pt x="1883" y="2034"/>
                  </a:lnTo>
                  <a:lnTo>
                    <a:pt x="1936" y="2153"/>
                  </a:lnTo>
                  <a:lnTo>
                    <a:pt x="1958" y="2264"/>
                  </a:lnTo>
                  <a:lnTo>
                    <a:pt x="1989" y="2431"/>
                  </a:lnTo>
                  <a:lnTo>
                    <a:pt x="2016" y="2286"/>
                  </a:lnTo>
                  <a:lnTo>
                    <a:pt x="2055" y="2123"/>
                  </a:lnTo>
                  <a:lnTo>
                    <a:pt x="2069" y="1999"/>
                  </a:lnTo>
                  <a:lnTo>
                    <a:pt x="2091" y="1854"/>
                  </a:lnTo>
                  <a:lnTo>
                    <a:pt x="2082" y="1734"/>
                  </a:lnTo>
                  <a:lnTo>
                    <a:pt x="2055" y="1592"/>
                  </a:lnTo>
                  <a:lnTo>
                    <a:pt x="2025" y="1398"/>
                  </a:lnTo>
                  <a:lnTo>
                    <a:pt x="1958" y="1231"/>
                  </a:lnTo>
                  <a:lnTo>
                    <a:pt x="1870" y="1050"/>
                  </a:lnTo>
                  <a:lnTo>
                    <a:pt x="1760" y="865"/>
                  </a:lnTo>
                  <a:lnTo>
                    <a:pt x="1601" y="671"/>
                  </a:lnTo>
                  <a:lnTo>
                    <a:pt x="1420" y="511"/>
                  </a:lnTo>
                  <a:lnTo>
                    <a:pt x="1262" y="383"/>
                  </a:lnTo>
                  <a:lnTo>
                    <a:pt x="1063" y="264"/>
                  </a:lnTo>
                  <a:lnTo>
                    <a:pt x="859" y="176"/>
                  </a:lnTo>
                  <a:lnTo>
                    <a:pt x="621" y="92"/>
                  </a:lnTo>
                  <a:lnTo>
                    <a:pt x="414" y="44"/>
                  </a:lnTo>
                  <a:lnTo>
                    <a:pt x="171" y="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17000" y="2449440"/>
              <a:ext cx="246600" cy="186120"/>
            </a:xfrm>
            <a:custGeom>
              <a:avLst/>
              <a:gdLst/>
              <a:ahLst/>
              <a:rect l="0" t="0" r="r" b="b"/>
              <a:pathLst>
                <a:path w="685" h="517">
                  <a:moveTo>
                    <a:pt x="367" y="0"/>
                  </a:moveTo>
                  <a:lnTo>
                    <a:pt x="592" y="83"/>
                  </a:lnTo>
                  <a:lnTo>
                    <a:pt x="672" y="203"/>
                  </a:lnTo>
                  <a:lnTo>
                    <a:pt x="685" y="309"/>
                  </a:lnTo>
                  <a:lnTo>
                    <a:pt x="685" y="371"/>
                  </a:lnTo>
                  <a:lnTo>
                    <a:pt x="645" y="442"/>
                  </a:lnTo>
                  <a:lnTo>
                    <a:pt x="557" y="478"/>
                  </a:lnTo>
                  <a:lnTo>
                    <a:pt x="464" y="504"/>
                  </a:lnTo>
                  <a:lnTo>
                    <a:pt x="380" y="517"/>
                  </a:lnTo>
                  <a:lnTo>
                    <a:pt x="305" y="517"/>
                  </a:lnTo>
                  <a:lnTo>
                    <a:pt x="181" y="495"/>
                  </a:lnTo>
                  <a:lnTo>
                    <a:pt x="92" y="473"/>
                  </a:lnTo>
                  <a:lnTo>
                    <a:pt x="39" y="434"/>
                  </a:lnTo>
                  <a:lnTo>
                    <a:pt x="8" y="398"/>
                  </a:lnTo>
                  <a:lnTo>
                    <a:pt x="0" y="344"/>
                  </a:lnTo>
                  <a:lnTo>
                    <a:pt x="8" y="265"/>
                  </a:lnTo>
                  <a:lnTo>
                    <a:pt x="39" y="48"/>
                  </a:lnTo>
                  <a:lnTo>
                    <a:pt x="367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100000">
                  <a:srgbClr val="350035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10520" y="2470320"/>
              <a:ext cx="138600" cy="116280"/>
            </a:xfrm>
            <a:custGeom>
              <a:avLst/>
              <a:gdLst/>
              <a:ahLst/>
              <a:rect l="0" t="0" r="r" b="b"/>
              <a:pathLst>
                <a:path w="385" h="323">
                  <a:moveTo>
                    <a:pt x="0" y="301"/>
                  </a:moveTo>
                  <a:lnTo>
                    <a:pt x="48" y="0"/>
                  </a:lnTo>
                  <a:lnTo>
                    <a:pt x="239" y="22"/>
                  </a:lnTo>
                  <a:lnTo>
                    <a:pt x="385" y="39"/>
                  </a:lnTo>
                  <a:lnTo>
                    <a:pt x="345" y="323"/>
                  </a:lnTo>
                  <a:lnTo>
                    <a:pt x="332" y="257"/>
                  </a:lnTo>
                  <a:lnTo>
                    <a:pt x="287" y="208"/>
                  </a:lnTo>
                  <a:lnTo>
                    <a:pt x="208" y="195"/>
                  </a:lnTo>
                  <a:lnTo>
                    <a:pt x="120" y="199"/>
                  </a:lnTo>
                  <a:lnTo>
                    <a:pt x="48" y="230"/>
                  </a:lnTo>
                  <a:lnTo>
                    <a:pt x="0" y="301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15400" y="2120760"/>
              <a:ext cx="505080" cy="452880"/>
            </a:xfrm>
            <a:custGeom>
              <a:avLst/>
              <a:gdLst/>
              <a:ahLst/>
              <a:rect l="0" t="0" r="r" b="b"/>
              <a:pathLst>
                <a:path w="1403" h="1258">
                  <a:moveTo>
                    <a:pt x="4" y="1214"/>
                  </a:moveTo>
                  <a:lnTo>
                    <a:pt x="13" y="1122"/>
                  </a:lnTo>
                  <a:lnTo>
                    <a:pt x="52" y="1038"/>
                  </a:lnTo>
                  <a:lnTo>
                    <a:pt x="83" y="967"/>
                  </a:lnTo>
                  <a:lnTo>
                    <a:pt x="105" y="856"/>
                  </a:lnTo>
                  <a:lnTo>
                    <a:pt x="132" y="710"/>
                  </a:lnTo>
                  <a:lnTo>
                    <a:pt x="149" y="556"/>
                  </a:lnTo>
                  <a:lnTo>
                    <a:pt x="163" y="415"/>
                  </a:lnTo>
                  <a:lnTo>
                    <a:pt x="171" y="295"/>
                  </a:lnTo>
                  <a:lnTo>
                    <a:pt x="176" y="189"/>
                  </a:lnTo>
                  <a:lnTo>
                    <a:pt x="211" y="127"/>
                  </a:lnTo>
                  <a:lnTo>
                    <a:pt x="277" y="70"/>
                  </a:lnTo>
                  <a:lnTo>
                    <a:pt x="343" y="39"/>
                  </a:lnTo>
                  <a:lnTo>
                    <a:pt x="449" y="8"/>
                  </a:lnTo>
                  <a:lnTo>
                    <a:pt x="568" y="0"/>
                  </a:lnTo>
                  <a:lnTo>
                    <a:pt x="755" y="0"/>
                  </a:lnTo>
                  <a:lnTo>
                    <a:pt x="918" y="8"/>
                  </a:lnTo>
                  <a:lnTo>
                    <a:pt x="1076" y="39"/>
                  </a:lnTo>
                  <a:lnTo>
                    <a:pt x="1222" y="92"/>
                  </a:lnTo>
                  <a:lnTo>
                    <a:pt x="1315" y="154"/>
                  </a:lnTo>
                  <a:lnTo>
                    <a:pt x="1368" y="207"/>
                  </a:lnTo>
                  <a:lnTo>
                    <a:pt x="1403" y="268"/>
                  </a:lnTo>
                  <a:lnTo>
                    <a:pt x="1394" y="331"/>
                  </a:lnTo>
                  <a:lnTo>
                    <a:pt x="1381" y="393"/>
                  </a:lnTo>
                  <a:lnTo>
                    <a:pt x="1337" y="459"/>
                  </a:lnTo>
                  <a:lnTo>
                    <a:pt x="1301" y="543"/>
                  </a:lnTo>
                  <a:lnTo>
                    <a:pt x="1284" y="658"/>
                  </a:lnTo>
                  <a:lnTo>
                    <a:pt x="1271" y="777"/>
                  </a:lnTo>
                  <a:lnTo>
                    <a:pt x="1248" y="882"/>
                  </a:lnTo>
                  <a:lnTo>
                    <a:pt x="1244" y="1038"/>
                  </a:lnTo>
                  <a:lnTo>
                    <a:pt x="1235" y="1170"/>
                  </a:lnTo>
                  <a:lnTo>
                    <a:pt x="1235" y="1258"/>
                  </a:lnTo>
                  <a:lnTo>
                    <a:pt x="1191" y="1148"/>
                  </a:lnTo>
                  <a:lnTo>
                    <a:pt x="1103" y="1095"/>
                  </a:lnTo>
                  <a:lnTo>
                    <a:pt x="1024" y="1064"/>
                  </a:lnTo>
                  <a:lnTo>
                    <a:pt x="927" y="1042"/>
                  </a:lnTo>
                  <a:lnTo>
                    <a:pt x="772" y="1011"/>
                  </a:lnTo>
                  <a:lnTo>
                    <a:pt x="621" y="1007"/>
                  </a:lnTo>
                  <a:lnTo>
                    <a:pt x="533" y="1007"/>
                  </a:lnTo>
                  <a:lnTo>
                    <a:pt x="396" y="1016"/>
                  </a:lnTo>
                  <a:lnTo>
                    <a:pt x="238" y="1047"/>
                  </a:lnTo>
                  <a:lnTo>
                    <a:pt x="136" y="1086"/>
                  </a:lnTo>
                  <a:lnTo>
                    <a:pt x="70" y="1126"/>
                  </a:lnTo>
                  <a:lnTo>
                    <a:pt x="0" y="1183"/>
                  </a:lnTo>
                  <a:lnTo>
                    <a:pt x="4" y="1214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6560" y="1549440"/>
              <a:ext cx="1319400" cy="665640"/>
            </a:xfrm>
            <a:custGeom>
              <a:avLst/>
              <a:gdLst/>
              <a:ahLst/>
              <a:rect l="0" t="0" r="r" b="b"/>
              <a:pathLst>
                <a:path w="3665" h="1849">
                  <a:moveTo>
                    <a:pt x="0" y="0"/>
                  </a:moveTo>
                  <a:lnTo>
                    <a:pt x="0" y="1571"/>
                  </a:lnTo>
                  <a:lnTo>
                    <a:pt x="370" y="1651"/>
                  </a:lnTo>
                  <a:lnTo>
                    <a:pt x="674" y="1735"/>
                  </a:lnTo>
                  <a:lnTo>
                    <a:pt x="926" y="1783"/>
                  </a:lnTo>
                  <a:lnTo>
                    <a:pt x="1137" y="1809"/>
                  </a:lnTo>
                  <a:lnTo>
                    <a:pt x="1375" y="1836"/>
                  </a:lnTo>
                  <a:lnTo>
                    <a:pt x="1772" y="1849"/>
                  </a:lnTo>
                  <a:lnTo>
                    <a:pt x="2139" y="1818"/>
                  </a:lnTo>
                  <a:lnTo>
                    <a:pt x="2514" y="1761"/>
                  </a:lnTo>
                  <a:lnTo>
                    <a:pt x="2876" y="1664"/>
                  </a:lnTo>
                  <a:lnTo>
                    <a:pt x="3193" y="1532"/>
                  </a:lnTo>
                  <a:lnTo>
                    <a:pt x="3458" y="1350"/>
                  </a:lnTo>
                  <a:lnTo>
                    <a:pt x="3656" y="1284"/>
                  </a:lnTo>
                  <a:lnTo>
                    <a:pt x="3665" y="8"/>
                  </a:lnTo>
                  <a:lnTo>
                    <a:pt x="3467" y="39"/>
                  </a:lnTo>
                  <a:lnTo>
                    <a:pt x="3202" y="127"/>
                  </a:lnTo>
                  <a:lnTo>
                    <a:pt x="2884" y="242"/>
                  </a:lnTo>
                  <a:lnTo>
                    <a:pt x="2580" y="308"/>
                  </a:lnTo>
                  <a:lnTo>
                    <a:pt x="2272" y="343"/>
                  </a:lnTo>
                  <a:lnTo>
                    <a:pt x="2064" y="361"/>
                  </a:lnTo>
                  <a:lnTo>
                    <a:pt x="1888" y="370"/>
                  </a:lnTo>
                  <a:lnTo>
                    <a:pt x="1578" y="370"/>
                  </a:lnTo>
                  <a:lnTo>
                    <a:pt x="1384" y="357"/>
                  </a:lnTo>
                  <a:lnTo>
                    <a:pt x="1208" y="335"/>
                  </a:lnTo>
                  <a:lnTo>
                    <a:pt x="1009" y="321"/>
                  </a:lnTo>
                  <a:lnTo>
                    <a:pt x="837" y="291"/>
                  </a:lnTo>
                  <a:lnTo>
                    <a:pt x="617" y="251"/>
                  </a:lnTo>
                  <a:lnTo>
                    <a:pt x="423" y="194"/>
                  </a:lnTo>
                  <a:lnTo>
                    <a:pt x="216" y="10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0d8"/>
                </a:gs>
                <a:gs pos="50000">
                  <a:srgbClr val="98baff"/>
                </a:gs>
                <a:gs pos="100000">
                  <a:srgbClr val="5980d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2286000"/>
            <a:ext cx="7772400" cy="247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hapter 11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ss Media Effects on Individ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atalytic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edia act like catalysts which trigger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ertain events can be more powerful as cataly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eed a willing audience to work as a cataly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ocietally Debilitating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eople believe that the world is more dangerous than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Gerbner is the chief contributor to this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sensi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edia increase tolerance for violence or bad language or human suff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9144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anada’s Broadcasters and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eveloped a code which has been hard to enforce especially because of U.S. signals which are not subject to the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V-Chip Deb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he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ents can set the level which will be a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genda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edia selection o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reating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stablishing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erpetuat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How media work together to set the social agenda (intramedia agenda sett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144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edia Induced Anxiety and Apat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oo much information causes an overl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ews travels faster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edia encourage pass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edia may also encourage a feeling of fu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edia effects and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ss media choice and satisf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trol over media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ss media as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he question of media viol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genda-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ss media and poli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tudy of media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he role of communication scholars in the deb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heories and models as expla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search leads to policy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nly systematic valid research and theory testing can lead to societal stability and impr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edia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owerful effects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inimalist effects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wo-step flow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tatus con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arcotizing dys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umulative Effects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ses and Gratifications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e audiences passive receptac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urveillance in life and in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ocia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iversion (stimulation, relaxation, rele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sistency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dividual Sele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elective Exp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elective Perce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elective Retention and Re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o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eing initiated into a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edia’s initiating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o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tere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avesdr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edia and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V as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he cathartic effect - fantasy violence vs. real viol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edia violence as trigger (catalyt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esensitizing and culti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anadian Violenc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efinition of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V as reflection of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hat’s what people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niversity of Windsor</dc:creator>
  <dc:description/>
  <dc:language>en-US</dc:language>
  <cp:lastModifiedBy>University of Windsor</cp:lastModifiedBy>
  <cp:revision>0</cp:revision>
  <dc:subject/>
  <dc:title>Mass Media Effect on Individuals</dc:title>
</cp:coreProperties>
</file>