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Media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Intr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ization replaced by imperialism: U.S. culture dominates Canada and other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veryone agrees that hegemony i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national cultural enrichment 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Luhan’s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reduced huma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 has the potential to get closer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lobal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Transmit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rs out of step with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rs more liberal in views th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as toward feminism, minorities; against business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away from traditional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tist vs. Popu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tist view: media pander to low tas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ist: mass media cater to popular ta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z’s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brow: technical and thematic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-brow: artistic merit without high level of sophist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brow: little sophistication, focus on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Pop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 art - things of the moment: hula-hoop, frisb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nse, but low-lived popul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market place and then serv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are obsessed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viewed posit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 Art Revi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 art is evoc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opularize high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nify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rt can be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induced ritual: evening news, competitive sh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upports status q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introduce cognitive disso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can set agenda and confer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enforce society’s moral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 Trans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Times New Roman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mporary transmission - diffusion of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F. Lewis</dc:creator>
  <dc:description/>
  <dc:language>en-US</dc:language>
  <cp:lastModifiedBy>Richard F. Lewis</cp:lastModifiedBy>
  <cp:revision>0</cp:revision>
  <dc:subject/>
  <dc:title>Chapter 12 Mass Media and Society</dc:title>
</cp:coreProperties>
</file>