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w P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900 numbers to call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andid camera and “on-the-street” events represent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Audience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paper and Magazine Au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“exact” circulation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 Bureau of Cir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round 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ada Bureau of Broadcast Measurement. (BB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di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s every 15 mins for several age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market sh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s week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Audience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ical measures, GSR, pupil,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out (prototy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en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dem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ing us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-style breakdowns: need driven, outer-directed, inner-directed, integ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advertisers know about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 number link to much other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 cards, credit cards, grocery s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tion cards with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 subscri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ponsore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olic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nion surv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Comm. Schola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tification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nd 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research includes reports of studies done b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research - what we collect our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a sample can reflect the re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4 members of the sample will yield 95% accuracy within 5 percentag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ember of the audience has an equal chance of being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uses a table of random numbers to get the first person, then select every nth person to fill th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selective by using only select groups e.g. quota 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of Error and Confidenc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sample size reduces the margin of error and improves the confidenc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surv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eople, how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ndu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ing and questio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. Lewis</dc:creator>
  <dc:description/>
  <dc:language>en-US</dc:language>
  <cp:lastModifiedBy>Richard F. Lewis</cp:lastModifiedBy>
  <cp:revision>0</cp:revision>
  <dc:subject/>
  <dc:title>Media Research</dc:title>
</cp:coreProperties>
</file>