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ics an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al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over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guidance to solve ethical dilem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olden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extremes and seek mod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is for balance and fair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unto others as you would have them do unto yo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nds simple en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cal Imper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nt suggested that we develop principles that can be applied to similar moral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arian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Stuart M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st good for the greatest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gmatic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Dew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ge ethical principles by the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alitarian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Raw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il of igno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blind to social position and other discriminating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 society responsib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ter’s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quadrants: definition, values, principles and loyal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through the quadrants to find answers to ethical dilem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fference between ethics an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differe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w as agreed-upon princi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re often conflicted between ethics and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i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t of principles or a code of moral con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dian Charter of Rights and Freed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s citizens and the media protection when reporting 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ation B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ly Canadian judicial action to prevent evidence from being rele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ed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bit vs. th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udence and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prud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o you quit on ethical pursu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mation (Li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s someone’s repu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reported or shared with more than three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 of Defa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or pictures were defam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or pictures were published or broad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or P referred to a specific, living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nses against Defa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r com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fied privilege ( courts, legislatur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riginal work is automatically copy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ssion is required to use, perform, alter the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of 30 organizations to allow large organizations to buy the right to co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k in 12,3 million in 199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ety of Composers, Authors and Music Publishers of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ers performance rights, reproduction rights, moral r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s fees from radio and TV stations, arenas, mall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ontological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act morally when they follow good r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include theory of divine command, theory of divine right of kings and libertarian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cenity, pornograph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ens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existed in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s with tole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bacco an is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ies and school boards and restri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ettled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gia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apping stories - among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 releases - who is the source of the 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the competition - problem with swap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liminal Memory” - not subliminal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ing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cre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ve Ed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ctional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ical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each one so that you understand them and can recognize a vio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ological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rned with the consequences of 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include pragmatics, utilitarian theory and social responsibility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ological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gmatic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arian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-responsibility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uational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.E. you assess the situation and then decide how to act. Principles may be put a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ulty of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ur and the Horror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xed real and created foot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ard Stern and problems maligning racial, ethnic groups and w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criptive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ect for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ment to time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 in Du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ty to 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ty to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ty to Emplo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ty to the Pro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ty to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Richard F. Lewis</dc:creator>
  <dc:description/>
  <dc:language>en-US</dc:language>
  <cp:lastModifiedBy>Dr. Richard F. Lewis</cp:lastModifiedBy>
  <cp:revision>0</cp:revision>
  <dc:subject/>
  <dc:title>Ethics and the Mass Media</dc:title>
</cp:coreProperties>
</file>