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783640" y="444600"/>
            <a:ext cx="360360" cy="315288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360" cy="2134080"/>
          </a:xfrm>
          <a:custGeom>
            <a:avLst/>
            <a:gdLst/>
            <a:ahLst/>
            <a:rect l="0" t="0" r="r" b="b"/>
            <a:pathLst>
              <a:path w="25401" h="5928">
                <a:moveTo>
                  <a:pt x="0" y="0"/>
                </a:moveTo>
                <a:lnTo>
                  <a:pt x="25401" y="0"/>
                </a:lnTo>
                <a:lnTo>
                  <a:pt x="25401" y="3863"/>
                </a:lnTo>
                <a:lnTo>
                  <a:pt x="20109" y="3096"/>
                </a:lnTo>
                <a:lnTo>
                  <a:pt x="15876" y="3347"/>
                </a:lnTo>
                <a:lnTo>
                  <a:pt x="2645" y="5928"/>
                </a:lnTo>
                <a:lnTo>
                  <a:pt x="0" y="536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1417680"/>
            <a:ext cx="9144360" cy="5440680"/>
          </a:xfrm>
          <a:custGeom>
            <a:avLst/>
            <a:gdLst/>
            <a:ahLst/>
            <a:rect l="0" t="0" r="r" b="b"/>
            <a:pathLst>
              <a:path w="25401" h="15113">
                <a:moveTo>
                  <a:pt x="0" y="1860"/>
                </a:moveTo>
                <a:lnTo>
                  <a:pt x="8643" y="1001"/>
                </a:lnTo>
                <a:lnTo>
                  <a:pt x="11641" y="471"/>
                </a:lnTo>
                <a:lnTo>
                  <a:pt x="14411" y="88"/>
                </a:lnTo>
                <a:lnTo>
                  <a:pt x="14874" y="0"/>
                </a:lnTo>
                <a:lnTo>
                  <a:pt x="23284" y="873"/>
                </a:lnTo>
                <a:lnTo>
                  <a:pt x="25401" y="873"/>
                </a:lnTo>
                <a:lnTo>
                  <a:pt x="25401" y="15113"/>
                </a:lnTo>
                <a:lnTo>
                  <a:pt x="0" y="15113"/>
                </a:lnTo>
                <a:lnTo>
                  <a:pt x="0" y="186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291960"/>
            <a:ext cx="9144360" cy="854280"/>
          </a:xfrm>
          <a:custGeom>
            <a:avLst/>
            <a:gdLst/>
            <a:ahLst/>
            <a:rect l="0" t="0" r="r" b="b"/>
            <a:pathLst>
              <a:path w="25401" h="2373">
                <a:moveTo>
                  <a:pt x="0" y="718"/>
                </a:moveTo>
                <a:lnTo>
                  <a:pt x="0" y="1778"/>
                </a:lnTo>
                <a:lnTo>
                  <a:pt x="4458" y="2122"/>
                </a:lnTo>
                <a:lnTo>
                  <a:pt x="7818" y="1954"/>
                </a:lnTo>
                <a:lnTo>
                  <a:pt x="17238" y="709"/>
                </a:lnTo>
                <a:lnTo>
                  <a:pt x="20166" y="776"/>
                </a:lnTo>
                <a:lnTo>
                  <a:pt x="24527" y="2373"/>
                </a:lnTo>
                <a:lnTo>
                  <a:pt x="25401" y="2364"/>
                </a:lnTo>
                <a:lnTo>
                  <a:pt x="25401" y="718"/>
                </a:lnTo>
                <a:lnTo>
                  <a:pt x="22883" y="0"/>
                </a:lnTo>
                <a:lnTo>
                  <a:pt x="20109" y="127"/>
                </a:lnTo>
                <a:lnTo>
                  <a:pt x="12113" y="1385"/>
                </a:lnTo>
                <a:lnTo>
                  <a:pt x="8762" y="1482"/>
                </a:lnTo>
                <a:lnTo>
                  <a:pt x="1825" y="877"/>
                </a:lnTo>
                <a:lnTo>
                  <a:pt x="0" y="718"/>
                </a:ln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2405160"/>
            <a:ext cx="9144360" cy="1062360"/>
          </a:xfrm>
          <a:custGeom>
            <a:avLst/>
            <a:gdLst/>
            <a:ahLst/>
            <a:rect l="0" t="0" r="r" b="b"/>
            <a:pathLst>
              <a:path w="25401" h="2951">
                <a:moveTo>
                  <a:pt x="0" y="1084"/>
                </a:moveTo>
                <a:lnTo>
                  <a:pt x="0" y="1791"/>
                </a:lnTo>
                <a:lnTo>
                  <a:pt x="4449" y="2717"/>
                </a:lnTo>
                <a:lnTo>
                  <a:pt x="5644" y="2845"/>
                </a:lnTo>
                <a:lnTo>
                  <a:pt x="4815" y="2951"/>
                </a:lnTo>
                <a:lnTo>
                  <a:pt x="7174" y="2558"/>
                </a:lnTo>
                <a:lnTo>
                  <a:pt x="16775" y="480"/>
                </a:lnTo>
                <a:lnTo>
                  <a:pt x="19813" y="498"/>
                </a:lnTo>
                <a:lnTo>
                  <a:pt x="24470" y="2585"/>
                </a:lnTo>
                <a:lnTo>
                  <a:pt x="25401" y="2673"/>
                </a:lnTo>
                <a:lnTo>
                  <a:pt x="25401" y="1027"/>
                </a:lnTo>
                <a:lnTo>
                  <a:pt x="21247" y="0"/>
                </a:lnTo>
                <a:lnTo>
                  <a:pt x="17816" y="145"/>
                </a:lnTo>
                <a:lnTo>
                  <a:pt x="7787" y="1756"/>
                </a:lnTo>
                <a:lnTo>
                  <a:pt x="4819" y="1910"/>
                </a:lnTo>
                <a:lnTo>
                  <a:pt x="1005" y="1256"/>
                </a:lnTo>
                <a:lnTo>
                  <a:pt x="0" y="1084"/>
                </a:ln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476440" y="1871640"/>
            <a:ext cx="6667920" cy="4986720"/>
          </a:xfrm>
          <a:custGeom>
            <a:avLst/>
            <a:gdLst/>
            <a:ahLst/>
            <a:rect l="0" t="0" r="r" b="b"/>
            <a:pathLst>
              <a:path w="18522" h="13852">
                <a:moveTo>
                  <a:pt x="0" y="13852"/>
                </a:moveTo>
                <a:lnTo>
                  <a:pt x="1561" y="1631"/>
                </a:lnTo>
                <a:lnTo>
                  <a:pt x="4648" y="330"/>
                </a:lnTo>
                <a:lnTo>
                  <a:pt x="16212" y="4759"/>
                </a:lnTo>
                <a:lnTo>
                  <a:pt x="18522" y="6033"/>
                </a:lnTo>
                <a:lnTo>
                  <a:pt x="18522" y="7973"/>
                </a:lnTo>
                <a:lnTo>
                  <a:pt x="8123" y="0"/>
                </a:lnTo>
                <a:lnTo>
                  <a:pt x="5292" y="978"/>
                </a:lnTo>
                <a:lnTo>
                  <a:pt x="2412" y="11709"/>
                </a:lnTo>
                <a:lnTo>
                  <a:pt x="1530" y="13852"/>
                </a:lnTo>
                <a:lnTo>
                  <a:pt x="0" y="13852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3443400"/>
            <a:ext cx="9144360" cy="3056400"/>
          </a:xfrm>
          <a:custGeom>
            <a:avLst/>
            <a:gdLst/>
            <a:ahLst/>
            <a:rect l="0" t="0" r="r" b="b"/>
            <a:pathLst>
              <a:path w="25401" h="8490">
                <a:moveTo>
                  <a:pt x="0" y="3546"/>
                </a:moveTo>
                <a:lnTo>
                  <a:pt x="0" y="4371"/>
                </a:lnTo>
                <a:lnTo>
                  <a:pt x="4431" y="8490"/>
                </a:lnTo>
                <a:lnTo>
                  <a:pt x="6821" y="8018"/>
                </a:lnTo>
                <a:lnTo>
                  <a:pt x="11249" y="1755"/>
                </a:lnTo>
                <a:lnTo>
                  <a:pt x="14345" y="1547"/>
                </a:lnTo>
                <a:lnTo>
                  <a:pt x="23557" y="6192"/>
                </a:lnTo>
                <a:lnTo>
                  <a:pt x="25401" y="6779"/>
                </a:lnTo>
                <a:lnTo>
                  <a:pt x="25401" y="5076"/>
                </a:lnTo>
                <a:lnTo>
                  <a:pt x="17560" y="0"/>
                </a:lnTo>
                <a:lnTo>
                  <a:pt x="14288" y="370"/>
                </a:lnTo>
                <a:lnTo>
                  <a:pt x="9317" y="6841"/>
                </a:lnTo>
                <a:lnTo>
                  <a:pt x="6936" y="7370"/>
                </a:lnTo>
                <a:lnTo>
                  <a:pt x="1155" y="3643"/>
                </a:lnTo>
                <a:lnTo>
                  <a:pt x="0" y="3546"/>
                </a:ln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3662280"/>
            <a:ext cx="5866200" cy="3256200"/>
          </a:xfrm>
          <a:custGeom>
            <a:avLst/>
            <a:gdLst/>
            <a:ahLst/>
            <a:rect l="0" t="0" r="r" b="b"/>
            <a:pathLst>
              <a:path w="16295" h="9045">
                <a:moveTo>
                  <a:pt x="0" y="1525"/>
                </a:moveTo>
                <a:lnTo>
                  <a:pt x="0" y="1935"/>
                </a:lnTo>
                <a:lnTo>
                  <a:pt x="5283" y="304"/>
                </a:lnTo>
                <a:lnTo>
                  <a:pt x="7978" y="705"/>
                </a:lnTo>
                <a:lnTo>
                  <a:pt x="15047" y="2985"/>
                </a:lnTo>
                <a:lnTo>
                  <a:pt x="16185" y="4347"/>
                </a:lnTo>
                <a:lnTo>
                  <a:pt x="14796" y="9045"/>
                </a:lnTo>
                <a:lnTo>
                  <a:pt x="14809" y="8877"/>
                </a:lnTo>
                <a:lnTo>
                  <a:pt x="16295" y="3351"/>
                </a:lnTo>
                <a:lnTo>
                  <a:pt x="12017" y="304"/>
                </a:lnTo>
                <a:lnTo>
                  <a:pt x="9301" y="0"/>
                </a:lnTo>
                <a:lnTo>
                  <a:pt x="1935" y="1208"/>
                </a:lnTo>
                <a:lnTo>
                  <a:pt x="0" y="1525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83640" y="444600"/>
            <a:ext cx="360360" cy="315288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360" cy="2134080"/>
          </a:xfrm>
          <a:custGeom>
            <a:avLst/>
            <a:gdLst/>
            <a:ahLst/>
            <a:rect l="0" t="0" r="r" b="b"/>
            <a:pathLst>
              <a:path w="25401" h="5928">
                <a:moveTo>
                  <a:pt x="0" y="0"/>
                </a:moveTo>
                <a:lnTo>
                  <a:pt x="25401" y="0"/>
                </a:lnTo>
                <a:lnTo>
                  <a:pt x="25401" y="3863"/>
                </a:lnTo>
                <a:lnTo>
                  <a:pt x="20109" y="3096"/>
                </a:lnTo>
                <a:lnTo>
                  <a:pt x="15876" y="3347"/>
                </a:lnTo>
                <a:lnTo>
                  <a:pt x="2645" y="5928"/>
                </a:lnTo>
                <a:lnTo>
                  <a:pt x="0" y="536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417680"/>
            <a:ext cx="9144360" cy="5440680"/>
          </a:xfrm>
          <a:custGeom>
            <a:avLst/>
            <a:gdLst/>
            <a:ahLst/>
            <a:rect l="0" t="0" r="r" b="b"/>
            <a:pathLst>
              <a:path w="25401" h="15113">
                <a:moveTo>
                  <a:pt x="0" y="1860"/>
                </a:moveTo>
                <a:lnTo>
                  <a:pt x="8643" y="1001"/>
                </a:lnTo>
                <a:lnTo>
                  <a:pt x="11641" y="471"/>
                </a:lnTo>
                <a:lnTo>
                  <a:pt x="14411" y="88"/>
                </a:lnTo>
                <a:lnTo>
                  <a:pt x="14874" y="0"/>
                </a:lnTo>
                <a:lnTo>
                  <a:pt x="23284" y="873"/>
                </a:lnTo>
                <a:lnTo>
                  <a:pt x="25401" y="873"/>
                </a:lnTo>
                <a:lnTo>
                  <a:pt x="25401" y="15113"/>
                </a:lnTo>
                <a:lnTo>
                  <a:pt x="0" y="15113"/>
                </a:lnTo>
                <a:lnTo>
                  <a:pt x="0" y="186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91960"/>
            <a:ext cx="9144360" cy="854280"/>
          </a:xfrm>
          <a:custGeom>
            <a:avLst/>
            <a:gdLst/>
            <a:ahLst/>
            <a:rect l="0" t="0" r="r" b="b"/>
            <a:pathLst>
              <a:path w="25401" h="2373">
                <a:moveTo>
                  <a:pt x="0" y="718"/>
                </a:moveTo>
                <a:lnTo>
                  <a:pt x="0" y="1778"/>
                </a:lnTo>
                <a:lnTo>
                  <a:pt x="4458" y="2122"/>
                </a:lnTo>
                <a:lnTo>
                  <a:pt x="7818" y="1954"/>
                </a:lnTo>
                <a:lnTo>
                  <a:pt x="17238" y="709"/>
                </a:lnTo>
                <a:lnTo>
                  <a:pt x="20166" y="776"/>
                </a:lnTo>
                <a:lnTo>
                  <a:pt x="24527" y="2373"/>
                </a:lnTo>
                <a:lnTo>
                  <a:pt x="25401" y="2364"/>
                </a:lnTo>
                <a:lnTo>
                  <a:pt x="25401" y="718"/>
                </a:lnTo>
                <a:lnTo>
                  <a:pt x="22883" y="0"/>
                </a:lnTo>
                <a:lnTo>
                  <a:pt x="20109" y="127"/>
                </a:lnTo>
                <a:lnTo>
                  <a:pt x="12113" y="1385"/>
                </a:lnTo>
                <a:lnTo>
                  <a:pt x="8762" y="1482"/>
                </a:lnTo>
                <a:lnTo>
                  <a:pt x="1825" y="877"/>
                </a:lnTo>
                <a:lnTo>
                  <a:pt x="0" y="718"/>
                </a:ln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405160"/>
            <a:ext cx="9144360" cy="1062360"/>
          </a:xfrm>
          <a:custGeom>
            <a:avLst/>
            <a:gdLst/>
            <a:ahLst/>
            <a:rect l="0" t="0" r="r" b="b"/>
            <a:pathLst>
              <a:path w="25401" h="2951">
                <a:moveTo>
                  <a:pt x="0" y="1084"/>
                </a:moveTo>
                <a:lnTo>
                  <a:pt x="0" y="1791"/>
                </a:lnTo>
                <a:lnTo>
                  <a:pt x="4449" y="2717"/>
                </a:lnTo>
                <a:lnTo>
                  <a:pt x="5644" y="2845"/>
                </a:lnTo>
                <a:lnTo>
                  <a:pt x="4815" y="2951"/>
                </a:lnTo>
                <a:lnTo>
                  <a:pt x="7174" y="2558"/>
                </a:lnTo>
                <a:lnTo>
                  <a:pt x="16775" y="480"/>
                </a:lnTo>
                <a:lnTo>
                  <a:pt x="19813" y="498"/>
                </a:lnTo>
                <a:lnTo>
                  <a:pt x="24470" y="2585"/>
                </a:lnTo>
                <a:lnTo>
                  <a:pt x="25401" y="2673"/>
                </a:lnTo>
                <a:lnTo>
                  <a:pt x="25401" y="1027"/>
                </a:lnTo>
                <a:lnTo>
                  <a:pt x="21247" y="0"/>
                </a:lnTo>
                <a:lnTo>
                  <a:pt x="17816" y="145"/>
                </a:lnTo>
                <a:lnTo>
                  <a:pt x="7787" y="1756"/>
                </a:lnTo>
                <a:lnTo>
                  <a:pt x="4819" y="1910"/>
                </a:lnTo>
                <a:lnTo>
                  <a:pt x="1005" y="1256"/>
                </a:lnTo>
                <a:lnTo>
                  <a:pt x="0" y="1084"/>
                </a:ln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76440" y="1871640"/>
            <a:ext cx="6667920" cy="4986720"/>
          </a:xfrm>
          <a:custGeom>
            <a:avLst/>
            <a:gdLst/>
            <a:ahLst/>
            <a:rect l="0" t="0" r="r" b="b"/>
            <a:pathLst>
              <a:path w="18522" h="13852">
                <a:moveTo>
                  <a:pt x="0" y="13852"/>
                </a:moveTo>
                <a:lnTo>
                  <a:pt x="1561" y="1631"/>
                </a:lnTo>
                <a:lnTo>
                  <a:pt x="4648" y="330"/>
                </a:lnTo>
                <a:lnTo>
                  <a:pt x="16212" y="4759"/>
                </a:lnTo>
                <a:lnTo>
                  <a:pt x="18522" y="6033"/>
                </a:lnTo>
                <a:lnTo>
                  <a:pt x="18522" y="7973"/>
                </a:lnTo>
                <a:lnTo>
                  <a:pt x="8123" y="0"/>
                </a:lnTo>
                <a:lnTo>
                  <a:pt x="5292" y="978"/>
                </a:lnTo>
                <a:lnTo>
                  <a:pt x="2412" y="11709"/>
                </a:lnTo>
                <a:lnTo>
                  <a:pt x="1530" y="13852"/>
                </a:lnTo>
                <a:lnTo>
                  <a:pt x="0" y="13852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443400"/>
            <a:ext cx="9144360" cy="3056400"/>
          </a:xfrm>
          <a:custGeom>
            <a:avLst/>
            <a:gdLst/>
            <a:ahLst/>
            <a:rect l="0" t="0" r="r" b="b"/>
            <a:pathLst>
              <a:path w="25401" h="8490">
                <a:moveTo>
                  <a:pt x="0" y="3546"/>
                </a:moveTo>
                <a:lnTo>
                  <a:pt x="0" y="4371"/>
                </a:lnTo>
                <a:lnTo>
                  <a:pt x="4431" y="8490"/>
                </a:lnTo>
                <a:lnTo>
                  <a:pt x="6821" y="8018"/>
                </a:lnTo>
                <a:lnTo>
                  <a:pt x="11249" y="1755"/>
                </a:lnTo>
                <a:lnTo>
                  <a:pt x="14345" y="1547"/>
                </a:lnTo>
                <a:lnTo>
                  <a:pt x="23557" y="6192"/>
                </a:lnTo>
                <a:lnTo>
                  <a:pt x="25401" y="6779"/>
                </a:lnTo>
                <a:lnTo>
                  <a:pt x="25401" y="5076"/>
                </a:lnTo>
                <a:lnTo>
                  <a:pt x="17560" y="0"/>
                </a:lnTo>
                <a:lnTo>
                  <a:pt x="14288" y="370"/>
                </a:lnTo>
                <a:lnTo>
                  <a:pt x="9317" y="6841"/>
                </a:lnTo>
                <a:lnTo>
                  <a:pt x="6936" y="7370"/>
                </a:lnTo>
                <a:lnTo>
                  <a:pt x="1155" y="3643"/>
                </a:lnTo>
                <a:lnTo>
                  <a:pt x="0" y="3546"/>
                </a:ln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662280"/>
            <a:ext cx="5866200" cy="3256200"/>
          </a:xfrm>
          <a:custGeom>
            <a:avLst/>
            <a:gdLst/>
            <a:ahLst/>
            <a:rect l="0" t="0" r="r" b="b"/>
            <a:pathLst>
              <a:path w="16295" h="9045">
                <a:moveTo>
                  <a:pt x="0" y="1525"/>
                </a:moveTo>
                <a:lnTo>
                  <a:pt x="0" y="1935"/>
                </a:lnTo>
                <a:lnTo>
                  <a:pt x="5283" y="304"/>
                </a:lnTo>
                <a:lnTo>
                  <a:pt x="7978" y="705"/>
                </a:lnTo>
                <a:lnTo>
                  <a:pt x="15047" y="2985"/>
                </a:lnTo>
                <a:lnTo>
                  <a:pt x="16185" y="4347"/>
                </a:lnTo>
                <a:lnTo>
                  <a:pt x="14796" y="9045"/>
                </a:lnTo>
                <a:lnTo>
                  <a:pt x="14809" y="8877"/>
                </a:lnTo>
                <a:lnTo>
                  <a:pt x="16295" y="3351"/>
                </a:lnTo>
                <a:lnTo>
                  <a:pt x="12017" y="304"/>
                </a:lnTo>
                <a:lnTo>
                  <a:pt x="9301" y="0"/>
                </a:lnTo>
                <a:lnTo>
                  <a:pt x="1935" y="1208"/>
                </a:lnTo>
                <a:lnTo>
                  <a:pt x="0" y="1525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hapter 3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ound Recor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Economics of Rec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ard to start initi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oom in the dance 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esurgence with music vide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ome-back with digital technolo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P3 and other digital challenges lie ahea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aking and Selling Rec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riginally, studios picked songs, today, artists have more contr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ecording sessions (as described earlie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etting airplay and marketing artists is criti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easuring commercial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anadian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old seal - 5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latinum - 10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iamond - 1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U.S.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old - 1 million singles, or 500,000 albu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latinum - 2 million singles, 1 million albu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cords and Ra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terdepen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ayo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ome-dubbing - uninterrupted music, tape tax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i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an C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APL system developed by Stan Kle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 - Music must be written by a Canadi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 - Music or lyrics must be principally performed by a Canadian art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 - Produced in Canada or performed or broadcast live in Can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yrics written by a Canad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For a selection to be Canad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wo of the MAPL conditions must be m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re are exce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enso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jectionable mu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ecord Label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yrics and young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anadian Con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riginally hard to find on Canadian rad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 1970, the CRTC required 30% CanCon between 6am and mid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anCon may not have helped Canadian culture mu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alog and Dig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nalog is just what we h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igital music (or anything else) is stored as zeros and 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igital reproduces better and can be processed more eas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ecordings are usually made by recording different tracks; e.g. drums, voc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ne track can be played back while the other is being recor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Effects of Recorded Mus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allying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ringing about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eflecting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ommon ground (Aristot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cial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ore recorded than live music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usic Form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arliest format 78 rpm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ext 45 rpm (small) and 33.3 rpm vinyl dis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eel-to-reel and 8-tr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assette t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ompact Disc (C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AT, MP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Evolution of Mus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olk music (from the British isles) and the American south begin it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lack music, based on struggle, faith and h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illbi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ock and Ro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an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aul Anka, The Guess Who, Anne Murray, Gordon Lightfo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Juno Awards, the Canadian music awa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oday, Canadians Alanis Morisette, Celine Dion and Shania Twain are popular on both sides of the bor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r. Richard F. Lewis</dc:creator>
  <dc:description/>
  <dc:language>en-US</dc:language>
  <cp:lastModifiedBy>Dr. Richard F. Lewis</cp:lastModifiedBy>
  <cp:revision>0</cp:revision>
  <dc:subject/>
  <dc:title>Recorded Music and Radio</dc:title>
</cp:coreProperties>
</file>