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920" y="-3240"/>
            <a:ext cx="1070280" cy="6871320"/>
            <a:chOff x="7920" y="-3240"/>
            <a:chExt cx="1070280" cy="6871320"/>
          </a:xfrm>
        </p:grpSpPr>
        <p:sp>
          <p:nvSpPr>
            <p:cNvPr id="2" name=""/>
            <p:cNvSpPr/>
            <p:nvPr/>
          </p:nvSpPr>
          <p:spPr>
            <a:xfrm>
              <a:off x="46080" y="-3240"/>
              <a:ext cx="993960" cy="6832800"/>
            </a:xfrm>
            <a:custGeom>
              <a:avLst/>
              <a:gdLst/>
              <a:ahLst/>
              <a:rect l="0" t="0" r="r" b="b"/>
              <a:pathLst>
                <a:path w="2761" h="18980">
                  <a:moveTo>
                    <a:pt x="0" y="18980"/>
                  </a:moveTo>
                  <a:lnTo>
                    <a:pt x="0" y="0"/>
                  </a:lnTo>
                  <a:lnTo>
                    <a:pt x="2761" y="0"/>
                  </a:lnTo>
                  <a:lnTo>
                    <a:pt x="2761" y="18980"/>
                  </a:lnTo>
                  <a:lnTo>
                    <a:pt x="0" y="1898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320" y="169236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760" y="128412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7520" y="146160"/>
              <a:ext cx="989280" cy="305280"/>
            </a:xfrm>
            <a:custGeom>
              <a:avLst/>
              <a:gdLst/>
              <a:ahLst/>
              <a:rect l="0" t="0" r="r" b="b"/>
              <a:pathLst>
                <a:path w="2748" h="848">
                  <a:moveTo>
                    <a:pt x="0" y="742"/>
                  </a:moveTo>
                  <a:lnTo>
                    <a:pt x="0" y="105"/>
                  </a:lnTo>
                  <a:lnTo>
                    <a:pt x="2289" y="0"/>
                  </a:lnTo>
                  <a:lnTo>
                    <a:pt x="2748" y="105"/>
                  </a:lnTo>
                  <a:lnTo>
                    <a:pt x="2748" y="742"/>
                  </a:lnTo>
                  <a:lnTo>
                    <a:pt x="2148" y="848"/>
                  </a:lnTo>
                  <a:lnTo>
                    <a:pt x="1689" y="848"/>
                  </a:lnTo>
                  <a:lnTo>
                    <a:pt x="348" y="764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2560" y="984240"/>
              <a:ext cx="989280" cy="349560"/>
            </a:xfrm>
            <a:custGeom>
              <a:avLst/>
              <a:gdLst/>
              <a:ahLst/>
              <a:rect l="0" t="0" r="r" b="b"/>
              <a:pathLst>
                <a:path w="2748" h="971">
                  <a:moveTo>
                    <a:pt x="0" y="971"/>
                  </a:moveTo>
                  <a:lnTo>
                    <a:pt x="0" y="141"/>
                  </a:lnTo>
                  <a:lnTo>
                    <a:pt x="2294" y="0"/>
                  </a:lnTo>
                  <a:lnTo>
                    <a:pt x="2748" y="141"/>
                  </a:lnTo>
                  <a:lnTo>
                    <a:pt x="2748" y="971"/>
                  </a:lnTo>
                  <a:lnTo>
                    <a:pt x="573" y="971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320" y="679320"/>
              <a:ext cx="989280" cy="430560"/>
            </a:xfrm>
            <a:custGeom>
              <a:avLst/>
              <a:gdLst/>
              <a:ahLst/>
              <a:rect l="0" t="0" r="r" b="b"/>
              <a:pathLst>
                <a:path w="2748" h="1196">
                  <a:moveTo>
                    <a:pt x="0" y="119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5" y="141"/>
                  </a:lnTo>
                  <a:lnTo>
                    <a:pt x="1053" y="141"/>
                  </a:lnTo>
                  <a:lnTo>
                    <a:pt x="2324" y="0"/>
                  </a:lnTo>
                  <a:lnTo>
                    <a:pt x="2748" y="0"/>
                  </a:lnTo>
                  <a:lnTo>
                    <a:pt x="2748" y="1196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560" y="37152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8" y="145"/>
                  </a:lnTo>
                  <a:lnTo>
                    <a:pt x="1072" y="145"/>
                  </a:lnTo>
                  <a:lnTo>
                    <a:pt x="2502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6" y="1042"/>
                  </a:lnTo>
                  <a:lnTo>
                    <a:pt x="432" y="1042"/>
                  </a:lnTo>
                  <a:lnTo>
                    <a:pt x="92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600" y="393696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400" y="353052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600" y="2392200"/>
              <a:ext cx="989280" cy="303480"/>
            </a:xfrm>
            <a:custGeom>
              <a:avLst/>
              <a:gdLst/>
              <a:ahLst/>
              <a:rect l="0" t="0" r="r" b="b"/>
              <a:pathLst>
                <a:path w="2748" h="843">
                  <a:moveTo>
                    <a:pt x="0" y="741"/>
                  </a:moveTo>
                  <a:lnTo>
                    <a:pt x="0" y="105"/>
                  </a:lnTo>
                  <a:lnTo>
                    <a:pt x="2289" y="0"/>
                  </a:lnTo>
                  <a:lnTo>
                    <a:pt x="2748" y="105"/>
                  </a:lnTo>
                  <a:lnTo>
                    <a:pt x="2748" y="741"/>
                  </a:lnTo>
                  <a:lnTo>
                    <a:pt x="2148" y="843"/>
                  </a:lnTo>
                  <a:lnTo>
                    <a:pt x="1689" y="843"/>
                  </a:lnTo>
                  <a:lnTo>
                    <a:pt x="348" y="763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280" y="3230640"/>
              <a:ext cx="991080" cy="349560"/>
            </a:xfrm>
            <a:custGeom>
              <a:avLst/>
              <a:gdLst/>
              <a:ahLst/>
              <a:rect l="0" t="0" r="r" b="b"/>
              <a:pathLst>
                <a:path w="2753" h="971">
                  <a:moveTo>
                    <a:pt x="0" y="971"/>
                  </a:moveTo>
                  <a:lnTo>
                    <a:pt x="0" y="141"/>
                  </a:lnTo>
                  <a:lnTo>
                    <a:pt x="2295" y="0"/>
                  </a:lnTo>
                  <a:lnTo>
                    <a:pt x="2753" y="141"/>
                  </a:lnTo>
                  <a:lnTo>
                    <a:pt x="2753" y="971"/>
                  </a:lnTo>
                  <a:lnTo>
                    <a:pt x="573" y="971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280" y="2925720"/>
              <a:ext cx="989280" cy="429120"/>
            </a:xfrm>
            <a:custGeom>
              <a:avLst/>
              <a:gdLst/>
              <a:ahLst/>
              <a:rect l="0" t="0" r="r" b="b"/>
              <a:pathLst>
                <a:path w="2748" h="1192">
                  <a:moveTo>
                    <a:pt x="0" y="119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9" y="141"/>
                  </a:lnTo>
                  <a:lnTo>
                    <a:pt x="1058" y="141"/>
                  </a:lnTo>
                  <a:lnTo>
                    <a:pt x="2329" y="0"/>
                  </a:lnTo>
                  <a:lnTo>
                    <a:pt x="2748" y="0"/>
                  </a:lnTo>
                  <a:lnTo>
                    <a:pt x="2748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080" y="261612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4" y="145"/>
                  </a:lnTo>
                  <a:lnTo>
                    <a:pt x="1068" y="145"/>
                  </a:lnTo>
                  <a:lnTo>
                    <a:pt x="2497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1" y="1042"/>
                  </a:lnTo>
                  <a:lnTo>
                    <a:pt x="427" y="1042"/>
                  </a:lnTo>
                  <a:lnTo>
                    <a:pt x="8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520" y="496728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20" y="456264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160" y="5670720"/>
              <a:ext cx="989280" cy="303480"/>
            </a:xfrm>
            <a:custGeom>
              <a:avLst/>
              <a:gdLst/>
              <a:ahLst/>
              <a:rect l="0" t="0" r="r" b="b"/>
              <a:pathLst>
                <a:path w="2748" h="843">
                  <a:moveTo>
                    <a:pt x="0" y="737"/>
                  </a:moveTo>
                  <a:lnTo>
                    <a:pt x="0" y="101"/>
                  </a:lnTo>
                  <a:lnTo>
                    <a:pt x="2289" y="0"/>
                  </a:lnTo>
                  <a:lnTo>
                    <a:pt x="2748" y="101"/>
                  </a:lnTo>
                  <a:lnTo>
                    <a:pt x="2748" y="737"/>
                  </a:lnTo>
                  <a:lnTo>
                    <a:pt x="2148" y="843"/>
                  </a:lnTo>
                  <a:lnTo>
                    <a:pt x="1689" y="843"/>
                  </a:lnTo>
                  <a:lnTo>
                    <a:pt x="348" y="759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9600" y="6505560"/>
              <a:ext cx="991080" cy="346320"/>
            </a:xfrm>
            <a:custGeom>
              <a:avLst/>
              <a:gdLst/>
              <a:ahLst/>
              <a:rect l="0" t="0" r="r" b="b"/>
              <a:pathLst>
                <a:path w="2753" h="962">
                  <a:moveTo>
                    <a:pt x="13" y="962"/>
                  </a:moveTo>
                  <a:lnTo>
                    <a:pt x="0" y="0"/>
                  </a:lnTo>
                  <a:lnTo>
                    <a:pt x="2727" y="0"/>
                  </a:lnTo>
                  <a:lnTo>
                    <a:pt x="2753" y="962"/>
                  </a:lnTo>
                  <a:lnTo>
                    <a:pt x="582" y="962"/>
                  </a:lnTo>
                  <a:lnTo>
                    <a:pt x="13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840" y="6203880"/>
              <a:ext cx="989280" cy="429120"/>
            </a:xfrm>
            <a:custGeom>
              <a:avLst/>
              <a:gdLst/>
              <a:ahLst/>
              <a:rect l="0" t="0" r="r" b="b"/>
              <a:pathLst>
                <a:path w="2748" h="1192">
                  <a:moveTo>
                    <a:pt x="0" y="119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9" y="141"/>
                  </a:lnTo>
                  <a:lnTo>
                    <a:pt x="1058" y="141"/>
                  </a:lnTo>
                  <a:lnTo>
                    <a:pt x="2329" y="0"/>
                  </a:lnTo>
                  <a:lnTo>
                    <a:pt x="2748" y="0"/>
                  </a:lnTo>
                  <a:lnTo>
                    <a:pt x="2748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840" y="589428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8" y="145"/>
                  </a:lnTo>
                  <a:lnTo>
                    <a:pt x="1072" y="145"/>
                  </a:lnTo>
                  <a:lnTo>
                    <a:pt x="2502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6" y="1042"/>
                  </a:lnTo>
                  <a:lnTo>
                    <a:pt x="432" y="1042"/>
                  </a:lnTo>
                  <a:lnTo>
                    <a:pt x="92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20" y="4680"/>
              <a:ext cx="654480" cy="6855120"/>
            </a:xfrm>
            <a:custGeom>
              <a:avLst/>
              <a:gdLst/>
              <a:ahLst/>
              <a:rect l="0" t="0" r="r" b="b"/>
              <a:pathLst>
                <a:path w="1818" h="19042">
                  <a:moveTo>
                    <a:pt x="1818" y="0"/>
                  </a:moveTo>
                  <a:lnTo>
                    <a:pt x="865" y="7505"/>
                  </a:lnTo>
                  <a:lnTo>
                    <a:pt x="1743" y="19042"/>
                  </a:lnTo>
                  <a:lnTo>
                    <a:pt x="35" y="19042"/>
                  </a:lnTo>
                  <a:lnTo>
                    <a:pt x="0" y="0"/>
                  </a:lnTo>
                  <a:lnTo>
                    <a:pt x="18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7960" y="14400"/>
              <a:ext cx="300240" cy="6853680"/>
            </a:xfrm>
            <a:custGeom>
              <a:avLst/>
              <a:gdLst/>
              <a:ahLst/>
              <a:rect l="0" t="0" r="r" b="b"/>
              <a:pathLst>
                <a:path w="834" h="19038">
                  <a:moveTo>
                    <a:pt x="119" y="0"/>
                  </a:moveTo>
                  <a:lnTo>
                    <a:pt x="710" y="16419"/>
                  </a:lnTo>
                  <a:lnTo>
                    <a:pt x="0" y="19038"/>
                  </a:lnTo>
                  <a:lnTo>
                    <a:pt x="834" y="19038"/>
                  </a:lnTo>
                  <a:lnTo>
                    <a:pt x="834" y="0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-4680" y="2438280"/>
            <a:ext cx="9149040" cy="1063800"/>
            <a:chOff x="-4680" y="2438280"/>
            <a:chExt cx="9149040" cy="1063800"/>
          </a:xfrm>
        </p:grpSpPr>
        <p:sp>
          <p:nvSpPr>
            <p:cNvPr id="63" name=""/>
            <p:cNvSpPr/>
            <p:nvPr/>
          </p:nvSpPr>
          <p:spPr>
            <a:xfrm>
              <a:off x="23760" y="2487600"/>
              <a:ext cx="9118800" cy="992520"/>
            </a:xfrm>
            <a:custGeom>
              <a:avLst/>
              <a:gdLst/>
              <a:ahLst/>
              <a:rect l="0" t="0" r="r" b="b"/>
              <a:pathLst>
                <a:path w="25330" h="2757">
                  <a:moveTo>
                    <a:pt x="25330" y="2757"/>
                  </a:moveTo>
                  <a:lnTo>
                    <a:pt x="0" y="2757"/>
                  </a:lnTo>
                  <a:lnTo>
                    <a:pt x="0" y="0"/>
                  </a:lnTo>
                  <a:lnTo>
                    <a:pt x="25330" y="0"/>
                  </a:lnTo>
                  <a:lnTo>
                    <a:pt x="25330" y="2757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10360" y="248904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51800" y="248904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34520" y="248760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58040" y="2489040"/>
              <a:ext cx="466920" cy="991080"/>
            </a:xfrm>
            <a:custGeom>
              <a:avLst/>
              <a:gdLst/>
              <a:ahLst/>
              <a:rect l="0" t="0" r="r" b="b"/>
              <a:pathLst>
                <a:path w="1297" h="2753">
                  <a:moveTo>
                    <a:pt x="1297" y="2753"/>
                  </a:moveTo>
                  <a:lnTo>
                    <a:pt x="185" y="2753"/>
                  </a:lnTo>
                  <a:lnTo>
                    <a:pt x="0" y="458"/>
                  </a:lnTo>
                  <a:lnTo>
                    <a:pt x="185" y="0"/>
                  </a:lnTo>
                  <a:lnTo>
                    <a:pt x="1297" y="0"/>
                  </a:lnTo>
                  <a:lnTo>
                    <a:pt x="1297" y="2184"/>
                  </a:lnTo>
                  <a:lnTo>
                    <a:pt x="1297" y="27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56480" y="2489040"/>
              <a:ext cx="574920" cy="991080"/>
            </a:xfrm>
            <a:custGeom>
              <a:avLst/>
              <a:gdLst/>
              <a:ahLst/>
              <a:rect l="0" t="0" r="r" b="b"/>
              <a:pathLst>
                <a:path w="1597" h="2753">
                  <a:moveTo>
                    <a:pt x="1597" y="2753"/>
                  </a:moveTo>
                  <a:lnTo>
                    <a:pt x="0" y="2753"/>
                  </a:lnTo>
                  <a:lnTo>
                    <a:pt x="0" y="2753"/>
                  </a:lnTo>
                  <a:lnTo>
                    <a:pt x="189" y="2162"/>
                  </a:lnTo>
                  <a:lnTo>
                    <a:pt x="189" y="1694"/>
                  </a:lnTo>
                  <a:lnTo>
                    <a:pt x="0" y="427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5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40680" y="2490840"/>
              <a:ext cx="501840" cy="1002240"/>
            </a:xfrm>
            <a:custGeom>
              <a:avLst/>
              <a:gdLst/>
              <a:ahLst/>
              <a:rect l="0" t="0" r="r" b="b"/>
              <a:pathLst>
                <a:path w="1394" h="2784">
                  <a:moveTo>
                    <a:pt x="1394" y="2784"/>
                  </a:moveTo>
                  <a:lnTo>
                    <a:pt x="198" y="2784"/>
                  </a:lnTo>
                  <a:lnTo>
                    <a:pt x="198" y="2175"/>
                  </a:lnTo>
                  <a:lnTo>
                    <a:pt x="198" y="1711"/>
                  </a:lnTo>
                  <a:lnTo>
                    <a:pt x="0" y="282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88"/>
                  </a:lnTo>
                  <a:lnTo>
                    <a:pt x="1394" y="2352"/>
                  </a:lnTo>
                  <a:lnTo>
                    <a:pt x="1394" y="2691"/>
                  </a:lnTo>
                  <a:lnTo>
                    <a:pt x="1394" y="27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13000" y="248112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54440" y="248112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8960" y="247968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62480" y="2481120"/>
              <a:ext cx="466920" cy="991080"/>
            </a:xfrm>
            <a:custGeom>
              <a:avLst/>
              <a:gdLst/>
              <a:ahLst/>
              <a:rect l="0" t="0" r="r" b="b"/>
              <a:pathLst>
                <a:path w="1297" h="2753">
                  <a:moveTo>
                    <a:pt x="1297" y="2753"/>
                  </a:moveTo>
                  <a:lnTo>
                    <a:pt x="185" y="2753"/>
                  </a:lnTo>
                  <a:lnTo>
                    <a:pt x="0" y="458"/>
                  </a:lnTo>
                  <a:lnTo>
                    <a:pt x="185" y="0"/>
                  </a:lnTo>
                  <a:lnTo>
                    <a:pt x="1297" y="0"/>
                  </a:lnTo>
                  <a:lnTo>
                    <a:pt x="1297" y="2184"/>
                  </a:lnTo>
                  <a:lnTo>
                    <a:pt x="1297" y="2753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59480" y="2481120"/>
              <a:ext cx="574920" cy="989280"/>
            </a:xfrm>
            <a:custGeom>
              <a:avLst/>
              <a:gdLst/>
              <a:ahLst/>
              <a:rect l="0" t="0" r="r" b="b"/>
              <a:pathLst>
                <a:path w="1597" h="2748">
                  <a:moveTo>
                    <a:pt x="1597" y="2748"/>
                  </a:moveTo>
                  <a:lnTo>
                    <a:pt x="0" y="2748"/>
                  </a:lnTo>
                  <a:lnTo>
                    <a:pt x="0" y="2748"/>
                  </a:lnTo>
                  <a:lnTo>
                    <a:pt x="189" y="2152"/>
                  </a:lnTo>
                  <a:lnTo>
                    <a:pt x="189" y="1694"/>
                  </a:lnTo>
                  <a:lnTo>
                    <a:pt x="0" y="423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48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5120" y="2481120"/>
              <a:ext cx="501840" cy="1003680"/>
            </a:xfrm>
            <a:custGeom>
              <a:avLst/>
              <a:gdLst/>
              <a:ahLst/>
              <a:rect l="0" t="0" r="r" b="b"/>
              <a:pathLst>
                <a:path w="1394" h="2788">
                  <a:moveTo>
                    <a:pt x="1394" y="2788"/>
                  </a:moveTo>
                  <a:lnTo>
                    <a:pt x="198" y="2788"/>
                  </a:lnTo>
                  <a:lnTo>
                    <a:pt x="198" y="2180"/>
                  </a:lnTo>
                  <a:lnTo>
                    <a:pt x="198" y="1716"/>
                  </a:lnTo>
                  <a:lnTo>
                    <a:pt x="0" y="286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92"/>
                  </a:lnTo>
                  <a:lnTo>
                    <a:pt x="1394" y="2361"/>
                  </a:lnTo>
                  <a:lnTo>
                    <a:pt x="1394" y="2700"/>
                  </a:lnTo>
                  <a:lnTo>
                    <a:pt x="1394" y="278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38160" y="248904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79600" y="248904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6760" y="247968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4680" y="2479680"/>
              <a:ext cx="462240" cy="992520"/>
            </a:xfrm>
            <a:custGeom>
              <a:avLst/>
              <a:gdLst/>
              <a:ahLst/>
              <a:rect l="0" t="0" r="r" b="b"/>
              <a:pathLst>
                <a:path w="1284" h="2757">
                  <a:moveTo>
                    <a:pt x="1284" y="2752"/>
                  </a:moveTo>
                  <a:lnTo>
                    <a:pt x="0" y="2757"/>
                  </a:lnTo>
                  <a:lnTo>
                    <a:pt x="0" y="26"/>
                  </a:lnTo>
                  <a:lnTo>
                    <a:pt x="1284" y="0"/>
                  </a:lnTo>
                  <a:lnTo>
                    <a:pt x="1284" y="2179"/>
                  </a:lnTo>
                  <a:lnTo>
                    <a:pt x="1284" y="2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7280" y="2481120"/>
              <a:ext cx="574920" cy="989280"/>
            </a:xfrm>
            <a:custGeom>
              <a:avLst/>
              <a:gdLst/>
              <a:ahLst/>
              <a:rect l="0" t="0" r="r" b="b"/>
              <a:pathLst>
                <a:path w="1597" h="2748">
                  <a:moveTo>
                    <a:pt x="1597" y="2748"/>
                  </a:moveTo>
                  <a:lnTo>
                    <a:pt x="0" y="2748"/>
                  </a:lnTo>
                  <a:lnTo>
                    <a:pt x="0" y="2748"/>
                  </a:lnTo>
                  <a:lnTo>
                    <a:pt x="189" y="2152"/>
                  </a:lnTo>
                  <a:lnTo>
                    <a:pt x="189" y="1694"/>
                  </a:lnTo>
                  <a:lnTo>
                    <a:pt x="0" y="423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48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280" y="2481120"/>
              <a:ext cx="501840" cy="1003680"/>
            </a:xfrm>
            <a:custGeom>
              <a:avLst/>
              <a:gdLst/>
              <a:ahLst/>
              <a:rect l="0" t="0" r="r" b="b"/>
              <a:pathLst>
                <a:path w="1394" h="2788">
                  <a:moveTo>
                    <a:pt x="1394" y="2788"/>
                  </a:moveTo>
                  <a:lnTo>
                    <a:pt x="198" y="2788"/>
                  </a:lnTo>
                  <a:lnTo>
                    <a:pt x="198" y="2180"/>
                  </a:lnTo>
                  <a:lnTo>
                    <a:pt x="198" y="1716"/>
                  </a:lnTo>
                  <a:lnTo>
                    <a:pt x="0" y="286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92"/>
                  </a:lnTo>
                  <a:lnTo>
                    <a:pt x="1394" y="2361"/>
                  </a:lnTo>
                  <a:lnTo>
                    <a:pt x="1394" y="2700"/>
                  </a:lnTo>
                  <a:lnTo>
                    <a:pt x="1394" y="278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240" y="2438280"/>
              <a:ext cx="9147600" cy="332280"/>
            </a:xfrm>
            <a:custGeom>
              <a:avLst/>
              <a:gdLst/>
              <a:ahLst/>
              <a:rect l="0" t="0" r="r" b="b"/>
              <a:pathLst>
                <a:path w="25410" h="923">
                  <a:moveTo>
                    <a:pt x="25410" y="923"/>
                  </a:moveTo>
                  <a:lnTo>
                    <a:pt x="15377" y="437"/>
                  </a:lnTo>
                  <a:lnTo>
                    <a:pt x="0" y="888"/>
                  </a:lnTo>
                  <a:lnTo>
                    <a:pt x="0" y="17"/>
                  </a:lnTo>
                  <a:lnTo>
                    <a:pt x="25410" y="0"/>
                  </a:lnTo>
                  <a:lnTo>
                    <a:pt x="25410" y="9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4680" y="3201840"/>
              <a:ext cx="9145800" cy="300240"/>
            </a:xfrm>
            <a:custGeom>
              <a:avLst/>
              <a:gdLst/>
              <a:ahLst/>
              <a:rect l="0" t="0" r="r" b="b"/>
              <a:pathLst>
                <a:path w="25405" h="834">
                  <a:moveTo>
                    <a:pt x="25405" y="123"/>
                  </a:moveTo>
                  <a:lnTo>
                    <a:pt x="3483" y="710"/>
                  </a:lnTo>
                  <a:lnTo>
                    <a:pt x="0" y="0"/>
                  </a:lnTo>
                  <a:lnTo>
                    <a:pt x="0" y="834"/>
                  </a:lnTo>
                  <a:lnTo>
                    <a:pt x="25401" y="834"/>
                  </a:lnTo>
                  <a:lnTo>
                    <a:pt x="25405" y="123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3520" y="1371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hapter 4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lk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radio may provide a voice for those who cannot hear their views aired in other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controversial - Howard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uture of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is becoming less popular but has not reached de-regulation as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hip restrictions lifted in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cat programming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is co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Radio will increase in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7324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ureau of Broadcast Measurement (BB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ating service for radio and TV 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vide stations with listening statistics by various age groups and demograp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earching for good recruits - who know and understand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7324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nadian Radio, Television and Telecommunications Com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28600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ing Canadian music an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blish and enforce regulations for radio and television 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gulations deal with Canadian content, airplay, language of broadcast, stereotyping, language, commercial aspect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BC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ouble attracting a young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advertising - you and I pay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rge variety of programs with predictable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“only game in town” in many parts of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ow radio creates mea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signs to create imagery: words, sounds, music and si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bolism and indicies are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as Mo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of 4 bed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f 3 kitc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 of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f 3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haracteristics of Canadian Ra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WA first station in Nor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adian National Railways had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adians liked U.S. programs more than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o unifie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Amplitude modulated waves - bounce of the ionosphere - large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M - Frequency modulated waves - line of sight - 100-140 km, hills are bad. Excellent re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ort Wave - used elsewhere in the world - vary large ra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ble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tellite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ternational Telecommunications Union and band al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 audio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nadian Broadcasting Corp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ada’s national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adcasts on Radio One, Radio Two and on two French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ten the only stations available in rural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dio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ions have focussed on a particular format to gain an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pular radio format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73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 Contempo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 and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um Oriented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 of the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354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tiful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73240" y="6265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ichard F. Lewis</dc:creator>
  <dc:description/>
  <dc:language>en-US</dc:language>
  <cp:lastModifiedBy>Dr. Richard F. Lewis</cp:lastModifiedBy>
  <cp:revision>0</cp:revision>
  <dc:subject/>
  <dc:title>Recorded Music and Radio</dc:title>
</cp:coreProperties>
</file>