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 txBox="1"/>
          <p:nvPr/>
        </p:nvSpPr>
        <p:spPr>
          <a:xfrm>
            <a:off x="685800" y="228600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pter 5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v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sorshi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Times New Roman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tion picture codes still exi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Times New Roman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me Canadian provinces have sensor boar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Times New Roman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sorship and rating vary with public tolera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adian Fil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Times New Roman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tional Film Boa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Times New Roman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lefilm and provincial film development off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Times New Roman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ronto and Vancouver big film sites. Smaller Canadian cities also wo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685800" y="60948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ces between Canadian and US mov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Times New Roman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adian movies expres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Times New Roman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r social uncertaint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Times New Roman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r insecurity in dealing with culture, language and herita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Times New Roman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r geograph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ortance of Mov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Times New Roman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verwhelming experience - darkened theat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Times New Roman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ltural influence of movies; on dress, habits, valu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chnical Herit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Times New Roman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ed on photography and the illusion of mo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Times New Roman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nd came later (1889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685800" y="60948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ree crises which shaped Hollywo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Times New Roman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llywood 10 - Charges of communism resulted in bans for 10 produc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Times New Roman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.S. court bans on vertical integr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Times New Roman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llenge from tele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llywood responds to T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Times New Roman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chnical Innovation: SFX and improved sou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Times New Roman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 innovation - much more daring on social issu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lding of Movies and T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Times New Roman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% of Hollywood’s production goes to TV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Times New Roman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st runs and after-marke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at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Times New Roman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ved to multiscreen with smaller theatres showing many mov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Times New Roman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x office income is split between distributors and theatr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an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Times New Roman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ill the biggest barrier to fil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Times New Roman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truggle is between artistic and budget issu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Times New Roman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ancing sources: studies, financiers, govern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Richard F. Lewis</dc:creator>
  <dc:description/>
  <dc:language>en-US</dc:language>
  <cp:lastModifiedBy>Richard F. Lewis</cp:lastModifiedBy>
  <cp:revision>0</cp:revision>
  <dc:subject/>
  <dc:title>Chapter 5 Movies</dc:title>
</cp:coreProperties>
</file>