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8 Broadcasting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up Canadian Radio-Television Com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unity becomes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langu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to become 60% Cana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o be owned and operated by Can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1 Broadcasting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up Canadian Radio-Television and Telecommunications Com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fined CBC as national broadcaster to create Canadian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the role of cable - service at reasonable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TV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Canadians wa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model for creation and exhibition of Canadian progr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global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rket Canadian TV progr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Tel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ational broadcaster (although PBS comes cl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ly network affiliated stations which sometimes sw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in both countries allowed new stations to go directly to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radio at the out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: comedy to Western to police sh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coms (situation comedies) always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rogram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executives always worry about backl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is generally safe and b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language getting more graphic, TV has followed. (L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ck TV especially on talk TV is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TV sta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and local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TV news networks: CNN, Headline News, CBC Newsworld and C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Networks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C - public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V - largest privat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West Global - reaches large population but not n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more competitiv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ty stations in Canada demassify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TV can reduce demand for movies and liv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NBC and C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joined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S provides programs to non-commercial 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x, UPN and WB are new p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miotic analysis can be used to understand a TV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ers construct a reality from the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examine our cultural artifacts for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% wired for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of Canadian cable services reach Can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 of U.S. specialty services reach Can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&amp;E is the most popular cable channel for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 footage available widely - CNN is often the best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houses produce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orship units down-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 produced in-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ing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specialty channel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s in network sp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Broadcast satellites pose the newest challe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TV increasing in popu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ed the most popular medium for entertainment, excitement, education and believ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book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d morning instead of afternoon newspapers. Forced design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massified magaz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ic sales depend on airplay on music video chan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Hollywood to think of aft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ssified radio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s on Canadian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 stations in Canada, 23 public, 88 pri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% have at least one TV. 25% have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viewing: 23 hrs. per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d lifestyles, new rit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v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tional characters capture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cultural imp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s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V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 guns fire impulses at a screen which “glow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refreshes the screen at 30 frames per second. Film is 24 f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taping TV - you will ge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and computer screens are not the same - different specs on th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TV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arrived in 1952, same patterns as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C originally controlled priv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wler Commission (19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Board of Broadcast Governors to oversee license gr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private broadca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had to be Canadian in nat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5% by 196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F. Lewis</dc:creator>
  <dc:description/>
  <dc:language>en-US</dc:language>
  <cp:lastModifiedBy>Richard F. Lewis</cp:lastModifiedBy>
  <cp:revision>0</cp:revision>
  <dc:subject/>
  <dc:title>Chapter 6 Television</dc:title>
</cp:coreProperties>
</file>