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2600" y="49320"/>
            <a:ext cx="9204480" cy="6865920"/>
            <a:chOff x="-12600" y="49320"/>
            <a:chExt cx="9204480" cy="6865920"/>
          </a:xfrm>
        </p:grpSpPr>
        <p:sp>
          <p:nvSpPr>
            <p:cNvPr id="2" name=""/>
            <p:cNvSpPr/>
            <p:nvPr/>
          </p:nvSpPr>
          <p:spPr>
            <a:xfrm>
              <a:off x="-12600" y="1523880"/>
              <a:ext cx="9204480" cy="4419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-12600" y="5943600"/>
              <a:ext cx="9204480" cy="97164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ccc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22200" y="49320"/>
              <a:ext cx="6110640" cy="1073520"/>
            </a:xfrm>
            <a:custGeom>
              <a:avLst/>
              <a:gdLst/>
              <a:ahLst/>
              <a:rect l="0" t="0" r="r" b="b"/>
              <a:pathLst>
                <a:path w="16974" h="2982">
                  <a:moveTo>
                    <a:pt x="16008" y="1209"/>
                  </a:moveTo>
                  <a:lnTo>
                    <a:pt x="15607" y="1156"/>
                  </a:lnTo>
                  <a:lnTo>
                    <a:pt x="16735" y="1019"/>
                  </a:lnTo>
                  <a:lnTo>
                    <a:pt x="15867" y="966"/>
                  </a:lnTo>
                  <a:lnTo>
                    <a:pt x="16396" y="882"/>
                  </a:lnTo>
                  <a:lnTo>
                    <a:pt x="15536" y="843"/>
                  </a:lnTo>
                  <a:lnTo>
                    <a:pt x="16956" y="648"/>
                  </a:lnTo>
                  <a:lnTo>
                    <a:pt x="15981" y="674"/>
                  </a:lnTo>
                  <a:lnTo>
                    <a:pt x="16581" y="542"/>
                  </a:lnTo>
                  <a:lnTo>
                    <a:pt x="15893" y="604"/>
                  </a:lnTo>
                  <a:lnTo>
                    <a:pt x="16974" y="370"/>
                  </a:lnTo>
                  <a:lnTo>
                    <a:pt x="16096" y="458"/>
                  </a:lnTo>
                  <a:lnTo>
                    <a:pt x="16665" y="264"/>
                  </a:lnTo>
                  <a:lnTo>
                    <a:pt x="16114" y="313"/>
                  </a:lnTo>
                  <a:lnTo>
                    <a:pt x="16903" y="88"/>
                  </a:lnTo>
                  <a:lnTo>
                    <a:pt x="16197" y="163"/>
                  </a:lnTo>
                  <a:lnTo>
                    <a:pt x="16630" y="0"/>
                  </a:lnTo>
                  <a:lnTo>
                    <a:pt x="16144" y="57"/>
                  </a:lnTo>
                  <a:lnTo>
                    <a:pt x="15540" y="136"/>
                  </a:lnTo>
                  <a:lnTo>
                    <a:pt x="14707" y="242"/>
                  </a:lnTo>
                  <a:lnTo>
                    <a:pt x="13353" y="427"/>
                  </a:lnTo>
                  <a:lnTo>
                    <a:pt x="12511" y="551"/>
                  </a:lnTo>
                  <a:lnTo>
                    <a:pt x="11655" y="665"/>
                  </a:lnTo>
                  <a:lnTo>
                    <a:pt x="9909" y="922"/>
                  </a:lnTo>
                  <a:lnTo>
                    <a:pt x="9115" y="1046"/>
                  </a:lnTo>
                  <a:lnTo>
                    <a:pt x="8582" y="1129"/>
                  </a:lnTo>
                  <a:lnTo>
                    <a:pt x="7708" y="1262"/>
                  </a:lnTo>
                  <a:lnTo>
                    <a:pt x="6614" y="1442"/>
                  </a:lnTo>
                  <a:lnTo>
                    <a:pt x="5238" y="1672"/>
                  </a:lnTo>
                  <a:lnTo>
                    <a:pt x="4387" y="1822"/>
                  </a:lnTo>
                  <a:lnTo>
                    <a:pt x="2950" y="2095"/>
                  </a:lnTo>
                  <a:lnTo>
                    <a:pt x="2196" y="2242"/>
                  </a:lnTo>
                  <a:lnTo>
                    <a:pt x="908" y="2546"/>
                  </a:lnTo>
                  <a:lnTo>
                    <a:pt x="498" y="2665"/>
                  </a:lnTo>
                  <a:lnTo>
                    <a:pt x="268" y="2744"/>
                  </a:lnTo>
                  <a:lnTo>
                    <a:pt x="79" y="2833"/>
                  </a:lnTo>
                  <a:lnTo>
                    <a:pt x="17" y="2881"/>
                  </a:lnTo>
                  <a:lnTo>
                    <a:pt x="0" y="2925"/>
                  </a:lnTo>
                  <a:lnTo>
                    <a:pt x="22" y="2956"/>
                  </a:lnTo>
                  <a:lnTo>
                    <a:pt x="79" y="2982"/>
                  </a:lnTo>
                  <a:lnTo>
                    <a:pt x="185" y="2978"/>
                  </a:lnTo>
                  <a:lnTo>
                    <a:pt x="304" y="2912"/>
                  </a:lnTo>
                  <a:lnTo>
                    <a:pt x="370" y="2868"/>
                  </a:lnTo>
                  <a:lnTo>
                    <a:pt x="476" y="2828"/>
                  </a:lnTo>
                  <a:lnTo>
                    <a:pt x="608" y="2780"/>
                  </a:lnTo>
                  <a:lnTo>
                    <a:pt x="820" y="2731"/>
                  </a:lnTo>
                  <a:lnTo>
                    <a:pt x="1001" y="2687"/>
                  </a:lnTo>
                  <a:lnTo>
                    <a:pt x="1274" y="2634"/>
                  </a:lnTo>
                  <a:lnTo>
                    <a:pt x="1583" y="2577"/>
                  </a:lnTo>
                  <a:lnTo>
                    <a:pt x="1997" y="2511"/>
                  </a:lnTo>
                  <a:lnTo>
                    <a:pt x="2456" y="2440"/>
                  </a:lnTo>
                  <a:lnTo>
                    <a:pt x="2967" y="2370"/>
                  </a:lnTo>
                  <a:lnTo>
                    <a:pt x="3845" y="2264"/>
                  </a:lnTo>
                  <a:lnTo>
                    <a:pt x="4533" y="2179"/>
                  </a:lnTo>
                  <a:lnTo>
                    <a:pt x="5966" y="2025"/>
                  </a:lnTo>
                  <a:lnTo>
                    <a:pt x="7624" y="1866"/>
                  </a:lnTo>
                  <a:lnTo>
                    <a:pt x="8992" y="1734"/>
                  </a:lnTo>
                  <a:lnTo>
                    <a:pt x="10346" y="1628"/>
                  </a:lnTo>
                  <a:lnTo>
                    <a:pt x="11404" y="1539"/>
                  </a:lnTo>
                  <a:lnTo>
                    <a:pt x="12242" y="1473"/>
                  </a:lnTo>
                  <a:lnTo>
                    <a:pt x="13164" y="1416"/>
                  </a:lnTo>
                  <a:lnTo>
                    <a:pt x="14182" y="1341"/>
                  </a:lnTo>
                  <a:lnTo>
                    <a:pt x="14989" y="1284"/>
                  </a:lnTo>
                  <a:lnTo>
                    <a:pt x="16008" y="1209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25440" y="887400"/>
              <a:ext cx="833760" cy="238320"/>
            </a:xfrm>
            <a:custGeom>
              <a:avLst/>
              <a:gdLst/>
              <a:ahLst/>
              <a:rect l="0" t="0" r="r" b="b"/>
              <a:pathLst>
                <a:path w="2316" h="662">
                  <a:moveTo>
                    <a:pt x="0" y="565"/>
                  </a:moveTo>
                  <a:lnTo>
                    <a:pt x="79" y="525"/>
                  </a:lnTo>
                  <a:lnTo>
                    <a:pt x="158" y="477"/>
                  </a:lnTo>
                  <a:lnTo>
                    <a:pt x="238" y="446"/>
                  </a:lnTo>
                  <a:lnTo>
                    <a:pt x="418" y="384"/>
                  </a:lnTo>
                  <a:lnTo>
                    <a:pt x="714" y="291"/>
                  </a:lnTo>
                  <a:lnTo>
                    <a:pt x="1271" y="171"/>
                  </a:lnTo>
                  <a:lnTo>
                    <a:pt x="1808" y="61"/>
                  </a:lnTo>
                  <a:lnTo>
                    <a:pt x="2316" y="0"/>
                  </a:lnTo>
                  <a:lnTo>
                    <a:pt x="1848" y="119"/>
                  </a:lnTo>
                  <a:lnTo>
                    <a:pt x="1495" y="198"/>
                  </a:lnTo>
                  <a:lnTo>
                    <a:pt x="1133" y="291"/>
                  </a:lnTo>
                  <a:lnTo>
                    <a:pt x="820" y="367"/>
                  </a:lnTo>
                  <a:lnTo>
                    <a:pt x="471" y="459"/>
                  </a:lnTo>
                  <a:lnTo>
                    <a:pt x="277" y="552"/>
                  </a:lnTo>
                  <a:lnTo>
                    <a:pt x="211" y="618"/>
                  </a:lnTo>
                  <a:lnTo>
                    <a:pt x="127" y="649"/>
                  </a:lnTo>
                  <a:lnTo>
                    <a:pt x="52" y="662"/>
                  </a:lnTo>
                  <a:lnTo>
                    <a:pt x="22" y="644"/>
                  </a:lnTo>
                  <a:lnTo>
                    <a:pt x="0" y="618"/>
                  </a:lnTo>
                  <a:lnTo>
                    <a:pt x="0" y="56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-12600" y="1808280"/>
            <a:ext cx="9204480" cy="5106960"/>
            <a:chOff x="-12600" y="1808280"/>
            <a:chExt cx="9204480" cy="5106960"/>
          </a:xfrm>
        </p:grpSpPr>
        <p:sp>
          <p:nvSpPr>
            <p:cNvPr id="46" name=""/>
            <p:cNvSpPr/>
            <p:nvPr/>
          </p:nvSpPr>
          <p:spPr>
            <a:xfrm>
              <a:off x="-12600" y="2927520"/>
              <a:ext cx="9204480" cy="3268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12600" y="6195960"/>
              <a:ext cx="9204480" cy="719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ccc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38080" y="1808280"/>
              <a:ext cx="8304480" cy="2100600"/>
            </a:xfrm>
            <a:custGeom>
              <a:avLst/>
              <a:gdLst/>
              <a:ahLst/>
              <a:rect l="0" t="0" r="r" b="b"/>
              <a:pathLst>
                <a:path w="23068" h="5835">
                  <a:moveTo>
                    <a:pt x="21754" y="2363"/>
                  </a:moveTo>
                  <a:lnTo>
                    <a:pt x="21207" y="2257"/>
                  </a:lnTo>
                  <a:lnTo>
                    <a:pt x="22741" y="1993"/>
                  </a:lnTo>
                  <a:lnTo>
                    <a:pt x="21560" y="1887"/>
                  </a:lnTo>
                  <a:lnTo>
                    <a:pt x="22278" y="1724"/>
                  </a:lnTo>
                  <a:lnTo>
                    <a:pt x="21110" y="1644"/>
                  </a:lnTo>
                  <a:lnTo>
                    <a:pt x="23041" y="1265"/>
                  </a:lnTo>
                  <a:lnTo>
                    <a:pt x="21718" y="1318"/>
                  </a:lnTo>
                  <a:lnTo>
                    <a:pt x="22534" y="1058"/>
                  </a:lnTo>
                  <a:lnTo>
                    <a:pt x="21599" y="1181"/>
                  </a:lnTo>
                  <a:lnTo>
                    <a:pt x="23068" y="723"/>
                  </a:lnTo>
                  <a:lnTo>
                    <a:pt x="21873" y="895"/>
                  </a:lnTo>
                  <a:lnTo>
                    <a:pt x="22644" y="515"/>
                  </a:lnTo>
                  <a:lnTo>
                    <a:pt x="21895" y="608"/>
                  </a:lnTo>
                  <a:lnTo>
                    <a:pt x="22971" y="171"/>
                  </a:lnTo>
                  <a:lnTo>
                    <a:pt x="22009" y="317"/>
                  </a:lnTo>
                  <a:lnTo>
                    <a:pt x="22596" y="0"/>
                  </a:lnTo>
                  <a:lnTo>
                    <a:pt x="21939" y="110"/>
                  </a:lnTo>
                  <a:lnTo>
                    <a:pt x="21119" y="264"/>
                  </a:lnTo>
                  <a:lnTo>
                    <a:pt x="19985" y="471"/>
                  </a:lnTo>
                  <a:lnTo>
                    <a:pt x="18147" y="833"/>
                  </a:lnTo>
                  <a:lnTo>
                    <a:pt x="17000" y="1075"/>
                  </a:lnTo>
                  <a:lnTo>
                    <a:pt x="15836" y="1300"/>
                  </a:lnTo>
                  <a:lnTo>
                    <a:pt x="13463" y="1803"/>
                  </a:lnTo>
                  <a:lnTo>
                    <a:pt x="12387" y="2041"/>
                  </a:lnTo>
                  <a:lnTo>
                    <a:pt x="11660" y="2209"/>
                  </a:lnTo>
                  <a:lnTo>
                    <a:pt x="10473" y="2465"/>
                  </a:lnTo>
                  <a:lnTo>
                    <a:pt x="8987" y="2817"/>
                  </a:lnTo>
                  <a:lnTo>
                    <a:pt x="7117" y="3268"/>
                  </a:lnTo>
                  <a:lnTo>
                    <a:pt x="5961" y="3564"/>
                  </a:lnTo>
                  <a:lnTo>
                    <a:pt x="4008" y="4097"/>
                  </a:lnTo>
                  <a:lnTo>
                    <a:pt x="2980" y="4384"/>
                  </a:lnTo>
                  <a:lnTo>
                    <a:pt x="1230" y="4979"/>
                  </a:lnTo>
                  <a:lnTo>
                    <a:pt x="674" y="5213"/>
                  </a:lnTo>
                  <a:lnTo>
                    <a:pt x="361" y="5367"/>
                  </a:lnTo>
                  <a:lnTo>
                    <a:pt x="105" y="5539"/>
                  </a:lnTo>
                  <a:lnTo>
                    <a:pt x="22" y="5632"/>
                  </a:lnTo>
                  <a:lnTo>
                    <a:pt x="0" y="5720"/>
                  </a:lnTo>
                  <a:lnTo>
                    <a:pt x="26" y="5782"/>
                  </a:lnTo>
                  <a:lnTo>
                    <a:pt x="105" y="5835"/>
                  </a:lnTo>
                  <a:lnTo>
                    <a:pt x="251" y="5826"/>
                  </a:lnTo>
                  <a:lnTo>
                    <a:pt x="410" y="5693"/>
                  </a:lnTo>
                  <a:lnTo>
                    <a:pt x="502" y="5610"/>
                  </a:lnTo>
                  <a:lnTo>
                    <a:pt x="643" y="5530"/>
                  </a:lnTo>
                  <a:lnTo>
                    <a:pt x="824" y="5433"/>
                  </a:lnTo>
                  <a:lnTo>
                    <a:pt x="1111" y="5341"/>
                  </a:lnTo>
                  <a:lnTo>
                    <a:pt x="1358" y="5252"/>
                  </a:lnTo>
                  <a:lnTo>
                    <a:pt x="1728" y="5151"/>
                  </a:lnTo>
                  <a:lnTo>
                    <a:pt x="2147" y="5036"/>
                  </a:lnTo>
                  <a:lnTo>
                    <a:pt x="2711" y="4909"/>
                  </a:lnTo>
                  <a:lnTo>
                    <a:pt x="3333" y="4772"/>
                  </a:lnTo>
                  <a:lnTo>
                    <a:pt x="4030" y="4631"/>
                  </a:lnTo>
                  <a:lnTo>
                    <a:pt x="5225" y="4423"/>
                  </a:lnTo>
                  <a:lnTo>
                    <a:pt x="6160" y="4260"/>
                  </a:lnTo>
                  <a:lnTo>
                    <a:pt x="8105" y="3960"/>
                  </a:lnTo>
                  <a:lnTo>
                    <a:pt x="10358" y="3647"/>
                  </a:lnTo>
                  <a:lnTo>
                    <a:pt x="12220" y="3392"/>
                  </a:lnTo>
                  <a:lnTo>
                    <a:pt x="14059" y="3184"/>
                  </a:lnTo>
                  <a:lnTo>
                    <a:pt x="15496" y="3012"/>
                  </a:lnTo>
                  <a:lnTo>
                    <a:pt x="16634" y="2879"/>
                  </a:lnTo>
                  <a:lnTo>
                    <a:pt x="17886" y="2769"/>
                  </a:lnTo>
                  <a:lnTo>
                    <a:pt x="19271" y="2619"/>
                  </a:lnTo>
                  <a:lnTo>
                    <a:pt x="20369" y="2509"/>
                  </a:lnTo>
                  <a:lnTo>
                    <a:pt x="21754" y="2363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43120" y="3446640"/>
              <a:ext cx="1132200" cy="466920"/>
            </a:xfrm>
            <a:custGeom>
              <a:avLst/>
              <a:gdLst/>
              <a:ahLst/>
              <a:rect l="0" t="0" r="r" b="b"/>
              <a:pathLst>
                <a:path w="3145" h="1297">
                  <a:moveTo>
                    <a:pt x="0" y="1103"/>
                  </a:moveTo>
                  <a:lnTo>
                    <a:pt x="105" y="1028"/>
                  </a:lnTo>
                  <a:lnTo>
                    <a:pt x="211" y="931"/>
                  </a:lnTo>
                  <a:lnTo>
                    <a:pt x="321" y="869"/>
                  </a:lnTo>
                  <a:lnTo>
                    <a:pt x="568" y="750"/>
                  </a:lnTo>
                  <a:lnTo>
                    <a:pt x="970" y="568"/>
                  </a:lnTo>
                  <a:lnTo>
                    <a:pt x="1725" y="335"/>
                  </a:lnTo>
                  <a:lnTo>
                    <a:pt x="2452" y="119"/>
                  </a:lnTo>
                  <a:lnTo>
                    <a:pt x="3145" y="0"/>
                  </a:lnTo>
                  <a:lnTo>
                    <a:pt x="2510" y="229"/>
                  </a:lnTo>
                  <a:lnTo>
                    <a:pt x="2029" y="388"/>
                  </a:lnTo>
                  <a:lnTo>
                    <a:pt x="1538" y="568"/>
                  </a:lnTo>
                  <a:lnTo>
                    <a:pt x="1111" y="715"/>
                  </a:lnTo>
                  <a:lnTo>
                    <a:pt x="639" y="896"/>
                  </a:lnTo>
                  <a:lnTo>
                    <a:pt x="374" y="1081"/>
                  </a:lnTo>
                  <a:lnTo>
                    <a:pt x="286" y="1209"/>
                  </a:lnTo>
                  <a:lnTo>
                    <a:pt x="171" y="1271"/>
                  </a:lnTo>
                  <a:lnTo>
                    <a:pt x="70" y="1297"/>
                  </a:lnTo>
                  <a:lnTo>
                    <a:pt x="26" y="1262"/>
                  </a:lnTo>
                  <a:lnTo>
                    <a:pt x="0" y="1209"/>
                  </a:lnTo>
                  <a:lnTo>
                    <a:pt x="0" y="1103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762120"/>
            <a:ext cx="914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Chapter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Journalis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terference from Ab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ve 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ertiser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sure from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Gatekeeping in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keepers respon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gatekeeper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s b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Characteristics of Newspap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ver news in more depth than competing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electable rate and con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er wide range of information: news, sports, weather, entertainment, opi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turday papers (in Canada) contain a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Newspapers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 dailies publish 5 million copies a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spapers are the major source of news for most North Americ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tham and Hollinger own most dailies in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National Dai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e and Mail - transmitted by satellite and printed in other cen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ll Street 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7621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etropolitan Dailies: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he Toronto S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all over  southern Ontario and in some places  in Queb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er” coverage than Globe - more pictures, more open lay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Advertising and Newspa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etition from other media, especially TV, radio and fl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ennysaver is also distributing many flyers on Su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mail is also competitive, as is the home shopping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Week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communities in Canada are served by week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ation improvements and mega-stores mean that ads will continue to decline and so will the pap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good place to begin in journal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Jour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urnalists personal values (according to Ganz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hnocent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ment to capitalism and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-town pastor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ism tempered by mo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Journalistic B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ies indicate that most journalists are in the middle-of the road categ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cause news is about change or the unusual, it can often appear to be left-lea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7621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raditions from the U.S. Colonial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e from government censorship and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s media try to mold policy and mobilize public senti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urnalists seek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wants independent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s media react in their own self-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7621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raditions from the Partisan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ernment should not try to control the p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s media are a forum for discussion and deb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s should comment on public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ernment members maligning the press may be unpop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7621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raditions from the Penny Press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rted pyram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eal to every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ver events, seek ne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 society, soci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 important news immediat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ached neutral perspective in repor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Effects of the Yellow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llow journalism characterized by sensational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es with tabloids, like the Sun newspapers in Canada and many in Bri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Variables Affecting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s hole - what’s left after 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s flow and staffing - depends what else happ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ceptions about audience - give them what they w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ility of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Journalism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oratory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N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niversity of Windsor</dc:creator>
  <dc:description/>
  <dc:language>en-US</dc:language>
  <cp:lastModifiedBy>University of Windsor</cp:lastModifiedBy>
  <cp:revision>0</cp:revision>
  <dc:subject/>
  <dc:title>The Canadian Newspaper Industry</dc:title>
</cp:coreProperties>
</file>