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613B-C173-42E8-B7F1-59E319C98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E02A-9400-45D8-A05F-E3C76D08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441C5-276D-4498-97C2-633EB33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F19A-0A6D-4F78-B0D9-A50EDB98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E7DE-E2AD-459F-A20E-C9AA846F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DEEE-2398-4EE9-820D-7DEB7EF0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F469-243F-4A05-BA19-FDF8B224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C599-7E6C-484B-933B-AB9ED65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C0173-0FBB-4DE0-8A61-F8FFB94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A13AA-A9CE-4D87-A574-9619D7AF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0967-AD7D-457F-9BF0-A874C9B7B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27673-AA69-48B2-8788-2A530762D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7C22-E38E-4A1C-BEDD-5B7558B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5E370-F6F3-4A2A-A4B3-3FD33AB8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682AC-C5C4-4173-98AB-DE603F93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DC341-7657-4A10-88C1-DAF26A5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2C412-4869-4EC6-B703-E4FF31EA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35ECD-5DD5-439C-9825-1BA72C59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60C54-16D7-44F7-8EC2-F460D1A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5151A-20FE-4794-B894-70103B2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84C8B-9C59-48CF-A23E-B043357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47C8A-FB0F-4F60-A746-59FBF4E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78D42-379C-4F57-8605-6CB9C5A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B355-3478-4273-85CF-A3482ABF4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953AE-A4DF-4BAE-B5B7-70C9C76A6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DBDED-282B-4E82-ABC1-252ABFD0C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42FA3-4A04-4259-98EB-064B376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5AD82-C0EE-4D86-A8CC-13ADBD9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03D89-AE61-4F76-934C-910E962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34FC53-F811-40B2-ACB6-B79982CA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811A2C-6C77-45FF-ACC6-9B7EA5D4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8018D6-3EF2-4448-B10F-EFCE755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F50939-9363-4567-B596-E2135BE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6C467-B64F-4A06-8370-864957F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7E6EE-EF1A-466A-908D-6521F8FF9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D8727-8990-44C3-A2E5-2F0D792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810A4-0C8D-4572-A75E-8D7836A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B363C-D7DA-484A-B30D-DC9E38896F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928E9-382E-4AEE-8576-A8FFFF268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5FA2-C45E-4CFD-BA90-FAC8344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694D7-63DC-470C-8B81-AD7B7E9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3666-0925-4E72-BE10-25A38109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8AAE-5079-4BC6-AB25-B8222026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DBD67-D57B-443D-836C-A210FFCC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D3FA-D6E7-4F07-9541-AFA7971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0084C-0A9F-4806-8348-D7DC4BCE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1EE3-BEAE-4AE5-8009-1875DA2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208E-95CC-4232-9975-42AA22A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595AE-CCDD-4837-8AD9-10A38C0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AC2F9-B591-46E6-8D32-572CB25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45EBF-A9B8-4AA4-86E4-2DC7E04C1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04425-3D5F-4FB4-A397-CEBCE111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38A43-D58C-4778-9F0E-280B9B1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36774-5046-4ECF-AEFE-E7B8677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B89C2-0F9F-47CC-9591-35DB8A8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821F-5083-4502-BBDE-C41D174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5C3AD-7C3F-4EF0-BF9F-72FC05B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71734-81AD-489C-A84D-73534CD8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5167B-0CC2-4F0F-AACF-B9B3F4D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2EF5-F607-4E09-B934-F370642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3D581-5302-4770-B00F-7CA71F0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33FB7-EDBD-4744-A171-20455769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CAA19-ECEC-4BC3-A1EF-82C9F16C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B1263-6B12-4F79-88A6-1C87808B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325EC-6B2A-4416-90AD-234FCC03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83C3-4F86-46F4-B78D-0110E8A7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7E189-00E6-4B19-9945-94F0D356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7AE09-8C9A-4FE9-83E5-4B151C3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4E74-BCEE-473C-B3FB-EDE23FD6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6731D-F3EF-440E-B604-5A821BF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BB92-5629-430A-88A9-301E5801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C478C-B0EC-4B4C-A985-6202A264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FA93-EEF1-48C7-8687-CE26B89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D0CE6-E520-4C6B-86DB-FC10FE57B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D27-9850-4305-A6A5-A368C7CF6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8B75-70E8-4537-9314-C085964A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2EC8-349F-40EC-8BF3-DA86496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5D1A-550C-4482-BF71-EB966E8A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084C-6643-463F-8FC6-DB3ED481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11E8-525F-4616-9829-8B18170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10CA-5CC6-47D5-9631-ABCD6B2D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029-AC04-4652-828D-26CA8DFA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83FB-F97B-4F8C-8F86-F6F23000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683F-B6F0-4877-BB9F-C6CA00E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6350-C8B1-4CE4-A62C-ADC2F1EA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A502-2171-4217-BA51-5FF08052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4BF-006E-4108-94A5-B1E31A8AFE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3561C-EC4D-4731-9BC3-58A8EE17A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6691E-50EA-47EE-B250-B045ABD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B803A-25E9-4644-9AEE-5C669BA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2ED4-AF16-471F-802D-5DBB432D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B664A-D5B2-49D4-AA99-0DEB6939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CAA69-3401-4189-90A6-4174ADF8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D21EB-F072-49AD-A03A-41D3897B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A0377-1492-4EDB-902B-0922E692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A3205-E671-4D8E-814B-C0AD1EF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305F9-CC24-45CF-AAD8-0C55D321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DB9CA-1867-4229-8543-DEF60CDB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96258-C89D-4200-9A47-53901096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E294A-2655-4555-BE3E-E1D6C7458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7F359-1B74-4D60-A896-8EB5C9449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6070-DE76-4E18-A1B2-31629473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060C8-5962-49C1-91E8-E7A4AF6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88664-0C8A-4A3E-B2A2-82BB5EBC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AF54A-265F-4316-B23B-EAE61D26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64B7D-CC1B-49A7-BB7D-FDF37F5E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5BDAC-CD9D-4AF3-9E93-7BE0EA47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56CD7-C6E0-44AA-B4A5-309F4D9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5351D-E494-46A9-9D95-6AE6FC1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FC8CE-AAAE-4775-9352-DBE16A58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CFE71-CD6D-4380-B5B9-5B8F98C8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1EA63-C22D-4BEF-8F6E-C28AC14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8A04-FB9E-474D-8BCA-70AF8F16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A7D16-FACC-40AD-9E8F-D2224B4CF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18D8-E01B-4FC3-8F69-102B7B107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CECF-67C1-44B1-B7D7-A6BFF43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FE72-F853-44EA-8E3E-7B07977D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414D-FE2F-41FE-A7D3-979C50C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4B1D-F4D9-4DDF-84AA-BA4E92D4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3F08-6D6C-4DEE-9F77-839714A0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A606-3C0C-44E7-AFA2-65F5B5B6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26B0-C95C-4B4A-ACE6-34953C7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358D-132A-4EC9-8F5A-5377C69C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4E37-BB53-4F01-8AF5-9DF63C4E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EFEA-705D-4176-9181-AE759443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189E-F01E-484D-A514-F9864C1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5B81-F673-4023-8A8B-7950377C6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16BC9-57B7-407D-9A48-6EE778B4F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7109F-B748-4099-9819-349906B3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6B43C-570D-4664-9E6B-ACA66B1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44009-576D-42C2-829D-3D83F45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C1F8E-AE13-4538-A157-5E38B2A8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90EAB-CF0E-4800-B307-483CE30D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62A8E-DA2C-4087-97B4-DE7A4BF9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E332-77F7-4EC5-B0CD-70AACC7B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A2E9E-5B65-44BF-8F46-4FAE5DC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D00C1-6E22-4698-9439-F131E2AE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BF305-0693-44A0-BC1B-7C3B220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A5D04-64C6-4721-9F38-882701F3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C22CF-3E09-4C64-AEA5-26A9C3A0A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0F1CEB-1F6E-4BE5-8A8C-0706EF473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591B94-A70A-4582-96BE-0E0E38D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F1038-5F9A-4255-9EEC-07711049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9C0956-B477-4C06-84BC-126EDE79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0EB81-A85E-4CB0-9717-432958FB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B764-2619-4FCC-B789-2F0E5A45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9D9E4-7371-43F2-9713-C85F7957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41D55-6516-49FF-BC0B-B008A015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F175D0-7DD0-4A49-8002-17531B8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559ED-D5DB-4B34-B941-6461C42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A3717-1BC2-42EE-82E2-CE62F74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FC59E-D3AF-4705-A14B-8B8C4D72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FFB51-D8EE-4B7A-920C-E8E948F3D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CAD2-5162-4C76-815C-6666CA5DD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5B5C2-5D06-40ED-9B15-1D3496A9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502920"/>
            <a:ext cx="7620120" cy="823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62106-5151-4995-83FA-3377BBC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9C12EC1-70A1-4A31-BB8E-4FB35B2B82C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D889532-98EA-4302-B588-98B4C2E39DC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D0D5506-A2F7-45FB-827F-D9928979F4E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31413D4-F6B2-4EA6-ACD1-ABAECBD4C7D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5"/>
          </p:nvPr>
        </p:nvSpPr>
        <p:spPr>
          <a:xfrm>
            <a:off x="13712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8BBA1CC-7E1D-4874-9C1B-56A3A589394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3880" y="152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3137488-F6DE-4053-A05E-6E5658C2A42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9CFD150-76A4-4A07-AFED-584DF495E95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CD3F29C-2374-4B5F-A230-702472CA7C9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8ED0DF3-7AB5-4E2D-99DB-4703559F24F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2B7E7D8-6311-4E51-AC51-618C2D2D6FB1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68B100B-3FEF-4223-B432-2A8FBA53B42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5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6FF8621-4DE3-4B66-861F-8C5F2C09F79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solidFill>
            <a:srgbClr val="6d8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adian Eleventh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0" y="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0" y="53352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2" descr="LaudonNoType"/>
          <p:cNvPicPr/>
          <p:nvPr/>
        </p:nvPicPr>
        <p:blipFill>
          <a:blip r:embed="rId2"/>
          <a:stretch/>
        </p:blipFill>
        <p:spPr>
          <a:xfrm>
            <a:off x="0" y="0"/>
            <a:ext cx="1014480" cy="1231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5"/>
          <p:cNvSpPr/>
          <p:nvPr/>
        </p:nvSpPr>
        <p:spPr>
          <a:xfrm>
            <a:off x="9907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7" descr="Arens_Audit_11e"/>
          <p:cNvPicPr/>
          <p:nvPr/>
        </p:nvPicPr>
        <p:blipFill>
          <a:blip r:embed="rId3"/>
          <a:stretch/>
        </p:blipFill>
        <p:spPr>
          <a:xfrm>
            <a:off x="0" y="0"/>
            <a:ext cx="1133640" cy="1494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7"/>
          </p:nvPr>
        </p:nvSpPr>
        <p:spPr>
          <a:xfrm>
            <a:off x="64800" y="6476760"/>
            <a:ext cx="373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8"/>
          </p:nvPr>
        </p:nvSpPr>
        <p:spPr>
          <a:xfrm>
            <a:off x="822600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58B2E89-9469-45F0-9779-494EF1A0947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152280" y="6553080"/>
            <a:ext cx="2819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F488C85-B8C0-44AD-8100-5D1DC70A188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2560" y="-3891600"/>
            <a:ext cx="77760" cy="9231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uditing: The Art and Science of Assurance Enga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: Audit of the Payroll and Personne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Tests of Control by Assertion (Classifi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cation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yroll transactions are properly classifi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quate chart of accou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iew chart of accou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FCE7453-7ECE-4A85-9758-1924D991D09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Tests of Control by Assertion (Tim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371600" y="1981080"/>
          <a:ext cx="7620120" cy="42372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yroll transactions are recorded on the correct d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s require recording transactions as soon as possible after the payroll is pai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date of recorded cheque (or automatic withdrawal) in the payroll journal with the date on cancelled cheques or time reco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3B455FF-7310-47AB-BC00-4C89921C665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roll Tests of Control by Assertion (Posting and Summarization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219320" y="1752480"/>
          <a:ext cx="7924680" cy="4953240"/>
        </p:xfrm>
        <a:graphic>
          <a:graphicData uri="http://schemas.openxmlformats.org/drawingml/2006/table">
            <a:tbl>
              <a:tblPr/>
              <a:tblGrid>
                <a:gridCol w="2881080"/>
                <a:gridCol w="2401920"/>
                <a:gridCol w="264168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ing and summarizatio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yroll transactions are properly included in the payroll master file and transactions files; they are properly summariz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ison of payroll master file with payroll general ledger total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clerical accuracy by footing the payroll journal and tracing postings to general ledger and the payroll master fil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735AB94-18DF-4125-938C-DE47749D1A4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Between Payroll and Inventory 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account classification of payroll can significantly affect asset valuation for accounts such as work in process, finished goods or construction in process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tatement of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allocation of labour to dir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86ECB06-95F1-4CCF-8B30-CDD748E0627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for Nonexistent Pay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procedures for payroll are extended when internal controls are inadeq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xistent” employees could arise in two way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who are no longer working for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titious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B97351D-1227-47F3-AD50-9003E9BA8B9C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Testing for Nonexistent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cancelled cheque data to source documents such as authorized time 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heque endorsements for unusual signatures (e.g. a company name or absence of a signat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s are not practical for clients with direct deposit payments: instead, the auditor could use generalized audit software to compare bank account numbers on deposits (e.g. looking for duplic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7328D82-27C7-4A17-A272-E977E50AD1D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Tests of Details of Balances for Payroll Liabilities (insert Figure 17-3, p5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489F032-1317-44BB-9450-5879D5723E9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liabilities – Materia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rganizations have a large number of transactions involving payroll, often involving large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balance sheet accounts (liabilities) are normally insignificant, except for amounts charged to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C3FE9AD-EE93-4392-A26C-5229677E3718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liabilities – Inheren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risk of fraud exists because most transactions involve c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 objective is often considered most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facturing companies with significant labour component to inventory, need to consider potential for misclassification between payroll and inventory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82689A6-4ED9-4191-AF15-BFE67B6AF72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Liabilities – Control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ntrols for payroll transactions and withholdings are normally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panies use outside service centres for processing payroll: need to consider controls at these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2ADBEA0-5092-402F-8305-F6DD263D497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7 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the payroll and personne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ypical audit tests of controls by asse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impact of outsourcing on the controls over, and the audit of, payro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the misstatements that could be detected by an analytical review of payro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liability and expense accounts in the payroll cycle that are tested using tests of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7CEF852-F4D3-420B-BF57-8C64B714A85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Judgment Problem 17-26, p5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expectations with respect to analytic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procedures by audit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C8D0C48-2C97-4FDF-83C4-3CC1F21BE663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371600" y="1981080"/>
          <a:ext cx="7620120" cy="43434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 detected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payroll expense account balance with previous years (adjusted for pay rate increases and increases in volum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roll expense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70CCD7A-7CE1-4EAE-B41E-721876F2F7E5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1371600" y="1981080"/>
          <a:ext cx="7620120" cy="389916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 det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direct labour as a percentage of sales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commission expense as a percentage of sales with previous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ssion exp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tinu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9CF8A83-C82E-4D7C-8CE9-6D0AB8A2A8D0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al Procedur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1371600" y="1981080"/>
          <a:ext cx="7620120" cy="42674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105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tical proced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misstatement de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payroll benefits expense as a percentage of salaries and wages with previous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roll benefits expense and payroll benefits l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accrued payroll benefits accounts with previous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rued payroll benefits and payroll benefits expe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C747D5A-4198-48F8-81AB-2ED887C7C6B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 for Amounts Withheld from Employees’ P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balance with the payroll journal, the withholding remittance form of the subsequent period, and the subsequent period cash disbur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nal controls are operating effectively, this addresses cutoff and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8AD138C-F592-44D6-9B32-8FF0A65ECBDE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 for Accrued Salaries and W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cutoff and valuation depends on company policies (should be followed consistently from year to ye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cutoff and valuation by evaluating the reasonableness of the method and then recalculating the client’s accr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7FF68E5-5306-497E-B9A5-E6837FAAB35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 for Accrued Com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ay be difficult to verify because there may be different types of agreements with salespeople and other commissione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ature of the commission agreement and then test the calculations based on th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method of accruing to pri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E5F7BA3-76BC-4797-992B-25DEAA00DA3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 for Accrued Bon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of year end accrued bonuses may be highly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amount to authorizations in the minutes of the board of dir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06633FF-F961-4915-9141-86A34387F9C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of Detail for Accrued Vacation Pay, Sick pay, or Other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policy, or procedures used in the prior year, or legal requirements (such as for pension and unemployment insuran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culate the recorded amounts in accordance with the method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615F5F2-0EFD-4916-8939-DCCE04AB8CE9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7-22, p.5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ome practice with the assertions as they relate to accrued payroll and the liability for withholdings and accrued employee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C48A7AE-C8EA-4080-9C59-137A71BB4C2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and Personnel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cy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ies, wages and employee benefits are a major expense in mo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ur is an important component in the valuation of inventory in manufacturing and constructio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mounts of company resources can be wasted through inefficiency or stolen through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15E60F4-ABF2-44C9-B13F-E77051905F5B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Detail for Expense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little additional testing of the income statement accounts is done beyond the analytical procedures, tests of controls, or related tests of li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FDBCD65-AB2D-43C1-8687-BA128677B1CA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and Personne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hi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file changes (semi-permanent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keeping and payrol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of 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withholdings and benefit remit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C4085F2-14A4-4431-98A1-0B6B04F891C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Tests of Controls for the Payroll and Personnel Cycle (insert Figure 17-2, p5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2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83794DC-B616-4412-9339-648BE026E2EF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Problem 17-20 (p. 5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ontrols that could prevent mis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udit tests that could help detect mis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5160" y="6477120"/>
            <a:ext cx="3733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8226360" y="6437160"/>
            <a:ext cx="762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7717550-668A-49AB-8F96-7AEB98C3D0E6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Tests of Control by Assertion (Occurr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371600" y="1981080"/>
          <a:ext cx="7620120" cy="394668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Recorded payroll payments are for work actually performed by existing employ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employees existing in the computer data files are accepted when they are ente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printouts of rejected transactions, or determine whether invalid entries are rejected at point of ent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DCF8E0C-85F8-42AF-90C0-2861A56F11E7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Tests of Control by Assertion (Complet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371600" y="1752480"/>
          <a:ext cx="7620120" cy="42973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6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ness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xisting payroll transactions are record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roll cheques are prenumbered and accounted f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a sequence of payroll cheques, or conduct sequence gap tes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D7FCFD6-D00C-444E-B1AE-25DCFD01BF34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roll Tests of Control by Assertion (Accurac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371600" y="1981080"/>
          <a:ext cx="7620120" cy="394668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-related audit 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intern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test of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racy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ed payroll transactions are for the amount of time actually worked and at the proper pay r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ization of wage rate, salary, or commission r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e pay rates with union contract, approval by board of directors, or other sour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Date Placeholder 3"/>
          <p:cNvSpPr/>
          <p:nvPr/>
        </p:nvSpPr>
        <p:spPr>
          <a:xfrm>
            <a:off x="13716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7 Pearson Education Ca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712D011-07D5-43FA-87B5-56B0146A8302}" type="slidenum"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8:14:52Z</dcterms:created>
  <dc:creator>Ingrid</dc:creator>
  <dc:description/>
  <dc:language>en-US</dc:language>
  <cp:lastModifiedBy>pacoady</cp:lastModifiedBy>
  <dcterms:modified xsi:type="dcterms:W3CDTF">2010-03-03T18:26:38Z</dcterms:modified>
  <cp:revision>84</cp:revision>
  <dc:subject/>
  <dc:title>AK/ADMS 3511 - Management Information Systems – Session 5</dc:title>
</cp:coreProperties>
</file>