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AA76-36AD-4223-B698-E4D146E75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A9D2-C51E-4E1D-A5A7-1AF571D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D1E8-1070-4FC9-A19B-6F3FDB69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08766-00E2-470E-B156-9437997C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40E28-36FF-4F5D-9FA3-3B093B37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1069-2DFB-499A-A814-A7ED260A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8545-3B8C-46C9-B59F-23847A5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192A-6867-463E-98CC-9457CF1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4296-50C1-4065-B980-FC69C37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97CA-0451-48B2-BAFF-DB0A1FA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D207-83CD-483C-AB18-86D1F0017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E6FD4-63A3-4D06-BC41-985AE24FE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D668-21D5-46FA-8E3A-AE23651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48D50-E9EA-4648-8E89-DC7E1C7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F5091-0422-4F3F-94E1-4E268DC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7398E-F708-4250-8758-2011815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D0F26-41E4-4262-B658-F204BAE1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C5EF8-F905-4BCA-A5E8-A53C2D6F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5EACC-934D-4BBE-A2D9-89BFF256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02931-4BD3-4784-8D05-CD4D87B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3C341-B4F9-4C1D-ACBB-3E9022A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DB1D8-AF07-4DDA-9A26-2834E4EF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14FB0-7E32-49DF-9DE8-3BCE838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5DDF-3FB6-4E0C-8915-598C1C6B1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83841-37DA-4E02-82F3-30086A613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82C8D2-6297-4A3D-8CC2-93801F4B65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06D90-3E6D-4638-B752-8294F77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6869E-7BCD-4C37-A648-D0202E09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28282-DE2B-4760-B464-39A2E0DB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990F8-3030-4D7D-9991-F6BAD8AB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266F6F-9613-4748-82B0-51893922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7EF277-3F07-4E09-98E5-0F6D0A4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B80E16-EAB8-44AD-ACB1-6F1F63C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F7924-206F-4146-A3C8-19D3B4EC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1504B-8358-4EB9-915E-022FD5980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8F01B-ECC8-4A59-9C97-C71E9A0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C63E13-F8B1-4397-B89C-C9BEB03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5DF21-543A-4F16-8B0B-7A5DED134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D69D-24E2-4700-AD28-207D93462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C947-CEBA-4EBA-A815-309F9B1C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9385-4CA4-4E6F-8903-8429B10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86A1-90C4-4E72-A620-6360C3F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919F-AF0B-469B-9165-5FE9CE42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9A080-6D96-4857-93BC-BB457193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ECE1B-3614-40CB-9283-CBFA2AF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02EE4-8630-4F3C-8BE5-39B278C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C183-5A56-4A2C-9984-351F0DC5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F46C-BBA7-4F4E-93DA-1E49BA23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1F3C-591C-4188-BED8-58F2851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9451-967D-4E78-B2B4-5FDFA38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1D431-52A8-4936-86B8-FBFF1ADAB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EF7A5-D343-4063-A3F2-D8D44CDB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E2124-D5EE-4C35-AF9D-BC58E8A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844F-72A3-4917-9710-91F4C18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35AA0-37A0-4472-BE62-E079E97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ADE72-4F2A-4F5A-B42D-FF0ADFE9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DC301-B806-4BEC-8543-1189B4FB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9FC05-047F-4218-A2A9-A2519F5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1E01C-0D4E-418B-8B93-2247513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97871-F09B-4FAC-8B5B-40F617D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D2421-0E9E-4075-A6FF-E5113F1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FC13-1A5D-4E1C-99A5-DC1EA48C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3B4C2-48B2-4B40-A2A0-19F39E8B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EF33F-8199-4973-9261-CB9ABBAB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CF23-3BBD-41A8-A2B0-16A059D2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2143-152B-4007-B5E6-2CDFCAFA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E1371-3863-4712-843B-B8702E1A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7B61-2C84-4362-A893-245733D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0FEF-ECE2-4B25-8C92-31CF7361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65D6E-8C42-4BF3-846E-E6E72D3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6CC3-363C-45A4-8650-6BFF772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EC98F-A025-4AD5-BC3D-4393BA3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6454-B0E0-48B3-AC9F-1A61A3A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B8A5-95F6-4562-952E-EEE75EBC3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D22E-A93D-4877-9AA1-7074BE43F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8F3D-17C3-4FBD-849B-6A8B1B5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C4B-4757-4865-A142-D32F5519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E5F-85D1-4EE4-A03A-D105C19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C18-ECDA-4A90-B7E6-F31BCF02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6156-1E36-453A-89C2-E72C2CE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26D-D53C-47AF-AFD9-FB9E4E42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BA5-B004-4700-AAFA-56F0BFD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1D4B-5292-48A1-9FB7-4A8C8A9A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454A-0F32-463D-8A76-D1CE555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01CC-70E6-4598-BEE7-5FB11A3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392-009D-423F-92AE-D250D2FF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3B1E-6C2D-4979-B2A8-F03B9A5E9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B501C-209D-4861-96FE-C74F4F9B8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44C86-4A25-46BE-8888-0669644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BC5D1-FD5B-40BA-ABC4-8C209766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C8E0-8D44-48A0-8A03-928CF256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80F96-421A-42D9-A626-DA69FE23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34050-14EB-4A2D-8AF0-114AB8B0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5AA69-E1C2-4653-AB10-E4DA7985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AB5AE-8658-42BA-B342-5BD4E9F2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B955B-5AE0-4BD1-AA98-51EF3FC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935F0-D7A1-4421-9ACA-C20B8DFE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46211-A108-40FD-822A-F8B7152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E7952-6324-4691-8866-03F5CF6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9A02F-2020-40BA-B96F-3A8EB74D4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A8577-516D-41E2-AD17-829EB0E5A8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715B-4416-4789-BEF1-B73605B8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B75B6-4908-4365-9041-C53059A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59B73-291A-48F7-9521-1383D72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3BC5F-6988-448D-8F3F-460C1246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FE816-AD14-42D0-8FD8-A42D5B6C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FBBCB-D910-49C9-BFE8-6CB35340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C4219-7632-4BA5-AA3A-C5101AD5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24C5A-A70C-4839-880D-9AB50FCA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09B3C-10DE-4BDC-B845-C9CD3D3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106DF-1797-433E-9F78-5B75708D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FCCC4-9FBB-41AA-8327-92AD5352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AC78-DC34-4127-9758-C8AB0F80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EE69D-34B3-4628-B448-8CAE23100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399D7-476B-4763-8AB7-29D7D606D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0854-4D5A-4F5F-A1A5-9D1C2D35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2350-0C52-47D2-8086-D9FF180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BE33-8442-494F-B711-BC7859D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339B-D89E-448D-A4FF-870C7D2C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F564-56BA-4645-8D84-3B5CF280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0B426-F5C7-4835-A0AE-BAC8960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484D-D643-4D5C-8D5A-DE939748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8A69-77DC-4B2F-9C1B-0242440C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2F60-A670-42BC-8048-BD872BB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462E-496C-4160-9600-716D2A7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4704-525D-4C34-B53D-4537B0C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01ED-D26B-423F-8812-8494375EF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8E8BD-6EF3-449B-B74C-6BA4C4909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996E9-3DFD-474A-8AC6-A22F3671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CC018-A802-4CAC-B873-8917A917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BFB43-4E3C-42F1-A74A-BD09A17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39C3B-C214-4674-BA34-4D65331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267DC-C373-4102-8E9D-425EAFFF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956F2-2C69-452F-AE6C-DC5585E9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5300-4375-4CFA-A0A9-21D25F07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BB7AE-9F9A-412D-ADD0-F3B2D7E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60B2A-0431-469F-B7D1-D37AE1D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1BDE7-3E30-4190-8399-DC495C1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7648F-04B6-45D4-BBF0-197B73A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B555E-9327-439C-89A7-03CBECA95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7500E-BFD2-4BE6-B8CA-CCA628F00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8B5A32-A333-46D4-9053-5690F94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228F4-A264-4ED3-8609-EFD6864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F3801-B378-4863-A75B-B4C7B15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9FA6F-F409-4B1D-BB63-2BD37D85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4C21-D1B2-40C0-9AAA-EF037C7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43703-D4F8-4FEE-A5BD-B0E8B699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3FB793-9D3E-44EC-BB97-ADA03864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7C92F-95CE-4C38-A003-A68244E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48723-F8BD-454F-9523-BB676AE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E6E5B-CD39-40EA-BFCE-ED2D9A8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5866C8-D710-41C1-A618-FF341E2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D21983-F928-4DB1-B935-5EF500318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14D4-FF64-4A50-AD4B-E104B623D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56D6-8125-47BB-8CBB-E4F1C8B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336E-C092-496F-A68A-FF8A7FED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5B3A8C9-1766-408B-AD9F-04F13AC6320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644773F-C7BC-44FB-AB6D-9D2486D6B02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4ECD679-9445-4044-9662-59A2E94711C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BD556EF-FBE6-4731-AB52-4C8B9827593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DB7E15A-1F6D-4485-ACAC-9E1B1B04FAF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FAF7-F744-4A13-B773-23B12E3DF2C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15A695CD-F951-482C-B9B5-69D30A4A9B5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16F7AE7-4BF0-4106-BCB5-8973FB146A9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7974D407-DF4C-4555-91BF-483D0962865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7B06C0B-B6CD-4B29-A953-0F8999C525C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B4EACA0C-ED71-44FE-ADF2-891BD473A33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60C5A15-766B-4886-B101-7BBDC20BEFC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8551F1E6-5834-476A-B2B4-3706BA48699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B9A-6447-4F74-A859-3AC0DCF9C9D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: Audit of the Inventory and Warehous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Procedures for the Inventory and Warehousing Cyc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371600" y="1981080"/>
          <a:ext cx="7620120" cy="3638520"/>
        </p:xfrm>
        <a:graphic>
          <a:graphicData uri="http://schemas.openxmlformats.org/drawingml/2006/table">
            <a:tbl>
              <a:tblPr/>
              <a:tblGrid>
                <a:gridCol w="2895480"/>
                <a:gridCol w="47246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extended inventory value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s in compilation, unit costs, or extensions that affect inventory and cost of goods sol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current-year manufacturing costs with previous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unit costs of inventory, especially direct labour and manufacturing overh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Date Placeholder 3"/>
          <p:cNvSpPr/>
          <p:nvPr/>
        </p:nvSpPr>
        <p:spPr>
          <a:xfrm>
            <a:off x="1371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75B0D16-028D-4526-BEB7-7446CC0CBCD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9-20, p. 6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ratios for analytical review of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1D85CF7-B6A3-46D5-AEB7-16774FF938B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Tests of Details of Balances for Inventory (Insert Figure 19-5, p.6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308541B5-B0C4-478E-88CC-29FE5A201B5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hysical Inventory Observation: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random sample of tag numbers and identify the tag with that number attached to the actual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ventory is not tagged (e.g. scanned), may need to select a location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whether movement of inventory takes place during the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EC99AB7-3664-4197-B1DF-A10233512B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hysical Inventory Observation: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inventory to make sure it is tag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ags are not used, the auditor may need to examine exception reports identifying locations/items not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ire as to inventory in other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3DA49901-28C7-4240-BB47-46CA266BBB7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hysical Inventory Observation: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unt client’s counts to make sure the recorded counts are accurate on the tags (or as recorded in the computer system if recorded into hand-held computer devi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hysical counts with perpetual inventory master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lient counts test-counted for subsequent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833F6FE-67A1-4751-99C7-B3DBD5FCFA3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 of Details for Physical Inventory Observation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inventory descriptions on the tags (or in the handheld computers) and compare with the actual inventory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whether the percent of completion recorded on the tags (or job cost records) for work in process is reas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0A6EDADB-288B-41D3-A434-16682599ED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hysical Inventory Observation: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 the working papers for subsequent follow-up the last shipping document number used at year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 inventory for that shipment was excluded from the physical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hipping area for inventory set aside for shipment but not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imilar tests for receiv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F4B9F49E-E320-446D-9859-E9DC9252D90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hysical Inventory Observation: 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obsolete inventory by enquiry of factory employees and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lert for items that are damaged, rust- or dust-covered, or located in inappropriate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E95F9F0-FC53-4B8E-83B1-91DD0F9D021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 of Details for Physical Inventory Observation: Rights and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ire as to consignment of customer inventory included on client’s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lert for inventory that is set aside or specially marked as indications of non-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30EFBBC6-A98D-4D78-8B45-DA19064130E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9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mponents of the inventory and warehousing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ive different parts of the inventory and warehousing cycle that are au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each of the following types of tests in the audit of inventory: (i) analytical review, (ii) physical observation of inventory, and (iii) pricing and compilation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relationships among the tests of different cycles affect the audit of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5D4C29D2-3F83-467B-B289-7184B52BD15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 Problem 19-21, p. 6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purpose of observing the physical inventory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tent of reliance on outside specialists during the audit of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3EC5DD6-E9CC-4E91-8CCF-A1D6003947A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: Detail tie-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compilation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quantity times the price on selected items (or the entire inventory if using generalized audit software or other computer assisted audit softwa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 (or test-foot) the inventory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totals to the general led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55C1978-F354-45CC-8236-4800260CB16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: Exis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inventory listed in the schedule to inventory tags (or to computerized records of the count) and to the auditor’s records of test counts for existence and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AE0D37DD-1A32-469C-BDAE-23DACDC831E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 :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for unused tag numbers shown in the auditor’s working papers to make sure no tags have been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for the tag numbers to make sure none have been de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hand-held computers have been used, reconcile hash totals or other control totals at the end of the count to final inventory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1989075B-5782-4262-BD0F-98D18FBA61C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inventory listed in the schedule to inventory tags (or computer files) and auditor’s recorded counts for quantity and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price tests of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6967850-595E-4BBE-8E7D-28C995E075C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 : Clas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classification into raw materials, work in process, and finished goods by comparing the descriptions on inventory tags and auditor’s recorded test counts with the inventory listing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19B04F4-38E8-439A-A14C-B1B9BE475D8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s for Pricing and Compilation: 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est of lower of cost or market, selling price, and obsolesc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1AEA7BCC-133F-440E-992D-7A7A3DE501D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s for Pricing and Compilation: Rights and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inventory tags identified as non-owned during the physical observation to the inventory listing schedule to make sure these have not been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ontracts with suppliers and customers and enquire of management for the possibility of the inclusion of consigned or other non-owned inventory, or the exclusion of owned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F68FC417-EBCB-4299-AE03-6951C2E7586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 of Details for Pricing and Compilation: Presentation and Dis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financial statements for proper presentation and disclosure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disclosure of raw materials, work in process, and finished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description of the inventory cost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pledged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significant sales and purchase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534AE562-6F63-4123-A982-3DE8BA9E85A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9-22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 6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monetary unit sampling (MUS) to the audit of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sults of the tests to determine whether the book value is miss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670D066-C5E8-4433-A5F3-D5D8ADCFC08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Inventory can be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be a major item on the balance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items could be at different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diverse items are included (jewels, chemicals, electronic p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needs to consider 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lient may use several methods for valuing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0ECC564-3343-4709-9045-4E1EA667972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relationship of Various Audit Tests (Insert Figure 19-6, p. 6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B179EEB3-282D-42FB-B705-AFB0F814245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in the Inventory and Warehousing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urchas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ne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inished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 finished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58700F8-9134-4D4E-BE3F-9AE64927F40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Parts of the Audit of Inventory (insert Figure 19-3, p6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B8D08B06-F3E0-4323-A992-89C1BABA557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Cost 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ccounting systems vary more than the other transaction cycle areas due to the wide variety of types of inventory and the differences in level of sophistication required by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C881339-3ACA-4263-BBCE-039038BCB98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 Accounting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ontrols that are related to the physical inventory and the compilation of the costs of that inventory from raw material requisition through to finishe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into 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ontrol over inventory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over relat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D709FD0-3126-4C4F-94A7-008BE656B1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ests of Controls for Cost Accounting (insert Figure 19-4, p6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756D227C-234C-48B2-AE25-2DEE01E60A3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Procedures for the Inventory and Warehous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371600" y="1752480"/>
          <a:ext cx="7620120" cy="4614840"/>
        </p:xfrm>
        <a:graphic>
          <a:graphicData uri="http://schemas.openxmlformats.org/drawingml/2006/table">
            <a:tbl>
              <a:tblPr/>
              <a:tblGrid>
                <a:gridCol w="3352680"/>
                <a:gridCol w="426744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gross margin percentage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statement or understatement of inventory and cost of goods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ventory turnover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olete inven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unit costs of inventory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/understatement of inventory. Over/understatement of unit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Date Placeholder 3"/>
          <p:cNvSpPr/>
          <p:nvPr/>
        </p:nvSpPr>
        <p:spPr>
          <a:xfrm>
            <a:off x="1371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85C58810-F569-4429-B845-224CE4684C1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35:26Z</dcterms:modified>
  <cp:revision>65</cp:revision>
  <dc:subject/>
  <dc:title>AK/ADMS 3511 - Management Information Systems – Session 5</dc:title>
</cp:coreProperties>
</file>