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EC1C-B07D-485B-B084-837A51F2CA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E08A4-BC66-40B5-AF28-40A11EC9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2A515-8C77-4B28-A44B-C82EE388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409E5-316F-4199-A56B-F90AC044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DB7C7-6E4D-4643-8029-271C4222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43355-7820-4037-ADA6-F37081A8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7FD2E-BF3F-4E76-B2D2-6935F3FB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F2D3C-D747-425D-8501-93CEA858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ED8FD-4F0D-409E-B688-9D672B32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9598B-D457-4199-B8CF-73B2F466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1F6D3-0C38-44E0-BC3B-C626DE5416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801D8-C301-4FE9-BE6F-69A21BECF9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3B64E-4314-4355-9417-6EB7014C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1E6801-C89D-4398-9521-9CEFF9AA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02D722-4C9A-4D42-8046-EAC6B733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02B91-EE19-403C-AFEA-91E7804C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8AC2C3-DA67-4E1A-B593-DFEE6861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589B70-E9AB-4F64-B220-C8320545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A3EA4-DBBF-489E-965A-C2A8429E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95D0F7-9EE1-4771-A47C-74010AB7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D16D6-ACE9-42C8-B85E-3259DC41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1C113-52C5-4A53-B2FE-6E22644A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E6238F-DFC9-4EF4-B6DD-5EB71227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68DDA-B874-4BAF-BBF6-C20B7BABAA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482D38-E215-4944-9D2A-22EC868FB1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A581B0-100F-471D-AD7B-41E49BE7B9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D8FEC0-A353-416B-8493-843BBA64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F72846-58F6-4B8D-B943-8CE4E3FB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AD4F2A-7E31-4974-9C5E-3C19C779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C3B000-EBB2-4748-BAA9-037827CC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A89A0B-FBD9-46B9-AB48-6C6D4076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F1E1FF-3C6B-49AC-8013-E5CC6584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66ECB4-FF13-48C4-A935-A0F1698C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FCC411-940A-4D99-9C23-5BEEE582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8C600-F437-4A2A-9A61-29E9627BA9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EB6939-0137-4BD2-855B-32D97970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05FEF6-D25F-40B8-B153-BD10016C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55A944-2156-41F7-A34F-EF0DE49282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94919-E3E5-459F-B210-8C9909C6A9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90B31-6E4E-4E0E-914F-20360A80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123F0-DCC7-4BD4-BD93-460CF5F5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E4D84-2191-40F1-B600-0AA9A7B0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9795C-C050-4280-A997-D62B2708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802DB-45EA-4E88-8943-874E785A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EFB87-52EC-4539-BFC0-45F26A4E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2661B-1860-4158-9101-7EF44534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3D02F-D8D8-4524-9C14-71ED1A5D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D28D2-326D-4D09-9167-ED3F5538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2663E-F117-4009-ACC6-71A21964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6018B-66D4-468F-8150-CFB61250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1028D-FAED-4A5A-BBD1-89C5A7B7AB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D22B1-005A-4299-B74E-338F36E9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BD7D9-81AD-4B25-A4E1-D96AD15A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DF537-1642-4E2B-9F6A-04B2714D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BE964-5F34-4CC1-A704-EC494107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C7766-1F1C-46B5-BB1D-79E88A4B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9A63-5597-4828-9081-3126DE20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DB3BE-2652-4D21-ACE1-A1CCAFD1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B2CD0-050B-49C6-A017-BEA6A487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803CB-C01C-4F9A-9B07-99A0B8E2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FBF9C-7E2F-4721-AEEB-11CC48FF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0F4EB-00B2-4B26-AD95-55F45C7E89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58C2-5B59-4711-8E36-D5224010A8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C905-86AE-4DA3-8DFD-0BA52D8F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4BD1-FEBF-42D6-8314-2FD63A6D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5886-5FF2-40F5-AD2A-6579CC20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DED8-4A18-4E3A-9A30-C5C7AA94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6D8C-D14D-42E5-BDE3-ED85DFB3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2811-6A01-4E52-9E47-5C254017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6FE1-CD26-444F-A0BB-5BE3A7B0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8792-EC3F-4FC5-8BC3-8C1B8283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49D6-1B52-4E51-8569-26B3707B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DE07-17C6-49A4-A0B9-9D5E1129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47A9-1B8D-4162-92D7-9FD510D9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5238-68B9-4C19-866A-6D3188DA37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3927B-1702-4888-BBA7-F342F7A6F9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4AF9C-877F-4E58-A05D-E6FC9C52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F3321-DEDB-422A-AF90-0A6085DB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86832-08E7-4EE7-A168-1158BF09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AA74F-73A8-488F-8596-C0FED4D3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13665-5834-4648-A179-F1052938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2BC1D-A986-4E71-858F-E7906541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725E1-53DE-4CC1-B2A5-1863E601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7264F-9FF4-4F5D-A58A-465AA706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E8F09-39C0-4784-9D7F-C682091D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B5931-13A6-4041-9602-2DD70138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59489-4213-47A7-89F9-471C96D1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1D59A-4C97-42E3-89C7-6B3D7172C5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3B5C25-19D6-428B-AFFF-248DC0FFD0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FC9A-A879-46D7-AE55-3E9FD09B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34AFAB-527F-412C-85C9-AF595041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A5F18-BA59-47F6-A51A-F671B1D9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00D5A8-C23B-4CD8-BD31-1726D10F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BC8875-B059-4787-B0E0-68CAFD97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EE4B85-C2F0-4A98-AB83-F96ACFA4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FFD5A8-33E6-4DA2-9D70-C7699C07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E6AF45-B9C4-494D-B781-A41B788A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4D2A10-488E-4292-828E-17225675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F09D45-32D8-4504-9255-8C5D1C4F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B470BC-AEEB-4ACE-B026-40E73E03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A289-7350-4AF2-A881-037DD12C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0ADC36-79B2-4477-87F1-B8F905E98A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C6E6D-D533-4787-9552-3D771B246F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66DBB-C51E-42AC-90B2-26E60B7C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DB0E6-8C17-4E92-AFA8-E7E97563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2FAAD-11F0-4978-9B02-F921EF3D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15998-0282-4A3E-9562-45000F21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DD12C-C99A-45D6-BF7F-D5B37F84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1EF5C-1A64-4B27-A670-67A463F9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6A5D3-1DDA-4C8F-8217-0AD71F1F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C986B-C996-452C-948C-8C6EF9E2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C3FF-E04B-4A29-9F4F-5B9EC09E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89BBF-7E3E-4CB0-8DB1-A9881902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23C5A-72FA-432C-B9A7-39BA2B00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B18F-CFC0-45AD-B934-3D86E9AE23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59DD2-F92F-4737-A065-F6E86C82D9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E78B5B-80BD-4D98-93B5-E351ED38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11ACC-7178-4757-90FA-159AD384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2AA5D-E1EE-4DC4-97DF-BE8F93AB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90676-7AA0-4349-A360-28C1E912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C9B64-C65E-48C3-AD9E-6BC9CBB9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98F95-C7DB-4C92-8B80-0898C349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560C-A5CE-4D7E-AECC-4761E09C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7440E-F923-488F-A331-B71503CB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B7225-3DEF-4C17-8EB1-C13F7AC4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0A38F-9DBC-48E8-B587-D4BCFBD3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17F4F-78BA-4E50-8D9F-D292B14F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0174A-9034-44A2-84CE-CD62DA80F5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C266C2-DF4D-4437-8F12-F6B216DA24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4325A3-CE09-41BB-8990-B496144F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AEA8F5-0B89-4E0E-AEAA-4FBC3105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3D1288-CB80-4AE0-B317-F9DF7E42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E71D75-60A3-4241-9A59-7249A69B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073E0-B895-4735-BB60-A8E195B3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0736A5-65F0-46C8-BB6B-914FA086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B657B9-8ADB-4F40-9085-42B9FBEC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1175F0-B3AC-491D-B37A-953F499A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54ACB2-5EA3-4BB2-B084-57BF451C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6E28C9-11E0-40A2-820C-43A71C3F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22E136-9028-402E-8280-6595C573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EBCF62-D0A1-44B4-A628-732564B45B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7792A-7567-4C25-BC4E-F5EF1F5889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F9D46-2048-467C-8D25-0CB690F9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E07BF-4F72-48FA-8D9B-44C9A021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39D2D20E-31CE-48C2-9BD1-123EDD61241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2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88E2866B-8E5A-4B3E-BCFE-A8B547F33F5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3D112404-1932-4E4B-8617-3194DB99A7D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86452564-11EE-47FE-B5AD-2CDA3AAB9BC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3880" y="1522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0ADF-1E74-477D-9811-52DA9A47A91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C898E118-7ED4-4D10-A811-2AB62B643C6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724A2DA2-2226-4112-B487-A3028D4B4A1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76D0AE9A-26BC-49C3-AEA3-BFFDF72AACC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A214A416-6757-4507-9A39-9A357D58791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C039E0CB-C690-4CE2-B2E4-A4A07F18CC8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5C382028-E1E4-4DED-A3B8-3ABFE7A814A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1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14659599-B5D3-4420-B1FC-8ACF9F2B775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4"/>
          <p:cNvSpPr/>
          <p:nvPr/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8DF9-B589-40EE-B3C1-2C60678E619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2560" y="-3891600"/>
            <a:ext cx="77760" cy="9231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2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uditing: The Art and Science of Assurance Enga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1: Completing the 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21-16, p.7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udit procedures that would have located particular contingencies or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y need to be disclosed or adju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A0FCF271-CAAC-4B93-A10A-9264933F45A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gal Confi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a letter of inquiry of the client’s law fi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letter in a specific format that requests information about pending litigation or other relevant information with respect to legal clai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AD9017B9-9191-46D7-80A4-3A77000DB44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gal Confirm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ontinued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evaluate two categories of lawsu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tanding (or asserted) claim: Client has been notified of the suit or the suit has already been f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(or unasserted) claim: The client is aware of a situation that could lead to a cla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standard format ( see Figure 21-1, p.690) for the legal confi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CA15A983-EFB0-4D4C-83BE-057F6943CDB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Analyzing Legal Exp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give indication of contingent li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law firms where confirmation may be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events that may need to be confirmed with law fi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D0CF78DA-0C69-4997-B88D-02E0CA80484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21-22, p.7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ing responses to legal confirm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D06EE38B-8E61-4F76-83DA-C22C263D244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sequent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events are transactions and events occurring after the balance sheet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or normally examines subsequent events up to the audit report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1C411C4F-CD3C-4F53-A51C-6EA75002901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sequent Events Review Peri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Figure 21-2, p.6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DA75FB0A-A2C0-48AF-AA29-865DEF66C5A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ubsequent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pecific types of evidence need to be gath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subsequent events: Those that require adjustment and those that require disclo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97D60010-DBAC-43FB-A4E5-D4FDA3F313B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sequent Events Requiring Adjus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ubsequent events have a direct effect on the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laration of bankruptcy due to the deteriorating financial condition of a customer with a large outstanding accounts receivable balanc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tlement of a litigation for an amount different from the amount recorded in the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629003B6-926F-49C7-AE8F-616C0193CE8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sequent Events Requiring Disclo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ubsequent events have no direct effect on the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line in market value of securities held for temporary investment or resa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suance of bonds or equity securi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laration of bankruptcy by a customer (with a large outstanding accounts receivable balance) who was inadequately insured and lost everything due to a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3A5107BD-1B2A-4C24-A8DC-C11443D7B24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21 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auditor searches for contingent li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communication with the client’s law firms (purpose, forma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rocedures used to examine subsequent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xamples of work completed as part of the final evidence gathering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525B8348-09CA-4AA1-A309-B2076D8C39D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sequent Events Evid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based on discussions with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letter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subsequent internal financial statements or other interna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shareholder and director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 of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off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F2547764-E186-4FB6-B843-99D9E12C1CE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al Evidence Accu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and conclusions regarding going concern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representation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discussion and analysis (MD&amp;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5C93FF9F-B68C-417C-B0F2-65FCB03CE49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 Representation L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is required to obtain a written management representation letter from management to confirm information that has been provided to the auditor during the audit eng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1D417436-FE34-4FFC-8661-9EB0554D233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21-19, p.7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advantages of a letter of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information normally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17C0D99C-D9BC-426E-8894-3DA565ADB8B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ditor’s Responsibility for Other Information in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ual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 720 (formerly Section 7500) of the CICA Handbook details the auditor’s responsibility for other information in the annual report of a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mary responsibility is to ensure that the financial statements and auditor’s report are accurately reproduced in the annual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25664AF2-C2F0-497F-A354-A2ECC864A25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fficiency of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ior audit staff and the audit partner are responsible for assessing evidence in the context of engagement risks and the client risk pro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review helps to ensure that all field work has been completed and outstanding queries cle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D9F8C496-EBCC-4197-B343-C34C0C7CDD9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al Analytical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as a final review for material misstatements or financial problems not noted during other 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objective look at the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9293EBDC-D0F0-4FBA-B70A-176067E0E0F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Going Concern Assu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analytical review and overall financial statement review will guide the auditor with respect to risks of business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queries and follow-up will be used where liquidity problems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18337147-0543-415B-A9C7-2194C9D1B69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adjusted Misstatemen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chedule (or worksheet or spreadsheet) would track the errors or potential errors that an auditor located, as well as client adjustments made because of these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to identify whether the financial statements may be materially misst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78A5811D-DD42-4734-995E-4E2063F556E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ing Paper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out the audit, the working papers and field work would be reviewed on an ongoing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eview involves manager/partner re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high risk engagement, standards staff or a second partner may review the file prior to audit opinion re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242B96BA-6686-4879-A98C-94E2761192C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21 Learning Objectives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munications the auditor is required to send after the completion of the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actions that the auditor takes to evaluate the adequacy of accumulated evi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69DDCF52-5469-4C52-827E-0A76B16FF4A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or 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may communicate with management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 committee with respect to several mat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communications are requi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egal 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able internal control conditions (internal control deficiencies that could lead to material err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850730FC-D878-480A-9659-DBA1188A9DE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L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a letter of recommen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a management letter is to inform the client of the public accountant’s recommendations for improving the client’s busin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ommendations focus on suggestions for more efficient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EB052BE3-2AB3-44D7-9C1D-FDF617738B6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ingent Li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ies are existing conditions or situations that will be resolved at some futur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wsuit is an example of a contingent li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needs to obtain information about the nature of the contingent liability, the amount involved, and then assess the likelihood of the 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C9E43AD2-C31D-491F-8351-2A4EF65C37A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arching for Contingent Li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are a few examples that auditors can use to search for contingent liabi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quire of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minutes of shareholders’ and directors’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contracts, agreements, and related correspo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ther techniques could the auditor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4A9A0BE5-AA0A-4E96-A802-C465C611F52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ng Known Contingent Li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contingent liability has been described and documented, then management’s disclosure needs to be evalu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the likelihood of the event, it may not need to be disclosed, may need to be in the footnotes, or may require an adjustment to the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F630C031-8FDB-43EF-994C-390A8BBCD6C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ancial Statement Treatment of Continge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Table 21-1, p.6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19F22146-23B0-4672-B559-F609FD4F2C1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it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are certain (as opposed to contingent liabilities, where there is uncertainty with respect to the resul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usually disclosed in the notes to the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tends to use similar procedures to identify and document commitments as for contingent li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4FCF83CE-E00B-4E30-96A7-4327E6C1F40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are Contingencies and Commitments Import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the encumbrance of potentially material amounts of future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ly affect future cash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P requires disclo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1-</a:t>
            </a:r>
            <a:fld id="{AF7B4456-1F16-4A5B-BD56-1056739E586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8:14:52Z</dcterms:created>
  <dc:creator>Ingrid</dc:creator>
  <dc:description/>
  <dc:language>en-US</dc:language>
  <cp:lastModifiedBy>User</cp:lastModifiedBy>
  <dcterms:modified xsi:type="dcterms:W3CDTF">2010-03-08T20:51:14Z</dcterms:modified>
  <cp:revision>84</cp:revision>
  <dc:subject/>
  <dc:title>AK/ADMS 3511 - Management Information Systems – Session 5</dc:title>
</cp:coreProperties>
</file>