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2D75-902D-4617-95C6-C72E9D80BD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04B1-5433-4234-BA9E-CF144461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BEED-7472-4C14-AAE9-1395B00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3AE3-1057-41A1-8FD5-E875A03817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46AC7-1A3F-495F-9B45-65D2CC29AA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0FF7A-E0C6-4E31-A518-53CFB4A2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9EE55-2F3C-40A3-B3B0-0E14A5D9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A69BE-640F-4C4E-83A9-44E75E40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B43FB-8223-48F9-8FC2-CBD92A0D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69499-1FD8-443D-A9B2-084EFBF3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7CF59-6FB0-4B51-8679-62E6C81E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7D6B-19E5-4686-863E-1B82905E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C7D33-F88E-4940-9FA9-27523E43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CF70E-835F-4BA4-B5A2-FD8F6D80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5C6E8-B19C-4F7D-BC7D-9E9628BE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37A03-EB8E-4D3D-9C63-06E5FC4E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86369-BC1C-495C-8FB8-788E28057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CF7D-0C3A-403E-8030-FD25755E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2F45-90D9-476E-A125-3FF13A35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3797-D972-4146-9A0B-261F6D68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2BBB-A7D8-43AF-A1D5-4E562AB8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E1C8-E241-4F88-A917-C389448D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5929-8D30-47E6-8AAC-EF395769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D202-A665-4133-83D4-8B303153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B98BE66F-A677-4513-AEE0-3EF25A9BCB6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4258-9B03-4386-B8F4-1A3FEA1EAC4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3DA0-D617-4C61-BA14-BC3955B5AC0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9142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: Materiality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heren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the likelihood that there are material misstatements in a segment simply due to the nature of the segment (e.g. cash is more likely to be stolen than sheets of st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Risk is assessed at the account balance asser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ntrols are ignored in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7317FBE0-117B-4055-BBC4-74622E1E4A6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ssing Inheren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should consider several major factors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ing inherent ri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of the client’s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of data processing systems/data communic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ity of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oti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f previous aud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versus repeat eng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E38BB20F-65AB-4C6B-ACDC-A3D4A5F4ACB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ssing Inherent Risk (Continued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outine trans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gment required to record account balance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cor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ts that are susceptible to mis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up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3F733B64-72BB-4CD0-8630-A2A2E83DD61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the likelihood that misstatements will NOT be detected or prevented by the internal control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 is conducted because it is required by generally accepted auditing standards and also because it is needed to design the nature and extent of audi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A8DA8934-4FE7-4A42-A588-7DE008BE09F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is required to evaluate internal controls, not to rely upon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may be necessary for certain types of systems (e.g. complex automated systems or paperless syste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situations, the auditor may choose between internal control testing and tests of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D33500F1-A9C8-4157-90D7-EA9786A1A4E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iance on Internal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’s m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 understanding of the design of the client’s internal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design effectiveness of those controls based on the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nternal control for operational effective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A27B02D2-7044-4DBC-921C-16731765EBA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ting Control Risk at 10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at there is no reliance on internal controls, because control risk is at maximum (which means that the assurance from tests of controls will be ze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occur either because of inadequate control systems or it may be too expensive to use tests of controls rather than tests of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9E93E36C-8602-496F-833C-9E91EDE6863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ned Detection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presents the audit testing that is required on the part of the auditor (or team) to adequately assess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udit risk is set, and control risk and inherent risk assessed, then detection risk can be calc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only part of the audit risk model that can be affected by the actions of the au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E82004F4-335F-412B-8E6F-DE998D419F1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7-18, p.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the audit risk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F29A941A-D4A6-4BD2-9A02-518865B55BC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7-19, p.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ing audit risk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A40A7CDE-27E0-44E8-9986-8CA1971C2CA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475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omponents of the audit risk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inherent risk is ass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how materiality is used to assess the amount of work conducted during an audit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the components of the audit risk model to the amount of evidence that should be collected during an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1E51CDBE-B83E-4532-AC21-CCC7D1A9311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7-20, p.2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different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set audit risk, inherent risk, control risk and detection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FBC51315-A779-4597-BD8C-1864C93975D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ri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, paragraph 5142.04 of the CICA Handbook (replaced by material in CAS 320 and CAS 450) defines materiality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misstatement . . . in financial statements is considered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erial if, in the light of surrounding circumstances, it is prob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t the decision of a person who is relying on the fina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s, and who has a reasonable knowledge of busines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conomic activities (the user), would be changed or influenc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h misstatement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8AC827AB-337D-4EE7-A0F3-2CABA0A46C9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riality is in the “Eye of the Behold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dit is expected to obtain reasonable assurance that there is an absence of “material misstatemen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erial error is defined in the context of what a reasonable business user would think – would it affect his/her deci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BB1A8C30-F086-466D-B841-D5E510B2211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in Applying Materiality During the Audit - Insert Figure 7-2, p.2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5AD2ABD0-3777-4BBC-B3FA-A77C7384D88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rial Mis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do if you found a material misstat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sk the client to correct the material misstatement and they refuse, what are your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BE02D0B9-FBD3-4C9F-85EE-1AC93343D21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vels of Misstatements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450 suggests that an auditor be concern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levels of misstatement in assessing whether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re is a material misstat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Identified mis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kely or projected misstat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kely aggregate mis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urther possible misstat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aximum possible mis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4A6D76D4-EA07-495E-B20A-A2742E1AF75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7-21, p. 2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ing with different types of mis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E20E02B5-CE90-471D-89D1-F6A98BCF077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ri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liminary judgment about materiality is set prior to the conduct of detailed audit testing, during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in deciding the amount of evidence to coll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are substantial changes to the financial statements, then materiality may need to be rev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3D2AE8AF-C59B-4B28-B9F7-A9AA06329B9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ffects the Materiality Deci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ity is relative rather than absol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se needs to be cho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ative factors are used (emphasizing the importance of knowledge of busin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 guidelines or past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2B44C207-FF88-4484-9555-E550427FDF3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tential Bases for Materi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bases includ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to 10 percent of net income before tax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 percent to 5 percent of gross pro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 percent to 1 percent of total as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 percent to 5 percent of shareholders’ equ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 percent to 2 percent of reven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 percent to 2 percent of expenses or revenue as suggested by the guideline for non-profit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DB38FD41-A6C1-40DE-8D77-4C2AD4F5D4A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Ris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s arise when a situation involves uncertai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ing risks includes assessing probabilities – what is the “risk” of rain today? What is the “risk” of a flood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ing risks is part of our daily lives – we constantly assess the likelihood of events when making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01E29ADC-0274-4171-89EC-EA3F23B84AD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7-22, p. 2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take a look at a realistic set of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calculate the materiality fig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base would you cho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3DCF3D99-5518-4944-ABF9-2A9E0CA9BA5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sk in Aud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accepts some level of uncertainty when performing an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lways a small likelihood remaining that the financial statements may be in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 risk model is used as part of a strategic auditing appr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39871B60-BC43-4EB7-A999-1C0C5A4D000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c Aud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dit engagement is a tactical plan of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procedures are designed to satisfy audit objectives and to reduce the probability of errors or other misstatements in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28F3C2EB-E0EA-4D61-AC31-2CBD88F0921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Risk Model (insert Figure 7-1, p.2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EF6061DE-98B1-4AE0-8AD8-7498FEA4D3D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Risk Model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risk = inherent risk x control risk x detection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 = IR x CR x 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 risk model is a planning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94C195B1-9811-4ED8-AED5-060109C8AB4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the auditor’s willingness (i.e. the auditor chooses this number) to accept that the financial statements may be materially misstated even though a proper audit has been condu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ASSURANCE is the complement of audit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assurance is impossible to achi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01F06CA3-ED1B-4680-A820-8433F2226E7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ssing Audi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ihood of financial difficu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onsider business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C5FC7C51-AB93-498E-A890-115711389B6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8:42:34Z</dcterms:modified>
  <cp:revision>93</cp:revision>
  <dc:subject/>
  <dc:title>AK/ADMS 3511 - Management Information Systems – Session 5</dc:title>
</cp:coreProperties>
</file>