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24FED-CFA9-4D46-9BB5-671B55104F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57721-1C8F-4632-A5BD-3949F41F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EF652-A341-4F90-802E-AD3C3E43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0D603-4718-4DC6-B718-00BACCA5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02CA5-2A9D-4DFF-B6A9-09F5FCB0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76C97-8DD4-4D8A-BE7F-0E4BBA66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7340C-93D0-4AFA-9872-57924F4C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DAA96-0C75-4471-B014-04B3B0B4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0DB4E-66B0-4989-BB78-922BAEB8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7F4CB-0C9C-45A0-A885-02B73DD9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B7ECB-554C-45A5-A111-D6260D61A4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212CCC-5227-4886-8A8F-9C94F7FFF2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B75E-D223-440E-B14B-3E664D01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F57DE2-4417-4020-9FF8-34D5819D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70EDC5-D232-4245-985C-C5C398B9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F4CA40-DED3-4483-943F-E8F6131F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E50970-3B91-4193-BD81-77755D97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42226-0A50-4787-93B7-C8B0DB62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67D7FD-425D-4CBD-A60E-B520C4F3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ABD4AB-9D2A-4C4C-A28F-AE19198B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249217-8E90-43A0-A72E-A03D6B20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248509-0559-4ECD-9BA6-10F514AD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27AD2-6E81-4027-BA9F-D36AB1BA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DF476-9ED1-4D22-BAE3-54CBB433E5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4D3870-4E4C-42DA-B4F6-3152173969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E58BDC-31D6-4F7A-BD33-3F7EE76AE3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B744B2-DB02-4679-94FA-21AC4FE8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9A7FF0-ECD4-46C0-A7F1-1DEE316E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B52A20-823F-4248-9A7A-5399BEF7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543C68-D43A-443C-A4C0-F94FB7CD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BC1D73-739D-4AE7-822C-62206B00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6A236E-3473-4989-86AE-715F3F22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9A8166-1F85-4213-BEAF-ED394050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32868B-6430-4C70-9670-3569BFAD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F1932-8E89-4C61-A63D-EB1F595765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717808-51FA-45F1-B9EF-F5BF1A66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967AE5-039F-49D6-8D26-A68D5D03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BA1FB8-2B71-4693-AAF5-5524A48186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A2C47-87A5-4864-988C-9E2D28C214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52A57-0BA3-4244-B435-6C17D176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0B8EA-3123-4379-B032-57A38621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18089-4203-4FA9-A4D6-C75E241C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06754-8327-4AA1-81E5-53A37267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5CF1E-07A6-40A8-BACF-3C2D2237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35B39-80F7-4C4D-BEEC-DEE2D3FF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D0072-5558-4B9D-945E-CCE80B08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6044F-4BF4-42F3-AF73-9E920B3B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8F4B9-A561-4837-8848-2AD110A6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51B66-AC29-463A-B602-36799B8D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87948-C36C-45D2-A767-8D3D40C9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4FDC6-BB79-4F6A-8A8A-4E79DBE2B4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BF7C8-B76F-4383-9331-CD5C66BF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CE4CB-6A4D-4023-9891-88711EE0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91CF5-AFC7-4BAF-95D3-37064D7E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C47CC-FD1C-436D-9DB9-12D554B5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ACFF4-C78F-4B34-BC3B-7FEBF91C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B5405-FEDB-4733-BCD7-A06D0127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B6F2C-35B1-4074-A31C-683C73CE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73C8D-83FE-4A7E-9FD8-03F03CEB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B164E-436A-4FB9-B03C-BFE8A1FF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AF5BE-FD3B-433C-929C-6AB61E9D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236E5-696D-44E2-9BB3-6A78560261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7A30-0606-4158-A12C-E15CFD24DD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F494-D686-4B20-B74C-F384A255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272F-AC72-478F-A70A-65A67C62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0F69-07B0-40DF-A7C5-CB1510C9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A101-CF50-4B7A-99E0-39EB67D5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5B5DF-6429-4730-B7D6-094991C8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D284-DE34-4346-BD70-0CF7ECFA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9D1B-8D12-452B-B15D-11A57C71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CF39-7C3D-4E4C-B23A-A58FB3EF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C603-23D8-422D-97A1-F633CE50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6D26-898E-441F-9B05-9CA2050B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3606-66ED-4DC1-B1F6-F0EE6926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7FD5-16F0-40E7-A75D-CDB1FA7804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FB937-0C4C-4B97-8258-2AF0658367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893D5-29D8-48C0-90C9-B1F2B466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8F9F4-C419-45DA-A8BB-ABCD1E18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ED27C-8A5C-42A3-8E21-06955DB2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4096D-278B-4206-9893-CFF426B3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B0707-38D1-4744-8AAF-3937C1B5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6C97C-DB54-4798-8BDB-6BB5D182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13C39-996E-4222-A647-2757D7B2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9037D-9322-4CC0-BA8B-714BEF6B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FE8E6-B90F-432C-847F-D2E89556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B8AEF-6770-4AA4-BE80-78CB0074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9A129-4195-456C-9DE4-A5FA0E4A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CE38FC-4A9E-41AF-BFA1-A7A27DFB71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74B567-E1C2-469D-B1EB-9F93BCD7B0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0674E-1B08-489B-A477-C75F8194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469634-B752-458C-A9DC-FAA0CF29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85CFA7-65D6-45DC-9FF1-5C8E8F98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93A36E-6FDB-494C-871B-9B150C37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C1F3AF-109B-46CF-9BD0-53A3D2F6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D09D04-2451-4805-8771-3054AB04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B1CE0D-19CB-4061-8225-0F887933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230F6B-6AC6-4C15-92DC-B10E3FA0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475CC7-CD22-4BAC-903D-0716FA8F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C2180B-5A05-4C53-8291-429C078E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EDC40D-F835-4BB2-9210-A3481C6B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201E0-7388-420F-AD84-E06656EA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36E92C-ECDA-4662-8F6F-7FF369CB1E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A914D-9128-49A7-87FE-88D4B97286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38A68-10F2-4059-9CEB-F1E1F5E4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3637C-4B7C-44EF-A2BD-4FDBC701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D1B56-9856-4FE7-9EF7-AFE5C676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A1473-DB43-4126-A22C-5E95E4C4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A18A2-0E7D-4C91-86E9-B0FA0BA7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67FBA-6D6A-4C51-A326-C240D707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06EB2-F0FD-444F-B25F-7F4153EE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FC549-79A4-4F14-BB6F-1C0A3D1D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78A84-6382-4E7A-827F-BEA59919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4B244-6573-4D46-A5CC-59545884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47667-C4E6-44CE-9047-2BC5BE57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BAA76-36BB-4E6E-A7D1-FFC94DB866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282116-60D8-4B74-96AD-89031E4D7F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8E16A6-2326-441D-975F-684FDF46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F9A461-2CB8-4E11-A268-AA866CDB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E61D61-1CE8-44DE-9A2D-9974A2E8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483B02-B511-4A30-8D18-A426A5FB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EE5679-87C8-4B0F-9966-C97CB472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FE1E5C-ED9A-46BA-8E2C-C524AF92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E889E-7656-4363-B8F7-7794F653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1EDFD1-BC4C-4184-A726-D936D7CE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E83CF2-0608-4CE3-A0A9-56CF05E7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5D971A-1425-4228-8DFA-9755D5B6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04E48-9C17-41A0-B4BB-C7146004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3E86C1-58E1-4B52-9902-1C42D6270F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87F0A6-5C63-4568-B6D9-D75228A561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7B2957-2BE0-4363-9D41-BE1D0F63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1DE193-9550-4736-A958-B5C2E702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659E17-8EC5-43AC-BF2F-556676C6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3AFC4C-BE3E-4301-A5C3-4D168535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0F576-9F88-4F77-9245-83571A55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0AAA86-555B-431F-B60E-8217D7FB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3AD2EE-14A4-4B68-A794-4A498EED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A89641-8885-4DE9-AD2E-EF8BC196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4B1B35-2AD3-402D-AD6F-CAA7D931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E62A53-7170-4040-A34F-1B993A92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DA10B8-69CE-4803-B620-8708AFE5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48E52D-F8E2-4071-87B6-ECD65D21BD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67F82-430B-4F6D-9140-76A75CCA41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E67C8-08E8-4A6A-801B-BF39884A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5D259-669F-4457-A056-781A7380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61F05B09-C4E7-4782-B2BE-C986E42B7A5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1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2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2AA1A107-A744-464D-8EDD-58E3D5A0B36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0ED82A09-301D-4B5F-8A3E-E7C0F62BF0E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2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3F90F192-CD4F-4A08-8509-EEE075242A9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523880" y="1522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6B64-0EE4-4A1D-928F-F87EA28C5BC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EEFDEAB5-B0B6-4594-BD1F-C772F99F74D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78FCA67D-F0D4-4BFC-A3FA-27939A6DC0D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4C384365-A166-47A6-9F82-28FBB45A1A6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CE0E7F74-1321-493C-A3B5-D721E2DD460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1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5EE4E12C-6371-44DD-A315-069162BA242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1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902B774F-0735-44CB-8FFC-9E94A95B8F7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1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BC58F27A-540A-4208-B8E4-58DDAC3FF63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4"/>
          <p:cNvSpPr/>
          <p:nvPr/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199F-3A4A-4BF5-8D4D-97ADEA6DF4C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2560" y="-3891600"/>
            <a:ext cx="77760" cy="92314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0" y="2361960"/>
            <a:ext cx="9142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uditing: The Art and Science of Assurance Enga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: Professional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ly Accepted Auditing Standards (GA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S are broad guidelines that help auditors in fulfilling their professional respon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ner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qualifications and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in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performance of the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port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scribing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46204EEF-3722-4A6E-99F0-5F823DD8CC1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 of GA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Figure 2-4, p.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8B58B710-9A65-408C-976E-B3A42099131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Question 2-8, p. 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GAAP and GA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157612A5-3B19-40F3-BEBF-FC359CC0390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: Qualifications and Cond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l standard involves due care in the performance of all aspects of aud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must be technically qualified and experienced in those industries in which the auditor has cl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EE36BDD0-C490-4565-9A49-5D5E6533CCF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ination: Performance of the Eng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is required to conduct the audit using a risk-based appro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gagement should be well planned and executed, with proper supervision of assistants, to ensure an adequate aud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1ECB02C5-4955-40D1-BDFD-CDB6F77CB01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ination: Performance of the Engagement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ion is essential in auditing because most of the field work or examination is done by less experienced staff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ABDBB8EF-4AAD-40CB-83BE-43358FBD7AA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orting: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describes the auditor’s responsibilities, management’s responsibilities, the financial statements that were audited, the scope of the engagement and the auditor’s opin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E111C0F1-673A-4DF0-9937-0EE4750BF8E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orting: Results (Continued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wording is required in the auditor’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ndard opinion cannot be provided,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en and how the report should be mod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382B20D4-5B13-487B-8C91-175B5374B1D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2-20, p.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actice problem shows you what can go wrong when GAAS is not fo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look at this problem and identify what Holmes did wrong (or simply did not do!) in the context of GA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F16D75E8-503F-43AD-BB24-01B79D1D26E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3C86C823-1698-4839-88A2-4ED0A0CCCB4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rtant for the public accounting firm to have quality control proced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go wrong without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hapter 2 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712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organizational structure of public accounting fi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organizations involved in the development and maintenance of Canadian GAAS (generally accepted auditing standards) for public accountants. Explain how these standards are enfor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haracteristics of quality control for financial statement aud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1006EFFC-075F-4F36-8CA7-FD357681528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A0326182-AC69-4C38-89D6-2C79F5EAE8A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ality Control Defi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the methods used to make sure that the firm meets its professional respon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the organizational structure of the PA firm and its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to ensure that GAAS is follows on every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Quality Control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w CICA Handbook Section CSQC-1 (formerly GSF-QC) describes general standards of quality control that are applied to firms performing assurance engag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tandards clarify the minimum policies and procedures that firms should have in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E2CF5CFC-D995-458F-B831-D36A9DACB25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Quality Control Standard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CSQC-1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ming of quality control reviews (to occur before the audit opinion is iss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quirement for more specific documentation about independence, consultation, and assessment of evid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BFADC7DE-BDD8-45DB-A0DF-A9D0500A905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Quality Control Standard (Continued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es also codify monitoring of quality control procedures and procedures for dealing with compla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7FA862B9-5300-4D11-8B9D-B699F9C6DA2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nadian Public Accountabilit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ard (CPA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PAB was created by the provincial securities commissions, the Office of the Superintendent of Financial Institutions, and the CICA to help improve the public’s confidence in independent aud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PAB has developed an oversight program that involves regular inspections of those public accounting firms that audit Canadian public compa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C4024DC2-B7F9-42CE-AD61-7F3686BD225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1FC53E23-18D5-4D48-B6BC-7DC84C02DC5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ments of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02120" indent="-402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ship and responsibilities within the firm - e.g. an organizational culture that promotes audit 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eneral ethical requirements - e.g. general ethical principles of integrity, objectivity, professional competence and due, confidenti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F2E67790-3126-4981-A6BB-BA535D50734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ments of Quality Control (Continued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ndependence - e.g. develop, communicate and monitor policies and procedures to ensure that the firm complies with the independence guide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Client acceptance or continuance - e.g. document annual risk assessment processes, including evaluation of a client’s management integrity and auditor competence and independ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B6771255-44C1-497D-8FB4-0EFEAD24889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ments of Quality Control (Continued)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General human resource policies - e.g. have adequate hiring policies that ensure competence and integrity of perso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Extent of professional development - e.g. employees adequately trained in the skills needed to conduct aud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Engagement performance - e.g. have adequate processes and procedures to ensure that the audit is conducted in accordance with GA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ments of Quality Control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Engagement quality control review: e.g. use of second or independent partner review, technical review, documentation and compliance with quality control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Documentation: e.g. hard copy or electronic format, file retention, storage, security and back-up for audit documentation, correspondence, policies, and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2BCA9DD8-D9D4-45FC-988D-6B29F303093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2-16, p. 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elements of quality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E8527F1D-3DB7-4E87-BF36-86A44775CC8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blic Accounting Fi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ore than 1000 public accounting firms in C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categories: Big Six international firms, other international and national firms, large local and regional firms and small local fi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48AF325A-1291-4E5B-BA4C-FBC5B75F2E1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ctice Insp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inspections ensure the existence of, and adherence to, quality control stand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pections may be administered by professional associations, provincial institutes, ordre, or the CP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972F9838-0741-41A9-AC0E-203BE60267D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2-18, p. 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benefits of practice insp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CAD785ED-4B20-46BF-B58B-00FE0F09B56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 of Public Accounting Fi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ucture of public accounting firms should foster independence, competence and mitigate litigation 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ganizational form used by many public accounting firms is that of a sole proprietorship or a partner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FE214730-3E12-4910-96E4-070E95CE5D3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 of Public Accounting Firms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ganizational hierarchy in a typical public accounting firm includes partners, managers, supervisors, seniors or in-charge auditors, and assis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2A91261E-0954-43D5-8DAA-9DC611BE79F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fessional Accounting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fessional accounting/auditing organizations represented in Canada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ian Institute of Chartered Accoun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ed General Accountants Association of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ety of Management Accountants of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e of Internal Aud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F6D0103A-DA5E-4233-8C13-EC0AF8F6370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fessional Accounting Organizations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organizations coordinate the examination processes, provide for continuing education activities, fund research projects, produce relevant publications, and engage in standard setting and peer review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F5942D6D-0936-4056-9FC7-C96DA6F3560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rces of Auditing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nadian Institute of Chartered Accountants (CICA) sets accounting and auditing standards in C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ian accounting and auditing standards are moving toward conformity with international standa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76BFC744-FF34-4916-8F89-D4B88209089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ational Standards on Aud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As (International Standards on Auditing)have been adopted as Canadian Auditing Standards, (CASs) which are effective for the audits that end after December 14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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1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7F65C4CB-B157-4196-BA14-3177EF525E3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8:14:52Z</dcterms:created>
  <dc:creator>Ingrid</dc:creator>
  <dc:description/>
  <dc:language>en-US</dc:language>
  <cp:lastModifiedBy>pacoady</cp:lastModifiedBy>
  <dcterms:modified xsi:type="dcterms:W3CDTF">2010-03-03T17:36:29Z</dcterms:modified>
  <cp:revision>102</cp:revision>
  <dc:subject/>
  <dc:title>AK/ADMS 3511 - Management Information Systems – Session 5</dc:title>
</cp:coreProperties>
</file>