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B9E6-B335-4115-B4B8-3669EA7D0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C294-329E-4E03-BA19-53571F0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9B7E-63E7-4E46-B6B2-9DE0B06A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E7D7-924E-4965-9196-999A983F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3457-71A2-491D-BFBC-ADAD91C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43A5-D06B-49DD-A586-5BD3DEE4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A22E-0173-472E-9078-B264DC01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623C9-ED91-4FF0-B1B8-47D482E3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60AA-2DCB-43E1-BF7B-A284C04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19D6D-B538-4866-AD0A-59F3915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AC82-86CE-45BD-98DC-6BE5BD2CA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DA83E-AA5E-4863-9AF0-E8BB31779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5E4C-8E89-4628-A569-D4C7224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67AAF-E809-4915-92E2-A1898341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83A88-7F7D-4C94-A828-9E8B8951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73BCF-D8F9-4255-ACA9-37191A48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0332D-7A02-4354-B15A-9A5BD333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3AA0A-A4E0-4864-B7E1-3DC643B4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75B30-0268-41DA-8CA8-1E92974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E4D25-6DA2-4029-A056-FC0E9A0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FE500-2F07-4DE7-9642-17D2FC3C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24CB3-56AA-4141-A6D8-A5CD3DCD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8E0FB-C136-4754-A013-AEAC7DF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05D5-B363-4621-9A43-DEFB9A357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1629F-D6D3-4D5C-A660-7916A10D3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B455CA-B053-4604-BAFD-6183F682F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23617-E7D5-4C4D-8AAB-CB26C29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6F444-2DE9-4335-B7B2-1F847EF2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41A36-5B64-4DED-9274-376025E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B4E8B-57CB-4BAB-9ED6-6A6248A4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B356E-1133-495B-BAC8-2075B428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BC719-B06C-4ECA-B5F0-F8508E43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E0CC9-B079-4A95-AA32-45DB42B6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0DE6D-6CDA-40E1-9ABB-0A7E1AFC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4224-7BF8-4A8C-B95F-C89DA82BD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10785-88A5-4370-8C69-0A5CCD3D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97F43-09F2-486D-BDD2-4D635A9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3F3FD-F8BF-49DB-957C-713757299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9287-7E90-4602-A20B-3A2BF612B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9929-EB70-4F11-9582-40FAB7C4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35C73-5BE6-425B-9D7E-9EA0251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6915-8C51-497C-8C44-29DFDA0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046A-3CB7-4910-AC77-57914FAA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2095-DE47-468D-B97F-93E717B4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660E4-8D36-4E1E-A49D-9CA5CDEA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5DDB7-DB5F-4862-9F47-E4E41B6F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042A7-260E-4550-8F62-EACFBB2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9A49-200A-466D-826C-59F0961C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53F1-1FB1-44F9-AF30-9C34C0E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983B3-499D-4E42-9628-C451218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480A-3E4A-4206-AFF2-6D758F699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5DBB8-7220-4F5A-B6CF-F48AD18E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F0EE-B487-4AFD-805C-8EB89428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234F-EF05-46B7-BDD3-69A557B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405D7-BB58-4EBC-BA5F-251C3749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E64A2-F157-4991-B171-906F2AB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9B162-7DB9-4D6C-AE10-388E155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7B69B-6D2E-4CA7-9450-5C25E5A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5088-BD39-4536-8A0F-ECB3784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412AB-E6A0-4E97-8901-FCB2181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AFCC2-D0FA-44C2-8B75-078C04E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79DBC-3ABE-4CCB-AB99-E71787B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67B66-2E4D-4B76-B007-F150CB80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4C28-E26E-4814-8B26-639BC1BF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7860F-2934-4C24-9272-6AEAF836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A9BD5-2691-41A1-8447-0BFA3AA3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B540-4B90-4B0F-AC21-E98A44E4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DDEB-63D9-451A-A47C-462A005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2169-A3C0-41C4-95E3-1C9A0E6F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AC57-950D-4706-A929-E3F93E71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C45D3-301C-4B9F-AC48-16757E0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8F74-9A95-4A3E-9100-5DFB2E49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F7D2-E31F-40FB-8C5F-793FB26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64AED-A359-4865-8345-A69BA453B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B4A0-5173-476C-BA27-4E07677EF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4EBC-5D5C-4072-A9A7-BEFB312C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0CBC-F5DF-4046-A436-F474D7B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E92-C01A-4487-98FA-E2276A1C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9697-59FF-4CE9-A7FE-CF282B1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86FA-4DE5-46A0-8CCB-8AF726E1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CB8-A373-4ACF-B91D-AC02C4CA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07A-1796-4311-A28E-466A28E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1CB-8658-474B-8E13-2CD611D1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9F0-E4EF-43BF-B74D-54F8541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9D8-C779-4ECE-A671-5EC5CC9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4CD2-592F-4B1F-B1C9-E4D6D70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2085-7E48-4B23-AECD-9D3DFA0DD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F85FB-E30F-4B81-8E03-F17F78062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DA9E4-7509-4814-9614-8D75323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43C95-7ABD-4914-AC53-30234103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2E5B-0D99-41E8-9235-59F84FF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FB772-CFCA-4531-9980-C77D0941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C419D-162A-44E1-BED8-7488378A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8BF15-927A-42A4-A4BC-95A666C4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E1D98-03B0-41B0-8A58-777788A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CB5F8-76CF-4E27-A0E6-64373DE4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DF847-46E0-429D-A066-A89F914F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0717C-CFC7-4E5D-B0E5-EEE963E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772B5-F347-4F1B-A139-51B937C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A728-9A73-4355-879A-7AFF176EB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1AD380-74B5-43B3-8EA8-C584341A3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2162-48CB-4738-8993-A35A7400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08C62-714D-4CDA-A79A-A548FB2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56328-C6C8-4C97-AC5D-D14ABDC5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7CB93-6F28-4521-B077-1658CF8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BEDE4-A4B4-4234-AB50-42C94D70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41F6E-5E4E-4247-A5DE-7EEDBF0A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079D2-C115-4548-B15C-FC1448F7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5E081-ED86-4CE9-BF04-146BDFA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9BEBB-1D01-41BF-9B17-4BB84E1B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C908E-9993-401A-922B-F7431699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33B0A-32F1-47A8-989D-3555AC1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15F4-70D6-4190-939E-40511B6D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28E19-B141-4032-BC5D-F43CA3443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4B4A-AA9E-42A2-91F2-2806E7891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60948-4E7F-437D-A1B1-A503BA03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0AD7-70A6-45DA-A61D-60561D6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2C3F3-A879-44A2-B10E-CE82C54F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5C9F-205B-4F2A-8200-1194340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6028-C3ED-4565-A0AA-38758144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E9067-48BF-4EC3-9CB0-3614299C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E8B3-9A17-4774-BCE7-03F37B27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FBB3-A4D5-463E-9945-CDF7286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9BF0-19A3-4E93-AB54-98055FDE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1693-75A5-4A3A-A310-4788C36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2AE0-C8CD-4AFA-B6E3-C413305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0209-4CDD-44D1-A18D-4C03F5E863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075E7-4D6B-44FA-A0E9-34D0E057A0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3B19E-4671-46D4-BC2D-549F588F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ADD5F-407F-42F3-A4D4-AA862D9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2BC23-69E3-45D6-B2EA-AC426C0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5ECBE-E0E4-4397-AFEB-B639EEF7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DD358-4514-455F-96B2-FC7631C4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0F075-6CBF-4C44-A14B-FA15333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44BC-2691-41B5-A77C-4AB53DF8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E1286-B3D3-40E6-8AC8-3E5CECF7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8728A-E0B5-4230-90E0-DC70D0B7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D1929-0A2E-4B79-83ED-A1C4A6A4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FF45D-3FE0-47FC-B31A-CFD928A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17355-117A-45F6-A2C5-759C7A7BE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EAEA73-BE9B-4302-AA77-2CBAF7120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6A32C-3BB4-4339-AC64-32C078E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5B37C-9171-4919-923A-0D59FDBF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84536-CB2F-4B93-A864-F96D741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02BDA-754B-4057-876B-5C7BFFEE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5FEB-51A5-46D1-BD1C-275AD9F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C2F54-81C3-4C71-9AD2-C30A4ADF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36D7B-5221-4E74-AD76-B9C0C4F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99F31-3AA6-4696-B517-7D9D5B77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E710DE-A53E-480E-8EAA-F605A9D5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69441-A1A2-4055-9E37-EA23DCD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83474-C634-4D42-B541-83C32D0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C409B-A4FA-4775-A34E-F39B926AB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51A0-6700-422A-B233-CAD807581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FBB9-C132-40A5-94CB-667C055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D98C-0105-44F1-B691-1B70458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CEDA47C-42A0-4A6E-89D7-E7CADD8A987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4553F3B-7FA4-4137-AE86-64C94074F66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BC705B7-B1D0-477F-9C6C-895882A6651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6E4416A-62B6-4219-A535-E99D76AFB99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2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6F0E862-22A1-44B4-8E4D-B13C23A604C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7E42-31CA-482F-9A4D-8218FB7E535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3C83C68-AE3B-4EAD-977F-15EE942286F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D44ADDD-6FC2-4E10-9E5B-C22204AC1D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F892397-613B-4AE4-9E2B-FEC8D8CFA7F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532FC08-7265-4436-8F5F-EFF4CC23CCB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6D095AD-4E90-4620-9B52-25BDD126332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7BBD75A-DA9B-4DC1-A910-583B0583C62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DBA5570-5193-47DA-8183-C1064753D9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: Audit Sampl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0400-8981-4096-8DB3-F868F45B216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tatistic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mpling that uses the laws of probability for selecting and evaluating a sample from a population for the purposes of reaching a conclusion about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calculations are used to measure and express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4E49073-39B5-405B-9172-8E9E2F8C1EA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tatistical vs. Non-Statis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quire a structured process involving planning, selection, conducting,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ype can be st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risk can be quantified in statistical sampling using mathematical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1CBBEB1-FE5D-4C16-A6B1-3EAD069B936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Probabilistic (Judgmental) Sample Selec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sample selection, 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likely to contai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containing selected characteristics (e.g. old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dollar item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sample selection (e.g. sequ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hazard sample se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DA24746-2F32-4D18-87E5-D0C0AE0ABF2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stic Sample Selec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random samp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samp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proportionate-to-size sample selection (also known as MUS monetary unit 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50903BA-3390-4D70-A752-E0108215D4F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dvantages of Statistic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or quantitative evaluation of the sampl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more defensible expression of the tes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or more objective recommendations for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139257-2010-42A7-AB17-C01E3471B32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dvantag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tatistical Samp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random sample selection which may be more costly and time consu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require additional training costs for staff members to use statistics or specialized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CC7ED20-2E73-4783-850D-D5FC8F4796E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f Non-statistic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auditor to inject his or her  subjective judgment in determining the sample size and selection process to audit items of greatest value and highest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designed so that it is equally effective and efficient as statistical sampling while being less cos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47DDCC6-AC0B-47BD-87A5-00C2620453B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dvantage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Statistic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draw objectively valid statistical inferences from the sampl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quantitatively measure and express sampling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3B7046A-949E-478A-94BD-9692DD95CC2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Judgment Problem 13-25, p. 4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decisions about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implementation method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5D080D6-FB2B-43B6-AA4F-F75646E2951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both statistical and non-statistical methods, the four main part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th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A10912B-2576-4399-A689-7554EE8C9BE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3 Learning 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ampling. State when an auditor would use statistical rather than non-statistical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three different ways that an auditor can select a statistical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14 steps in planning and selecting a sample, performing the tests, and evaluating the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3604C22-AA63-4094-8DA7-3EF03214654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ampl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going to look at the fourteen steps in the sampling process, comparing the process for tests of controls versus tests of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7AEB1E-5A88-4BC7-9426-A5C59824D20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State the Objectives of th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controls appl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monetary errors or fraud or other irregu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 wants to determine the maximum amount of overstatement and understatement that could exist based on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F69F011-E01D-4EE0-BE5B-F1C5CB7AD5B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ide if Audit Sampling App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trols can be sampled (e.g. is a shipping document attached?) while others cannot be (e.g. separation of du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sample for test of details depends on the nature of the population (e.g. capital assets may not be sampled, depending upon volume, while A/R confirmations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E71EFEC-507A-4118-ABAF-1BF95C7F3EE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Define Attributes and Exception or Error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71600" y="1676520"/>
          <a:ext cx="762012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870280"/>
                <a:gridCol w="254016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 related to planning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of control (e.g. attribute sampl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of detail (e.g. for MUS sampl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 the item of intere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y the characteristic or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f intere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doll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 exceptions or erro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 the control deviation (an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ly, any monetary difference (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Date Placeholder 3"/>
          <p:cNvSpPr/>
          <p:nvPr/>
        </p:nvSpPr>
        <p:spPr>
          <a:xfrm>
            <a:off x="1371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8889689-08C6-4FDB-B8A3-66C89CD8A6C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Define Attributes and Exception or Error Conditions- Sales and A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71600" y="1905120"/>
          <a:ext cx="7620120" cy="42368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 related to planning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of controls (e.g. attribute sample) S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of details (e.g. for MUS sample) Accounts Rec’b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 the item of intere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 sales approved for credit?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doll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 exceptions or erro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made that causes customer balance to exceed credit lim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rmed amount different from amount in customer accoun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Date Placeholder 3"/>
          <p:cNvSpPr/>
          <p:nvPr/>
        </p:nvSpPr>
        <p:spPr>
          <a:xfrm>
            <a:off x="1371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37E29ED-0938-42FC-92F8-8EDF89AFBC9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e the Pop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can be defined in a way to suit the audi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ample from the entire population a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ing controls over s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pulation is likely recorded sales inv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ing details in accounts receiv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the recorded dollar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opulations can be stratified,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F8DF07D-9A86-411C-ADD8-D2D23B774D5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Define the Sampling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 physical unit, e.g. invoice, shipping document, purchase 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US, would be the individual d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n-statistical sampling, it is likely the unit making up the balance, e.g. an unpaid invo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4DB951C-EA32-4E2D-8F3A-52F36E585E4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 Specify Tolerable Exception Rate (TER) or Specify Mater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is the exception rate the auditor will permit in the population and still be willing to use the assessed control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R increases, the sample size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ity is used to determine the tolerable misstatement amount for the audit of each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decisions require the use of professional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F5AA9C9-9A7B-4B86-ADF2-D24436CE172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y ARACR or 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Risk of Assessing Control Risk Too Low (ARACR) is the risk that the auditor will take of accepting controls as effective when population error rates are actually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9528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Risk of Incorrect Acceptance (ARIA) is the risk the auditor will take of accepting a balance as correct when the true misstatement is greater than mater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39BAA9-FA64-40ED-A5CB-3166D2F5A8F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y ARACR or AR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ontinued)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ER 6%, ARACR 10%, true error rate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error rate exceeds TER, so population is NOT acceptable, but auditor does not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RIA changes from 10% to 5%, sample size increases, since assurance required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trols are good (control risk is low), ARIA can be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08C98B-212E-45B2-8787-6359CC98035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mportance of Sampling to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auditor doesn’t look at everything… just pi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auditor CANNOT look at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0DEC009-E041-44A9-B8F4-14040DB9014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Population Exception Rate or Mis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population error rate (EPER) is an advance estimate of the percentage of exceptions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er the EPER, the smaller th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52578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advance estimate of the total dollar error (misstatements)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ior year data and professional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1AB9C93-873C-42C1-A6C8-283E00BBC6C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the Initial Sample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n-statistical (also called judgmental) sampling, professional judgment is used to calculate the sampl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atistical sampling, mathematical formulae are used, either in specially prepared tables or using software designed for audit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ratified sampling, the sample is allocated among the str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69C290-082B-45A2-9706-A2C951ECC65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 the 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number of items determined in Step #9, choose the items from the population using the sampling unit defined in Step #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babilistic or non-probabilistic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quantification of sampling risk, probabilistic (statistical) methods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D49D72C-8E83-41B1-BA4F-4AAB43118D2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 the Audit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st of controls, examine each item for the attribute defined in Step #3, recording all exceptions found (e.g. all sales approved for cred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st of details, apply the audit procedures to each item to determine whether it is correct or contains a misstatement (e.g. send and reconcile confirmations, conduct alternative procedu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EFF1DD2-0ED4-428A-A66C-DB23634FDF2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ize from the Sample to the Pop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st of controls the sample error rate (SER) equals actual number of exceptions divided by actual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is not necessarily equal to the actual population rate:  a potential range must be 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auditors tend to test controls when they expect no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generalization depends on the sampling methodolog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0583D9B-E39D-48AF-94BD-39DFF6671F8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ize from the Sample to the Population (Continued)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eneraliz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s of detail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deal with dollar amounts rather than with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tatements found are projected from the sample results to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nsider sampling error and sampling risk (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3D1627A-9A9C-4BD3-8DC2-06F5D6E4E6F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ze Exceptions or Mis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reakdown in internal controls caused the exceptions? (does it affect control ris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dditional substantive testing be conducted because of these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 misstatements caused by control exceptions? (need to reassess control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dditional substantive testing requi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8F91EBD-7BAB-4FA0-B2B4-D6FECC80993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ide the Acceptability of the Pop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ER (Tolerable Error Rate) is sufficiently larger than SER (sample error rate) will normally accept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of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difference between the projection to the population and mater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cision rule for statistical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5D88C4F-B0EC-4A87-9E57-762375968A4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ide the Acceptability of the Popula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auditor decides the population is NOT acceptable?  Wha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vise TER (tolerable error rate), ARACR,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A (the risks of accepting incorr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) - not easily def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and the sample size.  Will decreas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error OR you could end up wit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vise assessed control risk.  This will lik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n increase in tests of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Report weaknesses in manag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263BF02-5CC3-42CC-8890-C2A0D55A531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urpose of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mpling is a method of obtaining information that will permit an estimate of  the value or quality of a population by examining only a portion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EAA0F71-36A1-45B4-9080-0F6AC410E8B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 of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ature and materiality of the balance or class of transactions does not demand a 100%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decision must be made about the balance or class of trans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ime and cost to audit 100% of the population would be too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AF00566-ADF1-43BB-A004-812B41515D4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ampling is Used to Con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lk through tests (to understand internal contr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sts of 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sts of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D4A7099-8602-4970-A51D-1F667C47CBB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Choice Ques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7, (p. 3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multipl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017E581-037F-4663-94D1-9CC6C8D6322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epresentative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characteristics in the sample of audit interest are approximately the same as thos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D1FB8D6-EB9E-45D3-A6DD-599A9A642A5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epresentative Sampling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representativeness can occur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n-sampling risk: Audit test do not uncover the exceptions in the sample due to failure to recognize them, or due to ineffectiv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pling risk: Results from testing less than the entir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400A59E-5CEB-4148-B3CF-7EA2E8CEE7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7:51:42Z</dcterms:modified>
  <cp:revision>82</cp:revision>
  <dc:subject/>
  <dc:title>AK/ADMS 3511 - Management Information Systems – Session 5</dc:title>
</cp:coreProperties>
</file>