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4917-7361-4222-94C2-4ADC69DF0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9766-5BC6-4052-9753-90C2A53B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EAE2-DF7F-411D-91BE-D2A32FE9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C622-AB68-4010-B516-3767446C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8849-A145-4ABF-951D-431F2115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9379-FC92-4ED8-A2F7-286FAA5E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22EF-D221-4029-BC44-D0A7E07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ECD6-37BC-4A4C-ABD7-4C57078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5F98C-9352-4017-B317-B4A26BE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7D7A-3C64-4417-B690-AE7AC70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43EA0-C8FF-4652-B71B-465C65E7A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E7172-9CFA-491D-8498-F3E322879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1ECD-12B0-4432-8E48-F2BC817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9FC9A-B83E-43CF-B8F0-43F7EF95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80030-AD6B-4834-9324-27BF650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EDDE7-04C6-4C4F-A074-AEEE441C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BC7BE-511F-47E8-8569-F052853B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9BA0D-26C5-47CE-87AB-7F4DB04A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97D0D-4520-4C08-98D3-2980FAF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D4774-A08A-4617-A809-095BECBD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9F10F-A7C2-4592-9EAF-3DC342E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4C75C-6BF6-447A-8FA7-10240393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21C7F-2594-4023-8427-6E12F0B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4279-662A-4CA5-890B-7391931ED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684A0-19EA-4A1F-AD41-161F01648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88FA3-1406-48A8-AB02-5C62898B7D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DB1300-A735-4724-9162-AEC475F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F1F60-C2BE-4D3C-9B3D-306F4AF1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220FC-B409-428F-8BA4-DF38FE4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937F74-5D56-4247-B969-075784AE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73AE2-F196-41E9-9DE8-AB805998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D4E72C-B2F0-4D48-8244-9EB2B04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3290C-13C9-4E80-BEF8-48FCE745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A7184-E094-4337-8928-58DB8342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F47F2-2F1D-4906-8703-884E6F240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334F6-B65B-4C80-B4B9-4BA26DE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186AFB-8157-4958-AC88-D809FA6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3910F6-037B-473C-83CD-DEEE4BA47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7CE6-382F-408B-AC03-FF58208E7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E470-E027-40F6-A5C3-124E94C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653A-A9DB-47E0-940F-0C6C4E8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6EF0D-41A6-4B73-84DD-872797C4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02BD-5793-4C80-B056-0BE5FB1E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C0AE3-1C53-4458-9658-63392467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7793-4D1F-4F89-A3BA-6990760C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0295D-FA6E-4CC4-95E5-5ACD100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85FF-F0D6-48E7-86FE-89A6C99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9439-5EE2-4F35-AE65-8A6FDB8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CA388-7774-43FE-A54B-90F4D5A8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2CB6-4345-45A9-AF7C-B83B67E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156DA-A18F-4413-9CDA-02B6DB997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69EF-E05A-4E14-86A9-2EACCB09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F5E4A-EED3-4F11-856D-FDFB8DA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783CE-E07E-43E0-8387-3F8472C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D94B4-D357-4BE6-B1B5-DA401CAD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CE86A-F6B9-41EC-B3C1-C638C4B6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746E-DA96-46DD-821B-880CEC7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B426D-4F48-4245-8D2F-917D1E2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7E031-BB5C-48A4-8EE1-722EA34A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619CC-0BD1-4CF9-90BE-A82826C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A20A8-E97E-430E-94CA-8863F76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06499-E579-4204-8154-1EA62AB33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59A-9941-4514-BDC3-6CB084D7E2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93B2-05B6-43C5-9684-727B617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9A5-9561-405E-BE75-CD83410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1A5-A4E1-4B62-BBFD-4779CE9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FB34-BF8F-4A0A-AD3B-BDA9B8E7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0946-4346-4C2A-A756-CBAE8B4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6FE1-60A6-4AA1-956E-F8867BA8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2A3-E237-4A40-8AA2-C4724A94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95F1-18F4-4E1C-9471-136A27B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11C-FD9B-4185-93CC-244B521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4A0-E224-4245-8990-1FEB00F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D44B-5A8E-4A53-A372-381953D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CDD-083A-4419-8598-FA08FE7C4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37C9C-3672-46F2-9514-F34C874DB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B0028-201E-4DCE-8F2F-728169D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EE921-69D5-4DB9-B50E-82CC75B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F030-13C1-438E-BD55-D83A9B7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14711-1A9F-4EBF-B1C8-35F4082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69D62-0E4C-408B-AE02-7ADBD0DD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A1DF-C9CC-4039-B863-55CCC2B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A593-D8F0-416B-BCA7-E84A95A6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7E318-2DAB-4E0A-8921-102A523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84562-8F64-4E8E-856B-CCD8DE3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1C2BD-1697-4EB1-B1AF-82735A58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8B50E-CCD7-4EA8-9E1F-AE862AC0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BC04B-6C9F-4978-BE19-C711A3D69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0EEC2-6694-48DF-8122-FED9B686C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B83C-A79D-4D9D-B6ED-E2A15465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BA7B2-9D15-4A66-A59D-1E09843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29D5F-37B0-46FC-96AE-46EC5958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32F75-A4FB-4CC3-A212-A75F1C33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0367B-83A5-4E8C-8995-D2225B7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48E94-CEB5-43D0-A3DC-E308D150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BD9F3-B622-4B36-9643-CF309C5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C032B-B445-4122-8B18-1A6D49A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D2CC3-0A79-4F10-B91C-6F58D78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617B7-8C3D-435E-A6A3-DFAC569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D43C1-82B9-443B-B6AB-F22A679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CE4A-3D6C-4EAF-B0A3-C032F285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15BCF-571F-45BB-801F-E1A20A574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2058-7339-4C34-8D50-CB46DB52F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7CAB-EBBF-4D46-B1F6-B587ABD0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14E4-FB15-4201-A1B4-0E66D178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5B4F-C450-40BC-A796-7D751DD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E2CD-CBAE-40FC-8979-C622D40E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C451-2DAA-4F4A-B15E-54E0D370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E5C4-CF7A-4200-B506-AEA8D0D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D0D0-8304-4762-9119-4B54AD87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453A-A2C1-4406-9A3E-B4B5311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2761-DF46-4F6B-A090-5E82F7AE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2A29-A709-4F64-9A34-0B14BDE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C768C-2A63-4BF9-BE7B-0CF2472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C681-1238-41AE-BA28-B4E23A890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80B04-7B8C-4337-B8A3-429294CD1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1E2FF-CAA4-4D4D-BA37-B808C3EB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30EC3-C114-4799-BC08-9FABCC3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053B8-9BE0-4FC3-A1C4-E7C83CB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61A10-0695-4B51-8641-AEC16E10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05510-C68B-4000-A050-F5AE9704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D17ED-11AC-4B1F-B0C9-5E1AE463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4F78-1102-41CD-A655-0100DDF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AD280-09BC-4084-89C8-C0C9F530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35930-A9A4-4E27-A40B-C6AB0311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47679-29E6-4343-838C-8AB9954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82660-3057-47D1-A5EF-0020465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B6E2F-E957-4E7C-9E6D-B82BB11288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97679-38F8-49C0-BD16-A7B1C4325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627C4-8506-4B2C-90F0-94F412F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F9390-210B-41C5-A1BF-10F0098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0691DC-36EF-40DC-BCBF-F9EC6EDB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3BAAB9-665E-4709-9E71-0CDB1E8A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7241-CCF4-4ED4-89C1-147E800C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E3E23-3662-4DE5-B8D5-9F74F714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7D109-8D83-47A9-961C-170D7F7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DB56B-F5A0-4DB6-A2F2-BBFBAEE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CD8B4-CF1A-4E9B-8ABA-8A3BDE57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CA4927-6063-4797-AF64-8939C09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7016C8-D4AD-4343-AD0C-3B86347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806D2-0458-47EF-8327-FB51738F1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E9FC-E920-4D0C-9B05-2CC9ADE852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365F8-0626-4D77-B44E-E9EE4BA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EF5E2-361B-44B3-9689-3E465522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71B1F7C3-8FCB-41D2-925B-128B311BFA5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50278779-1A83-4150-A074-61B0B05D041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E74C073F-51E0-4379-B57C-142240FA1E0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35185F5-9239-4EBB-8931-F2AC2E59F84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3D84795A-02B8-4F7A-939C-4C47A89A583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1D017A10-4869-4BF5-9C5A-5F7A4FC914E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3C48E706-5430-402E-82EE-BA7826C20A6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B890B5B4-0AE9-4254-B1D9-C1E69161B6B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6F8FB449-5F44-4C5B-B627-E38AB5D4214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BEFDD496-77B6-4E4F-8D56-97DECE3A0A1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5BE60652-672B-41B1-8EF1-AF4C2E8097C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3B5E67F2-0D20-483B-B935-861B287CB60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2560" y="-385416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pter 5: Audit Responsibilitie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C6348C2-C41E-4233-813C-89F4860BC66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I: Pre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712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lient acceptance or client continu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discussed later in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71154385-1C0F-432E-A72E-537CD227817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 2  – Client Risk Prof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knowledge of industry, business environment, control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discussed later in the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1E9B8335-5D5A-411B-AEF7-1D131E61562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 3  – Plan the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determines audit risk and sets preliminary materiality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6BFC557-8753-4314-B804-9DF9D14F955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 4 – Design Further Audit Procedu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considers the balance of different types of tests and the type of sampling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212923A-F71A-4D13-B795-DAD6FEE1901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 5 - Perform Tests of Contro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auditor plans to rely upon high quality internal controls, these controls may need to be tested (certain controls only need to be tested every three year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are normally linked to audit objectives (also called audit asser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2EC425CF-F6C3-4CC0-AF1A-0E87F7919B7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6  - Perform Substantive Tes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 are both a planning tool and an actual audit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of details of balances are specific audit procedures designed to test for monetary mis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D1FCACBF-5669-4593-8F85-0A134E0733E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7  - Ongoing Evaluation, Quality Control and Final Evidence Gatheri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team assesses the impact of the evidence gathered upon assessed risk and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papers are reviewed and quality control reviews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6A2C56D-F9A1-4EFA-B398-DD88F6BA9A2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 8 - Issue an Auditor’s Repo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llected during the audit needs to be combined and assessed to reach an overall conclusion with respect to the financial statements – are they fairly st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 requires experience and professional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19D802D8-4C5D-4706-97D5-0A04D40A129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C02FFDD2-CA1C-4173-B153-CBAD48791B6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acceptance or client continu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’s reasons for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threa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ing capabilitie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C4C9F023-BAAC-4DEF-B7DE-D671E171209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Client Acceptance or Client Continu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 accept a client where the owner had filed for bankruptcy three times, is currently being sued for tax evasion, and is considering a public offering of sh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w and existing clients should be re-evaluated for every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hapter 5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be the objective of conducting an audit of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ain the difference between management and auditor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preplanning steps that the auditor completes before accepting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st the eight phases or a financial statement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ow how financial statements are divided into cyc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be management assertions about financi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9B76FFB-3322-4BEB-B8E8-93F3ABD4066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A5E85579-031F-4AC3-B1AB-D1BCDEC4A51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 with Predecessor Au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ditor is asked to take on a new client, he/she is required to communicate with the predecessor aud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go wrong if this communication is not initi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9226E12D-C18B-4E08-8517-238AAA32D0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lanning: Client’s Reasons for an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intended uses of the financial stat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ublicly held companies, the auditor is likely to set audit risk to low because of the large number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44E0C07E-448F-4FDD-A4E7-77F61768D3B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lanning: Independence Threa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e five potential threats to independence (self-interest, self-review, advocacy, familiarity, intimid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eed to be explicitly addressed, potential threats described, safeguards put in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dependence cannot be achieved, the engagement must be decl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07CA0CB8-742C-4AD1-9FE3-78C2E99A579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lanning: Engagement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documentation of a clear understanding of the terms of the engagement between the client and the public accounting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everal of the issues that are included in the engagement l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FF998DD7-A4A7-4942-B639-E62658ECEE7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lanning: Staffing Capabilities and Mee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the audit team needs to have sufficient training and proficiency to conduct the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 continuity of staff, complying with rules of conduct (familiarity threat), and assigning internal or external specialists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E8604D53-BB81-4632-A186-E990BDDB91B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Risk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knowledge of industry and busines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knowledge of client’s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ntrol environment and corporate govern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entity-level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risks of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internal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ignificant ris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D912DB48-7F08-46F7-B08E-79B99744064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tain Knowledge of Industry and Business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is necess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ny industries have unique accounting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sks in the industry may affect the auditor’s assessment of audit risk for this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inherent risks are common to all businesses in 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out about your client helps you to decide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to ask in the balance of 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0F10E54C-F682-450D-8E6C-E2C156200FC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Obtain Knowledge of Client’s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 the plant and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la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rticles of incorporation and by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inutes of directors’ mee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ignificant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preliminary 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control environment and corporate governanc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FFFB86C0-6FE8-45EC-BA66-0B1F37A41F7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risk profile: Assess control environment and corporate governanc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governance processes include ‘tone at the top,’ how senior executive is monitored, how management is man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environment includes policies and procedures that affect all aspect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14982220-0604-4115-9F57-9FCC363933F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porate Governance and Control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management does not pay attention to the ethical enviro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business is well run, with a corporate code of ethics that is demonstrated and enforced by management, what is the effect upon the auditor’s assessment of inherent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 of an Audit of Financial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a financial statement audit is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ed in CAS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of an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inancial statements fairly pres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inancial statements in conformity with GA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is conducted by an independent aud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92AF1C2-282F-4746-9519-1EC8D1AFA0C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33E84E36-6F60-4747-A627-1776A302B4F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Risk Profile: Assess Risks of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auditor need to assess risks of fra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read anything recently that illustrates what can go wrong with senior management fra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04EF4E3A-62E4-4991-96EB-0FC29133EE6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Risk Profile: Decide on Need for Outside Speci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specialist would you need for the following types of clients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tail store that sells fashion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or of electronics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ranc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el oil exploration and development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ycl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nient way to separate transactions for study and assessment during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ypes (or classes) of transactions are part of the sam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F6BD4A95-EAF0-4C09-A65A-DD495A8C880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nd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and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and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and ware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acquisition and re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CB465057-034A-4744-9F0B-C5EA076424A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Asser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or expressed representations by management about classes of trans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rectly related to GA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criteria used by management to record and disclose information in the F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FF53B9DE-881C-47EF-A276-9CA299F03DF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Management Asser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(accuracy, classification, 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; rights and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and 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97232644-3518-4E40-8D20-8E6E471E445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Assertions Relate to Audi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 and financial statement cycles are used to develop management assertions about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ssertion directly relates to an audit objective (either general or spec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A149C3A8-8CC1-4351-8F18-E3B529340BF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General and Specific Audi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nagement objective is related to either a GENERAL transaction-related audit objective (for transactions) or a GENERAL balance-related audit objective (for general ledger ending bala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plied to a specific transaction or account, it becomes a SPECIFIC audit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717FF77A-C55C-4146-95BD-74E39DE1048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iste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ssets, obligations (liabilities) and equities exist? Are they R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recorded inventories exist at the balance shee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18769890-7046-45FA-AE4A-BD9D88722B9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ccurrence 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included transactions actually happen? Are they R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371240" y="29718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Transaction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sales are for shipments made to nonfictitious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CF4257BD-1846-4EFE-BF9F-4D8B4A5212F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Responsibilities are now describ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2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sound accounting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of adequate internal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fair representations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2C34D6F5-E514-47E3-8435-D76CEC8A581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letenes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nsactions and amounts that happened are included? Was anything MISSED or FORGOT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ales transaction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xisting inventory has been counted and included in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AD875C4-9D9B-47A5-BFEA-D3D08B9EDC0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sset at lower of cost or net realizable value? Is the liability a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ntories have been written down where net realizable value is less than book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904E015-6488-4ECD-9F53-5DBE4F3001A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37124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ransactions and amounts recorded and processed prope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Transaction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sales are for the amount of goods shipped and are correctly billed and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quantities agree with items physically o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55ACF420-9E10-4F99-8592-4EFF836B540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3712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ransactions and amounts recorded in the correct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Transaction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transactions are classified in the correct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items are properly classified as raw materials, work in process, or finished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C3810221-032B-4F0C-8375-4295224A4D9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ransactions and amounts recorded on the right dates in the correct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Transaction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re recorded on the correc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t year end are recorded in the correc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B5CD4548-128B-47E2-84CC-61AD070DBE3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ransactions and amounts updated and aggregated to the correct accou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Transaction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ing and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Transaction-Related Audit Objective for S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transactions are updated correctly to the customer master file, and totals posted to the G. L. account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ail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f inventory items agree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D8BB27F4-170D-4F88-81BE-3D50A2C1834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s and Oblig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s: Do the assets on hand belong to the comp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ions: Were the obligations incurred by the company (not by someone els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s and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mpany has title to all inventory items listed. Inventories are not pledged as col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9BF23CE0-196A-486C-91DA-8C8618856DE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ation and Disclos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tatements include all relevant information in a way that financial statement users can understa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Balance-Related Audit 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entation and 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cific Balance-Related Audit Objective for Invent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 categories of inventories and their bases of valuation are dis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3327FC74-2648-45AB-B055-9B7351B8B9E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5-23, p. 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matching the specific transaction-related audit objective to the management assertion and to the general transaction-related audit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08901F74-F6E6-4CD3-A334-A108795514C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5-25, p.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blem provides a series of audit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ives are these associated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understand these objectives, as you may be asked to provide audit procedures for a particula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A6D24538-95DC-4A7A-A0C0-67135A61BE4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 Responsibilities are now describ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of an opi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assurance that material misstatements are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and perform the audit in accordance with G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6D00CC7D-45A2-472B-9B23-626D7930EB6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Misstatements: Some are Difficult to Det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: unintentional mis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and other irregularities: inten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ft of assets, often employee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ulent financial reporting, often management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acts (direct-effect or indirect-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0294D97E-977B-418F-BFF0-F337C84F026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5-20, p. 1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auditor’s responsibility for discovering material misrepresentations by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0F0D61EE-93E7-434E-803B-EAD6625C549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udi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accepting or continuing the audit, assess 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eight phases of an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D72192F3-5E7B-43AB-A07E-7978706E1A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ght Phases of an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  1  - Pre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 2  – Client Risk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 3  – Plan th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 4 – Design Further Audi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 5 - Perform Tests of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6  - Perform Substantiv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7  - Ongoing Evaluation, Quality Control and Final Evidence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8 - Issue an Auditor’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75A620FF-5D9E-4C9B-BB7F-7B3C6508E50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7:52:44Z</dcterms:modified>
  <cp:revision>113</cp:revision>
  <dc:subject/>
  <dc:title>AK/ADMS 3511 - Management Information Systems – Session 5</dc:title>
</cp:coreProperties>
</file>