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4E1F-676F-4B7D-BB3F-21D033B45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12A1-593E-4ED9-9953-5563CDBB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1390B-1F7B-45AF-8984-6866502D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5A4FE-4E21-4FC3-9FCE-C385C1D9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DB3F2-07C0-492D-B3C8-D99CE7F6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636B5-0B39-418A-B8E3-C7B0AD44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509CD-8C88-44EC-A61D-F269E7E7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F9934-EB44-4D0C-8D7F-8E508170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6FF0-384D-4968-8791-4443F9A0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79E79-8C9E-46D0-B88C-C29E98DA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78265-A9A1-4B34-AA24-5AC2F12F4F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A5508-7956-49B5-B230-15BC834BE9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4734-3565-4B97-8B20-60E90492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6EEE3-07A6-43CC-9C45-8EC123A8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83D29-95D2-4132-AFC5-D0F71125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1B6AF-B768-4AE1-A846-5857F8A6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0A744-DE0D-4150-9CEB-C92931D5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18135-073F-474B-92FE-AE6C1EE6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425C2-8447-4172-8834-BB203AB4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44FDA-866C-4168-9701-A292B194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F740A-269C-40DD-9B9A-55277CB0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28B89-09EA-4177-8ECC-05A54E0F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D68F9-FC2A-41B4-8275-30D6B68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5547-9F48-4E7E-8DD5-7D78619609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0D512-7698-4F14-B96D-9A4C53753D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3B48B-31C4-4FE6-9570-FA690267EB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CFA95D-0350-4A67-9B4F-4FD183C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C7FCA5-5821-40AB-9037-AAE4EB5D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68F2D7-EA72-48AC-811D-B3DC082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9B02BA-1F54-4BB4-B3EC-DD056DED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8C9DA9-C338-44E5-88CC-FE21E556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F653CC-DA5B-45FE-AD47-508555A1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812575-8209-4D92-B606-D0925FE8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C767CE-1847-46C8-841F-D813D930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A2DFE-4E1F-477A-8815-B0A48AAF8F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9FB8AF-D318-4D99-BA8A-1D5E1525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10FA4A-101A-4452-B4E8-0DD50AD6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C68CC-862E-4D23-A6A3-E650601775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38C5-A16E-4008-A244-863558D9A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A305-9BCB-419E-B9EC-F0F41380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B07AC-BE51-45D1-A4B2-1870BC19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FD7EC-6BD4-4DEF-B14F-3DB79317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2791F-BA4B-47E4-8254-6EC5C236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22DB-7981-4C42-BD6A-875CF60E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2D272-C696-4AE6-A162-6AC3B75B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B718B-A8B9-4625-AEEC-FE08C352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0A37-AA6B-4367-AA80-EE4C79A9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07694-745F-4B48-B42B-1DDAA6BB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BA8F6-7A2D-43CD-A8AC-86BCC80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339EB-D5C0-4BE5-BC45-45FAC0A8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9480A-61A9-4777-A19B-AE751192BD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65A36-DE2C-48DE-95A1-F7A173D1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8F973-9CB0-4BCA-9E9A-B3D800A9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A9E46-A9D7-44A1-ACD5-08879117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9A773-13B9-4D09-BC1B-704B50CA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1149B-FC0A-4C85-B29E-CFA5AE63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1FC07-E2A0-4FFB-ADFF-7C88A5C1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738C3-6EC3-4F76-9A7D-1E5C9856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4AF69-75C0-4988-9783-7C9FEFD0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FBEC9-527B-4BD0-973C-4F55F3B2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60210-7326-4830-A2DF-E8EC5EA8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711CF-DB76-4358-9B95-2F08483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F2792-C1F1-457C-A405-F1D9D310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BBA18-EB52-4F1D-85EF-153CD492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85D57-7DD9-4C3B-B9B0-AAFFE461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E47F8-CA92-47A0-9134-8D8BD3CD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994FC-C70B-400C-9EFE-A05AA873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2719D-3255-4281-B73D-D3FA4521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179D-948A-421E-BA6A-920778BD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AE5D8-571E-4EE8-851B-D1ABAAA9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09411-269A-4204-82DA-FE60D77D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FDC37-5A92-4A7D-9F37-20849B1C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3DC4B-ACC2-48B1-BA72-F833E0F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AFDE3-3920-44FA-97B6-8CA4714FFB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8CAD-650B-4B29-9A87-25DB9A142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773F-076A-4476-8299-48636C6C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70D0-C5D7-4590-BD65-FF6995D8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F24B-9D2F-4D30-B35E-BC097EB2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6DBD-0772-424D-9BC8-2208B949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29CF-5E6F-4DFC-91C0-ED3E93E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88ED-F301-46E2-AEE4-7AC74978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48AA-84DA-41E0-B954-B4FCC6E6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A871-9BE5-4E76-980A-06C4CFC6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7139-7169-4EB9-8CC6-14EE222F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E064-0C27-4FE2-8DAF-C5602A50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43C4-5A4A-4C04-B0E9-4D6678FA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1A2F-8E2F-4036-8175-C3DFA8BC9D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DB646-37EF-4C49-86D4-BE1AF39CA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3E476-5BC0-47A7-B703-DB6CDD83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75CDC-2C57-4AB9-A533-7194C35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0ADD-D17E-4F56-9B24-C4E5C936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AEE89-F69A-40DD-B320-BC8F3586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C6198-C01A-481A-A064-0C2D6F4B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4D975-6870-4BCB-A647-DDE0C259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D8DA1-E637-43DA-8036-8E4BCC8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B3F6A-C409-462B-9063-E5FAB0AE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304CA-B126-4483-B4CD-30A2F520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E1AC6-8811-47CB-B40D-D1E5E0CC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A7554-F473-4232-9C55-A7571EE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85DC0-DE30-4A1A-B762-9257BADFEA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29F5E-E08F-4BE6-869E-9BFD2A4D18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DDD8-07DA-4D7E-8A62-9C66B7CA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BFA56-3237-4B70-B7A3-B44A9E4C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C18A9-46B5-4C7C-BA4F-85E9A7DC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8AF21-5EF8-4587-9D27-50C77D9B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B0A9A6-BD99-46A4-A298-AB3F2175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D2283-FA13-480B-81EA-E6A60532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14B7D-E45A-4219-8590-91D0EDA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60B5A-8949-49AB-BD30-DBC7F26A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5FF3DC-C69D-439C-9801-3042588D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CCEEA-F349-40AC-B971-6AEF0C36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A1DBA-F483-484A-B769-DB282AAF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F6B5-93AF-400A-BC15-EC8DF0DB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CCDC4-3E71-4E7C-A7BF-D5F858529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63E1-FCFF-4E35-8B1E-4E6EC267B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218B-260E-41A3-87B7-76FEDD3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EB887-FC1C-46B6-A4F1-587C2822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52ED-442F-4D37-83EB-DBDCE9DD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57FF0-A5AC-4B17-B0CF-2B18309A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95910-2FF1-4E2D-8B28-45A09A1F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5CF8-49C2-4531-BC77-316E7A80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92D1F-C1B1-44DA-9EFB-21E81718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E11F-2C3F-4920-8EE4-A1E9FCD5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6930-9BBE-4C7F-AD0F-F850332F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9F27-D7F2-4A1C-AE13-45B8E797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2BB73-F138-4B35-8228-78C0F1D5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C8BC-9C31-47A8-A14A-B5607873AF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68F6C-A4BD-47DB-BDF3-6AD2956DA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37EA3-509F-4CFB-A540-A2022BE9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8B062-952D-40B7-AF95-F4CDA3AD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1E1EB-27B9-4DD3-B449-795FD8BF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3A559-A9C8-45D1-B2C6-D1658B63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2E984-0B0A-4E81-AF69-95DCE9F1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943EF-09A6-4B83-950F-D1A866E5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0318-71D7-485F-A55B-3E5BFF45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A58B7-996A-497A-9A1D-3087EAB9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54799-036B-4EE1-9259-FEC3C2F2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7EAFD-1561-424E-B3AD-400F0019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01844-1473-47DF-BF6E-AB5337E9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F46E3-BB24-4270-BFAA-689657AE8B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0650CB-4D5E-4138-9A88-27F9C64EA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086E8-DBDB-4344-9C74-7E4E09D8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F6A2C0-185C-452C-8577-37209079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E0055B-BD42-4B6E-AAE8-505B314E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31137-7131-4181-BB7C-CB739428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D02A-780F-4C00-B875-35D36860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82B2A8-36C3-4CCB-91C6-DF926744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1CB31-F296-41F2-8AC6-F60A8B85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3640C-0FB6-421A-89F6-5CFE2D56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BE42DB-3554-45BD-BA51-70BD60BE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EDAE8F-78E3-43D3-AFCF-F02C6D44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8C995E-57E4-4CD2-B210-6BD16A03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E6BA85-C231-40C3-AF41-F61B798A2B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812C2-18D3-4683-953D-7A7A5DFBD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0AE20-C35C-4866-AE04-5EE69F3F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94CA0-F9E3-4556-B810-5075023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370163F3-AD78-470F-A1B8-98CD8DB55A6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CDCB49B6-F01F-4AC6-BCAE-2613121DFAA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A25F9EBB-9C2D-4AF4-9992-B90376838AC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CA0F1F10-073B-4314-B7A7-88500761A58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1D33DE82-642C-4EB4-B899-95411FC239A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A3B2-869F-4125-B07E-6D350A1D134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2B186167-7CE3-4B1F-8992-5274E35F8EF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FCBCEA79-27CF-4A49-9193-A1255335437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9C242023-6243-4B93-9FE7-A96015C298B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167F4EAE-69C1-4095-AB2B-205AC81FDE4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1469AC69-031A-4C5F-B584-87FDA4EB3C6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AB8BBB0E-35C7-4A29-AD77-7B0319BD0DE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FD9C581E-5A94-4EFA-848A-A3203F5C767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0" y="2438280"/>
            <a:ext cx="914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: Audit of the Acquisition and Payment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A553-6CEA-4ADC-8359-D828AAD1324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quisition and Payment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371600" y="1676520"/>
          <a:ext cx="7620120" cy="4581360"/>
        </p:xfrm>
        <a:graphic>
          <a:graphicData uri="http://schemas.openxmlformats.org/drawingml/2006/table">
            <a:tbl>
              <a:tblPr/>
              <a:tblGrid>
                <a:gridCol w="2743200"/>
                <a:gridCol w="2336760"/>
                <a:gridCol w="2540160"/>
              </a:tblGrid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ing and summarization: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quisition transactions are properly included in the vendor and inventory master files, and are properly summarized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ison of accounts payable master file or trial balance totals with general ledger balance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clerical accuracy by footing the journals and tracing postings to general ledger and accounts payable and inventory master files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50A8118A-B4E3-44C8-87FA-92A2580FA9FD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e Sampling for Tests of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sampling is common in the area of tests of controls of acquisitions and pay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number of accounts affected, the auditor may choose a relatively low tolerable exceptio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common to stratify so that large dollar or unusual amounts are segregated and separately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E473A959-D827-40CD-B8FF-0F6D85526C5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Judgment Problem 18-27, p. 6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of exceptions found during the audit of cash disburs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E3E70B89-CE46-497D-BF90-8B74794B68D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h Disbursements Tests of Controls by Asse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1371600" y="1981080"/>
          <a:ext cx="7620120" cy="3954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urrence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ed cash disbursements are for goods and services actually receiv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val of payment on supporting documents at the time cheques are sign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e indication of approv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2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4FD3BC15-FA5B-4D61-B28C-F5630C6680C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Disbursements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ness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xisting cash disbursement transactions are recor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ques are prenumbered and accounted for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a sequence of cheques (block test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DFBD3B2C-0A3A-48A4-918C-09B1513ACCA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Disbursements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1371600" y="1981080"/>
          <a:ext cx="7620120" cy="439272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uracy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ed cash disbursement transactions are accura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hly preparation of a bank reconciliation by an independent pers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e bank reconciliations and observe their preparat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43CA958F-5C82-475E-9954-E32C102DD9D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Disbursements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ification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sh disbursement transactions are properly classifi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equate chart of accoun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e procedures manual and chart of accoun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4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792F0EF5-D93B-4D26-9F64-6D4F3BA9BAC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Disbursements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ing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sh disbursement transactions are recorded on the correct d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date must be system d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e data entry proc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847CC759-4327-48A1-941C-33626FFC8E6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Disbursements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371600" y="1981080"/>
          <a:ext cx="7620120" cy="3929040"/>
        </p:xfrm>
        <a:graphic>
          <a:graphicData uri="http://schemas.openxmlformats.org/drawingml/2006/table">
            <a:tbl>
              <a:tblPr/>
              <a:tblGrid>
                <a:gridCol w="2666880"/>
                <a:gridCol w="2413080"/>
                <a:gridCol w="2540160"/>
              </a:tblGrid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ing and summarization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disbursement transactions are properly included in the vendor master file and properly summariz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ison of vendor master file or trial balance totals with general ledger bal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clerical accuracy by footing journals and tracing postings to general ledger and vendor master fil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614E46B8-4E34-43F3-81F8-29E7F644CFC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Question 18-22, p. 6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payable and cash disbursements audit issues in the face of a client cash shor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isks and audit proced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E8E3AC65-2884-46E3-855A-0F4A9D5E3A8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8 Learning 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jor business functions, documents, and records in the acquisition and payment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esign of controls for the acquisition and payment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ubstantive tests of detail for accounts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risks and audit processes for selected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353DEE9A-B8B5-49C8-AA3B-365C7B2FD78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Con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versions arise when an organization has undertaken a major change in its systems by implementing a new computer system or has made major changes to a particula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 batch processing system could be replaced with an online process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A330B5EE-DEEA-42D1-B8FB-80C6E1D9FC0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 of System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rganization changes an entire system or a set of systems, there are three issues that the auditor needs to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system of internal controls will need to be documented and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will need to audit the actual data convers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will need to determine whether accounting policies have been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example looks at an accounts payable conversion (from batch to online) by asse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815C1009-3A6A-4D6E-AF19-44884ECFA59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sion Tests of Controls and Tests of Detail by Assertion: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1371600" y="1981080"/>
          <a:ext cx="7620120" cy="3565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detai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 vendor file details for each vendor from the new (online) system to the old (batch) syst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iew vendor file listings for evidence of agree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a test basis, agree vendor file details for vendors from the new (online) system to the old (batch) syst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ECBC9B3C-E2E3-4030-A3A9-01CBA19368C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sion Tests of Controls and Tests of Detail by Assertion: Completeness and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371600" y="1981080"/>
          <a:ext cx="7620120" cy="422136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detai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 aged accounts payable trial balance details from the old (batch) system to the new (online) system for each vendor and in to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iew aged accounts payable trial balance listings for evidence of comparis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a test basis, agree aged A/P trial balance details from the old (batch) system to the new (online) system for vendors and in to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2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F744FDAC-5BDE-4074-BD77-5AFCED37031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sion Tests of Controls and Tests of Detail by Assertion: Cu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1371600" y="1981080"/>
          <a:ext cx="7620120" cy="355932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detai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ures exist to ensure appropriate cutoff of transaction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uct cutoff tests, for receiving reports and vendor invoic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 as for tests of control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2706083D-FCB2-4BE8-BADC-64D421347D7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payable is the ending balance sheet obl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and payments are the transactions that occur throughout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he ending liability and the transactions often involve highly material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5AD22F1A-ECA5-4B96-A303-240C838F2AD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ing Tests of Details of Balances of Accounts Payable (insert Figure 18-3, p.6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ECCFA3AD-B2F8-4F67-9965-99B61209D68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s of Details of Balances for Accounts Payable (insert Table 18-6, p.6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2B9B5172-F4A4-4F06-A53D-BB005E9F211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371600" y="1981080"/>
          <a:ext cx="7620120" cy="38340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acquisition-related expense account balances with prior ye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accounts payable and expen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iew list of accounts payable for unusual, nonvendor, and interest bearing payab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ification misstatement for nontrade liabiliti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0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EEABB1CA-BAFF-4209-B4AD-AE4C6757266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371600" y="1981080"/>
          <a:ext cx="7620120" cy="374976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individual accounts payable with previous ye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corded or nonexistent accounts, or misstatemen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ate ratios such as purchase divided by accounts payable, and accounts payable divided by current liabiliti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corded or nonexistent accounts, or misstatemen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DA3A7D3A-6A1F-4004-BC21-02FAD72AC0D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Functions in the Acquisition and Payment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purchas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ing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the liability for goods and services purch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master fil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and recording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83944D4D-1678-49D7-B2CF-CD59EB8C221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Question 18-8, p. 6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how accounts payable confirmations differ from accounts receivable confirm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3FDD24C8-65EB-4663-BAE5-52CB296C8C0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68B8DDCC-6E32-4518-A07F-5DE69B73186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ure of Manufacturing As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assets are capital assets that normally have expected lives of more than one year, are used in the business, and are not acquired for res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ts are used as a part of the operation of the client’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use and normal life of greater than one year distinguishes these assets from inventory, prepaid expenses, or inves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9387BD30-1C94-4761-B9F3-42A1458D3EC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cking Manufacturing As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organizations will normally have a capital asset master file, where each asset is described and track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ster file is also the source of information for calculating and recording amort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may have a manual listing of such assets, or may simply track a balance forward from year to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7D8011F1-EAF7-405C-ABFD-855BB6C409E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s Between Manufacturing Assets and Current Asset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usually fewer current period acqui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any given acquisition may b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pment is likely to be kept and maintained in the accounting records for several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109777A4-D1FB-45C7-9D9F-88BADCE95FE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Emphasis for Manufacturing Asset Ad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is on auditing current period acqui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lso traced to the capital cost allowance section of the tax working pa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rtization and accumulated amortization accounts are also ver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ccounts that are verified in a similar manner include: patents, copyrights, catalogue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2B6A609B-6EDE-4274-B710-F52F7D7AD9A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es of Audit Tests for Manufacturing Equipment and Related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-year 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-year dis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ing balance in the asse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ation ex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ing balance in accumulated amor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01EC725F-4975-48C8-9E17-F3A674E0BDA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 for Manufacturing Equi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1371600" y="1981080"/>
          <a:ext cx="7620120" cy="429732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tial misstatement det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amortization expense divided by gross manufacturing equipment cost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in amortization expense and accumulated amort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accumulated amortization divided by gross manufacturing equipment cost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in accumulated amort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8450A4F3-D040-4A0F-A313-BFF4BFE8B22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tical Procedures for Manufacturing Equipm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1371600" y="1676520"/>
          <a:ext cx="7620120" cy="46638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tial misstatement det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monthly or annual repairs and maintenance, supplies expense, small tools expense, and similar accounts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nsing amounts that should be capital i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gross manufacturing cost divided by some measure of production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le equipment or equipment that has been disposed of but not written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E983A1EA-0361-4428-AB50-F7753BF8745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ification of Current year Acqui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because of the long-term effect that assets have on financial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point is normally a continuity schedule prepared by the client (showing additions, disposals and amortiz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ortant technique is examination of supporting docu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C3D1325D-7910-4B0B-B852-6CF02A33838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ification of Current Year Dispos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important internal control over disposals is the existence of a formal method to inform. management and record the results of sale, trade-in, abandonment or th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important audit procedures are those for searching for unrecorded dispos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ing Tests of Controls for the Acquisition and Payment Cycle (insert Figure 18-2, p. 6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9DFA5728-42B2-4A7B-9382-EB8A006E182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615E5D4F-78CC-4D14-95B9-44A6101D85F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ification of Asset Bal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ture of the internal controls over existing assets determines whether it is necessary to verify manufacturing equipment acquired in prior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controls include a periodic count and a formal method of informing the accounting department of dispos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49EB3822-866D-42AE-AEDC-35C268483DE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ification of Amortization Exp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amounts are internal allocations rather than exchange transactions with outside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audit objectives involve determining whether the clien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a consistent amortization policy from period to period and wh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calculations accu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ification of Accumulated Amort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s are normally tested as a part of the audit or disposals of as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s are verified as part of the audit of amortization exp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03F5F054-5005-4C32-ADA5-424E0A0960D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Ques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-24, p. 6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your responsibilities for auditing opening and closing asset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an audit program for the audit of asset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F160DF24-5F1E-4AD0-B123-315A206080E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B6A0EFBD-CC2E-4700-9904-ABF219919EB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of Prepaid Exp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id expenses arise from the concept of matching expenses with reven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s of accounts are found in almost every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id insurance is used as an example because it is a common expense and the auditor is responsible for reviewing the adequacy of insurance co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1F8ABC87-DFAE-46C0-9A0E-8D078EA932E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of Prepaid Insurance Exp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considers internal controls in the following categories. Controls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quisition and recording of insura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coverag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-off of insurance ex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ganization may have an insurance register or spreadsheet, or it may simply have a file of insurance policies in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8776D29B-A1CF-44B7-BD64-718F92C98DE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paid Insurance Expense: Audit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that charges to the insurance expense arose from credits to prepaid insurance (based upon a schedule of insurance charges and prepaid expenses prepared by the cli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A4C4F863-6BC4-40C2-A6EF-065AB6AFB6F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ing Intangible As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angible assets include goodwill, copyrights, trademarks, deferred expenses, capitalized charges for brand names,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extremely difficult to value as they do not have a ready value, and can rapidly drop in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expertise in the area is required, or the auditor may need to engage an independent expert to value material intangible as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9BE71F32-1EDD-4AFD-85CC-467E7459088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Accrued Li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-related accruals (bonuses, commissions, income taxes, interest, payroll, payroll taxes and pension co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rant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AC938287-4FAB-4FC3-89F4-F37A0860902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ing Accrued Property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of property taxes have been partially tested by means of the tests of the acquisition and payment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in the tests is normally on the ending property tax liability and pay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quisition and Payment Tests of Controls by Asse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371600" y="1752480"/>
          <a:ext cx="7620120" cy="452592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urrence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ed acquisitions are for goods and services received, consistent with the best interests of the cli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stence of purchase requisition, purchase order, receiving report and vendor’s invoice attached to the voucher/chequ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e underlying documents for reasonableness and authenticit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A0B90290-EEBC-4ED6-B2EE-36B90A8DE26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A69A0339-0668-4003-BA1D-3A7EA80AA36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 of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audit of operations is to determine whether the income and expense accounts are fairly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tor needs to be aware of the importance of the income statement to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and consistent application of accounting principles are eval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FE6A5B38-7EA7-4AD7-A5FD-102CB78B43D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 to Auditing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rt of the audit is closely linked to the audit of all of the other transactio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sts conducted during the audit need to be considered to evaluate their impact upon the audit of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view is an important audit step for the audit of operations, and is often conducted using audit software or spreadsheet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C4BB8317-6CEB-4DD4-92BD-1A8158E6AE1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Analytical Procedures for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371600" y="1752480"/>
          <a:ext cx="7620120" cy="445608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individual expenses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statement or understatement of a balance in an expense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individual asset and liability balances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statement or understatement of a balance sheet account that would also affect an income statement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B08A69EE-E5A0-4542-BDEC-2FCBCB06E9D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Analytical Procedures for Operatio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individual expenses with budg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expenses and related balance sheet accou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gross margin percentage with previous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cost of goods sold and inven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7F2C4066-186B-43BA-8B2C-4594D9740B8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Analytical Procedures for Operatio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371600" y="1981080"/>
          <a:ext cx="7620120" cy="42246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inventory turnover ratio with previous yea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cost of goods sold and invent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prepaid insurance and insurance expense with previous yea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insurance expense and prepaid insur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8-</a:t>
            </a:r>
            <a:fld id="{380F29D1-585D-4B39-992A-0688A5C88A8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Analytical Procedures for Opera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371600" y="1981080"/>
          <a:ext cx="7620120" cy="421488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commission expense divided by sales with previous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commission expense and accrued commis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individual manufacturing expenses divided by total manufacturing expenses with previous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tatement of individual manufacturing expenses and related balance sheet accou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18-29, p. 6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e results of analytical re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explanations reason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B3422404-C2AD-4CAB-9675-6C1E04FBA11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quisition and Payment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ness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xisting acquisition transactions are recor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ving reports are prenumbered and accounted f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a sequence of receiving reports (a block test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8DE45470-5061-486B-883F-755F07E1880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quisition and Payment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uracy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ed acquisition transactions are accur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tch totals are compared with computer summary repor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e file of batch totals for initials of data entry clerk; compare totals to summary repor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B1B92E4D-9ACE-4F8B-A6CF-A58781338D6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quisition and Payment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ification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cquisition transactions are properly classifi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atic updates and post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 test transactions or observe entry, and trace to correct fil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DEC8B3C7-5401-4E76-AC53-D50548E3A37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quisition and Payment Tests of Controls by As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ing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cquisition transactions are recorded on the correct d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date must be system date (today’s date) or a reasonable d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e data entry proc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Date Placeholder 3"/>
          <p:cNvSpPr/>
          <p:nvPr/>
        </p:nvSpPr>
        <p:spPr>
          <a:xfrm>
            <a:off x="13716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7-</a:t>
            </a:r>
            <a:fld id="{2485DA95-6952-4677-9F36-CD0FDF917F5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8:31:20Z</dcterms:modified>
  <cp:revision>79</cp:revision>
  <dc:subject/>
  <dc:title>AK/ADMS 3511 - Management Information Systems – Session 5</dc:title>
</cp:coreProperties>
</file>