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5144A-6E81-4F52-A57E-C80FD9BDAC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1732C-9DC1-493F-BC32-54914EC4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C493D-CA07-4ACB-B039-541CE7BB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BB3CE-0CF9-4629-BAE5-21B9B0E34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A6F21-1CB1-475A-AF86-0FBF60B1E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93FAA-1A31-492F-9090-63E37F4E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04F83-38D0-49B0-AE99-B27CF63F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B1FDE-3B29-4505-AB3B-E5903088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1EFF1-95D6-4ECE-A77F-D7500972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24E80-C5F7-4B80-B8D1-E054CE5B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41E73-5624-4122-B852-1537A09434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B7EA57-39EF-4E17-ADEA-8625ED6C00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1ED22-C295-4557-AF80-E962D132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317895-9113-44D7-8019-C14F6CE7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8C277E-591F-4281-8B20-E8178118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3CC9A5-A8D5-4146-8D5C-F2B1F6E4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6E6CED-718C-464F-BA5A-85EC1C671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2ECA88-B651-42E6-BE9D-EAEF174ED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1CE567-3B72-4985-B3C5-8818878E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7E9443-07A8-46FF-987B-4573C23D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DE041F-913D-4E9F-936F-BAD1347B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9CCFC6-AE98-4CB0-AE48-23B3F729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5FDE84-5315-42CF-A622-0A665A01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ACB9C-EFF3-4D9C-B75E-1F844E43B3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FF0DD3-0D54-4BBA-AE6C-93073CDCAA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92E9EE-107C-4393-A189-CF5D7BB636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CE0B63-5535-49AD-9D94-31FD8C24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7D12CC-0B94-4E46-B0E0-8D6C9929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3E3E12-95B9-400C-8BB0-E725191F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B82F29-7752-48C9-B8FA-8243EC5AD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A889A4-4438-41F1-A0D3-E2F2C9E40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6A5294-7726-4CAA-AFD0-1946F06E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7535DD-A26D-4D9D-80A2-945257EC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EC140F-41BB-486E-AD0C-14D91135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920E4-8598-458D-B6CF-CF6561402A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A739B8-691D-4141-AA63-E4E79EC3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6723E9-D229-464B-8615-33CA1113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00A2A3-FA43-4E26-9B72-8EB739DE63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107AD-F35C-4B3A-8C11-971B39DCC6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4D786-1525-40A6-814B-78F9E99C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4B409-5172-4731-98EE-CA80821A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9514B-77F2-475B-8DF5-BF8C5597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06368-BD46-4B13-A51D-1415FC73F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93026-D358-41B4-AD6A-689053833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1DEC7-EFCE-4A77-B43D-0F02781A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B3412-4512-45EB-8D17-5934F79E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FB81C-C2DC-4240-B5EB-23F35C8F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7F42C-3CEC-4419-AB78-BFD810CD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09BF0-FF13-4F5B-B94E-5292FCD4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BD1DC-7147-4E07-B605-1B0D716B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81193-15F5-4F3E-8FA3-65B10363B9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7BAB6-1E5D-4641-B13D-D42EDA6C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5B91C-4698-41CB-AA71-104CC8D8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99870-DA96-43D6-802E-04891600A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A1ADA-C441-48F8-ACEE-9B0AEB303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1D56F-1744-4338-A827-F8B2F1CB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BD644-077C-4A95-B12A-4EEC14AC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4642E-D016-4597-BD01-61049A75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CD9A4-2773-4607-A9E5-608E4162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970A9-4370-4DC8-A438-2B513836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A9692-FE3D-4647-BA1B-86D03BFA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1A757-4A64-4C63-9E85-96D010E5A2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56C7-2728-450C-803D-51EC84575C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6BBD-3C6D-4FC5-BE1E-C04C09E5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1A61-411E-4A0A-AB7A-096CDF73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1BFA-31A0-46C7-8613-6CB03CD6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3589-CACA-46C8-9A57-24233B1AB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C82BA-F070-46C8-9549-8F85368B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E076-0F95-495E-813F-84C09B626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46AE-00A4-4533-BA62-1EE62469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98C6-8B9F-4F8D-8DDC-F8CCF6F1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F96E-9E9A-4068-9D34-282777C1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149B-AE35-4492-809E-4E794C0D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CF70-2D5E-4567-A4FE-672AD75D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7615-C5B3-4C9B-9F19-EBC339DD3E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1F3A8E-B4CB-435C-8F78-680B7D6FE3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F14027-79FC-4271-958A-FBD35179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1B39C7-C17F-4105-9E7A-3FDF5D04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38F27-3893-4DD7-B3E3-29E36A79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E86930-871E-410F-B4EB-659772D3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BC21E5-9D78-4AC7-9305-5FB9F172F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C12B02-D46E-4D45-9024-A77BB1412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1AABFC-4049-41EA-889D-3A7E9EC2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D4BF9C-9341-41DF-A7C6-BAFFFB0C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D5C517-3783-4D93-9D17-D0C3BDD9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2B3CC4-3C6E-4C32-A357-3BA407CF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72C396-F77C-415C-B30D-A5E07113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5CAF24-DA80-46F5-A694-7D667BA905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71FAA8-6279-4B5E-BA44-93FFB6FFDF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3DDBA-6688-4685-A649-B0D9F8FAC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295419-3E52-40EB-8123-E628099F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6EC064-FAD8-49F1-B6E5-DAE7EC4F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B72828-0AE5-4E65-817A-2D9C7867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FE07F7-6626-421C-84AA-A2D51731D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9DC190-9529-46B8-8284-64ED8E59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502759-E3FA-4143-9807-BE2019EE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5D980A-5B90-41ED-B20A-4E5B6938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7A01FE-4E9E-460E-95AC-922B7311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286C87-D26E-493C-8618-1F6E18D9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267ED1-22EC-4EDF-9025-9CCC2AE9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2DF8D-338A-4552-BA6C-F5C92B74B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9417B5-783B-4437-8FC8-60108048B9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F4B76-908F-41EE-AFE2-85CDD8F85C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F2967-F68C-41B2-8974-F3059944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6C608-81CF-41BF-8CD0-7C474D79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2C2E2-30F6-493E-BC1E-BBF285DB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D8015-565D-4A39-A15F-65522C8E6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3A78A-4363-47D3-A89B-1412D61A1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F2355-3EAB-4883-8293-BB9FE441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4C8E0-32B9-45E3-97F6-2ABA1C05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B1A07-253F-4F31-B2DB-82014ECF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D02A7-B746-489A-8FCD-853251A4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3D9BF-C28E-4FDE-813D-FB10FFBE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4878F-CB9C-4C5E-BDAE-4E70C37F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7185A-DACD-4A1D-9D23-93281B3AAE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AE495F-E091-43E2-81D3-FEFD280199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3623B8-E51A-4677-B652-226CB911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20AC36-3410-4132-BA36-64DE0B9A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0EAE1C-0B6D-42DC-A32B-6F2510C7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4B94B0-45FE-44AB-8711-DB3902D4F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61708D-410F-48FF-92B0-72AF66C6E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8F4FE0-1131-4047-BBB4-220F6833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A6180-99DA-4945-981B-4403B462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54CAD3-BF33-481A-A90F-369F1B0D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A30F41-9547-4D23-B80E-659B2545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15068A-8DA4-4E35-ACAF-FB4259F7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7B3088-BD4A-4791-9796-2C28C064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6AFA1C-B26F-4F35-986F-F9510ED4D0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C45876-7B82-4D66-AFA8-427E8E1213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C127BC-316A-4322-8885-BD1076A5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03B658-A333-4BD8-AA22-9FA0C23C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99FEE5-6E3E-44E6-8FB9-AF9135E6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C69640-BE62-4F3F-B51E-B78328E64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720E4-428A-4730-A8BA-BC6F44DA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848A06-EBB0-47BF-8850-6F5DB63A4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75397B-8058-4568-BB23-97691A81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A19425-8F92-4247-BA25-BBB161FE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D65C31-CD2E-48E7-A91D-2AB743BD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593481-BFA5-4DF9-8372-70B12EB7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317A42-D569-4023-A6A2-AD079550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FC7E77-096E-4E10-88DB-352DB92C94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9BD6A-AE03-4186-80C5-E3D0BC90BC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A708A-F36C-43AE-89BF-332CF8EE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B75F6-812C-4DF3-8371-DD4D4977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2-</a:t>
            </a:r>
            <a:fld id="{922A29B6-A200-46A8-B2A1-ED210135D9E0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19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sldNum" idx="20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2-</a:t>
            </a:r>
            <a:fld id="{44FA7767-9B4D-49DA-8766-6080307DA3BD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1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sldNum" idx="22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2-</a:t>
            </a:r>
            <a:fld id="{B4E7F362-F622-4E02-B2E7-7B3D020EF420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23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sldNum" idx="24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2-</a:t>
            </a:r>
            <a:fld id="{8C9B4BBD-442D-4297-A608-3CFB3C495CC0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8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1523880" y="15228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152280" y="6553080"/>
            <a:ext cx="28195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4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E66A-93B6-4E9B-8963-336A48D174DD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5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2-</a:t>
            </a:r>
            <a:fld id="{E1F9FA59-8340-42BB-B204-1EEFFCC105D7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8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2-</a:t>
            </a:r>
            <a:fld id="{55210D5D-18C8-4C5B-A7AE-4672E5D1225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9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10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2-</a:t>
            </a:r>
            <a:fld id="{9F1C48D1-6956-4396-9EE7-BFA9941DB0AE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1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2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2-</a:t>
            </a:r>
            <a:fld id="{7A5AC2E3-03C9-4BFC-81A7-76E35982CC10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3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sldNum" idx="14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2-</a:t>
            </a:r>
            <a:fld id="{AB10A2E0-F4D8-4AC3-8258-C5F61E276D64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15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16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2-</a:t>
            </a:r>
            <a:fld id="{DED47BBC-6EE0-44A4-8E5A-5351426D8900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17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sldNum" idx="18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2-</a:t>
            </a:r>
            <a:fld id="{47D3B7B1-7FD8-4A9E-BCC2-4212C45D7EDD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4"/>
          <p:cNvSpPr/>
          <p:nvPr/>
        </p:nvSpPr>
        <p:spPr>
          <a:xfrm>
            <a:off x="152280" y="6553080"/>
            <a:ext cx="28195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6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2E27-3C61-4093-A580-CBFADA484B86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2560" y="-3891600"/>
            <a:ext cx="77760" cy="92314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0" y="2209320"/>
            <a:ext cx="91425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Auditing: The Art and Science of Assurance Engag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3: Assurance Services: Review and Compilation Enga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se 23-20, p.76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dditional testing required for a special report on royal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he audit repor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2-</a:t>
            </a:r>
            <a:fld id="{F9AC3C3B-7010-440F-9AC5-7588F8D085FE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view and Compilation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statement reviews provide some assurance for clients that do not require an aud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engagements can also be completed for other financial information (e.g. verifying sales for lease agreemen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ations provide no assurance, but enable the accountant to prepare financial statements or tax returns, or compile other types of financial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2-</a:t>
            </a:r>
            <a:fld id="{E8BE4B74-3F08-4438-BAAC-FCF09016EEDB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ount of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urance and Extent of Evidence Accu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Figure 23-4, p.7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2-</a:t>
            </a:r>
            <a:fld id="{E817E5F9-A5FC-48B5-AE68-67B528349039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rms of the Engag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dvisable that an engagement letter be completed for ALL engag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s the accountant and the client clarify the nature of the work to be completed, the cost, and clearly set boundaries around what will not be comple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2-</a:t>
            </a:r>
            <a:fld id="{EB05072C-F825-4A4C-B513-9FEFE982014D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view Eng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s primarily of enquiry, analytical procedures and discu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is to assess whether the information being reported on is PLAU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the framework of appropriate criteria (GAAP for financial statemen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2-</a:t>
            </a:r>
            <a:fld id="{1BA946A1-2E1F-4EA3-B02C-523E80CF43A3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dures Suggested for Revie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 knowledge of the client’s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enquiries of client person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analytica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discussions with management concerning information received and the information being reported 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2-</a:t>
            </a:r>
            <a:fld id="{FF3ACE66-246A-48CC-91CA-753155827F0F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fessional Judgment Problem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3-19, p.7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hould be done before accepting a review engag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ine the process for conducting the review engagement for a chu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2-</a:t>
            </a:r>
            <a:fld id="{C59C10B1-EA64-4677-904D-94BDA5E125AC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Revie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information other than financial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iance with agreements and reg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2-</a:t>
            </a:r>
            <a:fld id="{12B98AC6-1B09-44AB-BAB7-9AB1C353207A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ation Eng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bookkeeping services that lead to the completion of financial stat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s may be prepared monthly, quarterly, or ann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includes tax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ssurance is provi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2-</a:t>
            </a:r>
            <a:fld id="{03C593F3-C9D4-4884-A88A-2A850E6D045F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dures Conducted During a Compilation Eng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countant assembles th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s that it is arithmetically corr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the accountant should not be associated with false or misleading financial statements, it may be difficult to make this determination because of the limited involv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2-</a:t>
            </a:r>
            <a:fld id="{2BF13C7A-1DEC-496D-960A-1847C5616AD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23 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the assurance engagement general standard is different from and similar to the audit stand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review and compilation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types of reports provided for interim financial information and future-oriented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2-</a:t>
            </a:r>
            <a:fld id="{9BB4A75A-3F68-49E2-BE8C-C6BDA9C9F82B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fessional Standards for Compilation Engag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have adequate technical training and proficiency in accoun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with due c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should be adequately planned and properly exec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ssistants are employed, they should be properly supervi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2-</a:t>
            </a:r>
            <a:fld id="{592FA0C1-4235-43CE-84AA-3C61C54FAE12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im Financial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audited, reviewed, or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s may be required to prepare the information on a timely ba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eans the information may not be as reliable as year-end financial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2-</a:t>
            </a:r>
            <a:fld id="{10AC5608-4057-4667-9008-0E74ECBB6EF6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-Oriented Financial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wo general types of future-oriented information in Section 425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cast: uses assumptions reflection management’s judgment as to the most probable courses of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ion: Is prepared using one or more assumptions (hypotheses) that do not necessarily reflect the most likely course of action of the 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2-</a:t>
            </a:r>
            <a:fld id="{EF20012C-70F7-4D10-B691-746190DFAC53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view Question 23-12, p. 75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what does the auditor comment in his or her report on financial foreca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2-</a:t>
            </a:r>
            <a:fld id="{E109AF7D-F168-4F83-BD82-9C0A7C43D61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spective Financial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pective financial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are financial statements that are prepared with expected future information, normally for a particular expected event, such as the sale of shares or the retirement of deb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2-</a:t>
            </a:r>
            <a:fld id="{0AD5668B-5DDC-4023-A0BB-F47C3A12BC1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fessional 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respect to the examination of future-oriented information, it is important that the account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dequate technical training and proficiency in aud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due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adequately planned and assistants properly supervi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fficient evidence obtained for report issu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2-</a:t>
            </a:r>
            <a:fld id="{CE4D1B6A-31B8-41F4-AE70-DA319304B757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ior to Accepting a Future-Oriented Engageme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accountant needs to ensure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dequate support for the assumptions used to prepare the financi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hypotheses do not significantly impair the quality of the financi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2-</a:t>
            </a:r>
            <a:fld id="{22226C1A-8C46-4D5D-BB91-22CA147D448D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or to Accepting a Future-Oriented Engagement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accountant needs to ensure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 is willing to disclose all significant 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eriod to be covered by the forecast or projection does not extend beyond the point where future results can be reasonably estim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hypotheses are not false or misle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2-</a:t>
            </a:r>
            <a:fld id="{8B14FF45-E3AB-435D-8070-FF5DD344C3B3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 Question 23-17,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. 7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year forecasts to obtain additional 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accept the engag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sues need to be discussed with manag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2-</a:t>
            </a:r>
            <a:fld id="{43135967-BD3E-4624-953F-7BDEDC52D390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ination of Prospective Financial Stateme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s evaluating the preparation of future-oriented financial information and the underlying assumptions and assessing the plausibility of the hypothe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 would evaluate the presentation of the financial information for conformity with CICA presentation and disclosure guidel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2-</a:t>
            </a:r>
            <a:fld id="{DB2A5D5C-4BAE-4D37-9154-E6B28D6272D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view of Assurance Services (insert Figure 1-2, p.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Date Placeholder 2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2-</a:t>
            </a:r>
            <a:fld id="{EB352AE2-DEF9-47CD-BDC7-0512567223AC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ination of prospective financial statements (Continued)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developing a knowledge of the industry and business, the PA would focu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ility and cost of resources needed for continuing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e and conditions of markets in which the client ope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 industry factors such as 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t performance by the client and its compet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2-</a:t>
            </a:r>
            <a:fld id="{9F4445A7-C908-40CB-8C7D-809A67699DD2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surance Engag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rance engagements are very broad in n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include financial statement audits, review engagements, certain types of management consulting, and specialized reports such as Elderc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ree (or more) parties to such engagements are: the user(s), the practitioner, and management (or another accountable part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2-</a:t>
            </a:r>
            <a:fld id="{6D4156BA-EB9A-4DF9-A9DC-7AFEC1A89385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Parties in an Assurance Eng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Figure 23-1, p.7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2-</a:t>
            </a:r>
            <a:fld id="{74C9A9BB-C8B3-4511-BD03-8802A2BDAEB3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surance Engagement General 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agement performed with due care and an objective state of m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eria for evaluating the subject matter should be identified or develo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2-</a:t>
            </a:r>
            <a:fld id="{289B69CC-6BC3-40D5-B292-8E08D7C8C3B6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ison to the General Standard for Audits of Financial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AS requires that the audit be performed and the report prepared by a person or persons having adequate technical training and proficiency in audi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due care and an objective state of m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2-</a:t>
            </a:r>
            <a:fld id="{94B4B18E-2EC3-432A-A247-E9F811125C27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ilarities in General Stand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require competence and technical training in the field of the engagement (audit or assuranc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require due care and an objective state of m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2-</a:t>
            </a:r>
            <a:fld id="{7A07DE01-339D-44B3-BDB8-521C462F99C7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fferences in General Stand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requirements for the assurance general standa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ieving that the engagement can be 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 acknowled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cation or development of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you think these differences exi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2-</a:t>
            </a:r>
            <a:fld id="{3432E5AA-D9C7-4E76-8F6E-E2F694B04756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18:14:52Z</dcterms:created>
  <dc:creator>Ingrid</dc:creator>
  <dc:description/>
  <dc:language>en-US</dc:language>
  <cp:lastModifiedBy>pacoady</cp:lastModifiedBy>
  <dcterms:modified xsi:type="dcterms:W3CDTF">2010-03-03T19:05:00Z</dcterms:modified>
  <cp:revision>72</cp:revision>
  <dc:subject/>
  <dc:title>AK/ADMS 3511 - Management Information Systems – Session 5</dc:title>
</cp:coreProperties>
</file>