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FCE70-8804-40FE-82AA-82565D87A3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6A98-AD60-41E9-A028-40FF092C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62D3F-15F4-4B16-A762-FBEDF870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75DD1-8AD3-406E-9E5F-F04E8AA2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4D874-C773-4C45-B37C-2D96F3A0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6E995-8891-4E7D-A623-85825109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A1F13-8D95-47FF-940E-F6E35A4A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C9102-EDA5-4B38-B975-05944D7F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16206-6C27-4278-9933-2774BE06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7BCCB-2FC5-4904-8DF5-2149ACB6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E662E-B8B7-4F81-B233-BFC1D3A34F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55A897-026A-4120-9614-1B68B4D3D9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FF3F-2646-4D17-B29A-B8E47D8B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93F78-E8F4-45E6-87C3-C79F5EFC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E7B940-D30B-4558-B99B-D5BF432B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F372C-89F1-461B-9EB0-885BABCB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B73B3-AA1C-485D-85F1-F05C3677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D23282-0445-49CE-8A9A-3EB07A39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FA34E-AEE7-4A67-9806-18C93675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28857-306E-4A43-A782-E9B1D585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BC0B6-D712-4840-A020-955D63DE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0C440E-039E-49D1-9036-4B6FF29D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C8F5B4-AB9F-4E78-9A83-4E347510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A7E1-C3B5-42E9-8C47-FE4DF7F66A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E4CA34-66F9-4CA7-8710-0AE79B1E95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497874-61E1-479F-B065-BDC8970D82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9B4CD8-FABE-42B9-8380-CC8EEF93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25B177-5802-4D93-85DA-68E4523B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C97D67-872E-47C4-813F-C752EF3F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004FED-6DA4-458E-855E-8113FECD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9CFAA4-94AB-432B-9F7B-10721930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62AE29-3C5A-4C81-8A64-E5753031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8B5A36-3853-4250-9542-D5F2CE55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E914C0-06B8-43FC-8516-56200EDE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491E5-F285-4DF1-B370-528B49782D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5032B5-A2C0-4673-A134-7BA9AC22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70B9E6-EDDB-4845-B22A-07D76084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081D9F-9C17-4FE2-8F30-461640B4CF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80EB2-12B2-450C-9160-CC60A6B169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904BF-6471-4B5F-BAEB-8295A867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9AC9D-C68C-498C-B829-94396BF8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BA495-7B8B-415B-AD56-CDF45F85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CB168-BCB3-4DE5-8917-F53BD6C6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7F519-7AFA-4716-8B74-AAE9C054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F4367-D99F-491F-ADE4-7C5517B8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B8BA2-9505-410A-99BF-94843FD4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25DD3-290A-44F2-ACD4-BEED4E2C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EF88D-5C4F-4338-9A74-27B24883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67FD5-64F9-45C1-8BD0-1B2C99F1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3E83D-FCD8-4E4A-B4C8-A3F053D4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7F02C-1C59-4011-9ABE-BD20037BB7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66E4A-204B-4168-AC4B-43FB5C75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D6C9D-5690-437D-A3B4-CB9A9D2F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09413-37A4-4668-8622-B5321789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3CA8F-EB0B-480F-A848-1BB99CD6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C1B52-C6DC-4382-B1D7-7CC1EFC6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D7909-7486-4775-A809-7D9D26D5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4B2FA-8886-4165-BA3B-E79586BB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54C5C-6B91-4790-AEF2-B422AE6B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2B579-6F28-4365-AFDB-1C97027A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FDC8F-56DB-46D0-A619-589628A0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76918-ABAA-4636-B3C2-7997422FDF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CA28-050E-4134-942D-F6A2E67F4C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764E-AE93-4FF3-A218-71ECC426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1FCC-98E4-4097-B964-F4422E9D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2A79-3D5D-4F00-B80B-453D77BC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2390-4500-43DB-BF22-875CCB61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700E-BA9B-45FF-84B2-20B562FA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DCAD-3A72-4315-BA3B-0F3874D0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7121-7350-43FD-BD18-C9007B7B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9D2B-8F3C-4450-87C9-7CA3A5FB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4878-7037-49BD-9A9F-F09C3DBD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FDD9-4505-4641-BD31-18074901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B2D7-0B45-4498-BED1-F50DF954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98C8-3C07-41E7-81D1-3855886A82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8D355-3324-4D60-8727-79B11BF354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F154B-522A-47EB-B7DE-D652F9AA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CDA3D-C19B-4C0A-96EB-DEAD4E02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35D0-0737-4FDC-93FE-9C9CD393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9C50B-FB3F-4800-B5C4-B6C75516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97ED2-0FC4-464F-A5BF-74519258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F0F48-66E3-471E-B9A2-EB21E4C7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C1841-68D7-4292-B081-EEE02C91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73872-27F9-4790-BA6C-D73E5494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0C3CA-18DE-42F1-B87E-29B45D35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92611-B168-4196-8273-2F3782AA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4FB7F-050E-4818-9930-F80C2157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EE9A5-EC08-4325-9426-6B43F2E16F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AF5E9F-15A8-42EE-BC87-A5D06F30A0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6106-E2FA-4589-9355-44FC2F86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6CC9F1-CC00-49E4-B770-B494C6C1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0CE16E-7E07-4193-813D-27A491AE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B9CF72-343B-47A2-BBD5-A7531FE2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DEC096-69E5-407B-BA01-36FCA9D1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7DA917-6F96-49B4-A064-DAB34309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97272-1B04-40FC-B07F-AD79F4E0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82A16-C1DB-4FEB-B06E-84941047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366477-8423-4ABE-9FD2-FF29BCCA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0724CA-6E05-49A5-B22F-DAF461C0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762DF-88A1-49B4-B246-D7C0BF94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C5B70-AF33-4EE6-A8BF-2DA1135B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4E9E55-E937-44CF-9592-5884019415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383A5-9CB1-4D97-B62F-13CFAFFA89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B8F36-3BE2-4C19-B676-EDDB1790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5834A-788B-413D-B34F-32AA72C9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485BC-2289-4513-B05A-C3979312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18BD2-A515-4C2B-AB14-1DB88A55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E40A7-FD09-41C6-B76C-4BFFC316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FA8CD-268B-4095-B239-787F56DA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92A9A-16A5-4535-A912-6B503D82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D6FD-D2B2-43D6-A59A-0789925A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2DBE6-A081-47A3-A585-B1BFBD46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FD7F6-4711-49EF-A447-26F17DB2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11F12-647C-41AC-8FA5-7D843993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42D84-ADA8-498F-901A-0B845FEA05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CDF05-70F6-455F-96F5-1E2DE1F1B3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71EF8-00C0-4F0D-8202-F8688F5A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D7065-AF56-43F8-A0FD-8AC6F45B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13912C-B9BD-4CDE-B8A8-FB8ED7BE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DCA7F-FAE9-47D8-AD72-436F7332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9DCF3-BBBB-4AB8-BA99-A28BAB53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DF028-2265-4266-9B7D-0E5F8EED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CFA80-C631-4B3D-8E09-75699B82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59C9FD-2ADE-40D0-81A6-1B2AF21B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ED15F-4727-4DFD-A2D6-5DFA236A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CDAD5-2F58-4E74-8553-2D016EBA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F1EC6-C5CB-4E5F-8DC9-9BA45351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6A4CD-7E40-4993-BFD5-1392D9B2FF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7335D1-23B1-4BB4-8723-A812F55E57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653017-D315-4EC2-AB1D-A5664C34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CBC788-BF2A-4424-AE43-BFB6C673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7853E1-D346-46D3-98EF-9EC50701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2D203B-6D2F-4A3B-99F5-75B41836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9AE3F-B246-4704-AD42-5FECEFE8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D0BBFF-E7C9-4A4D-832D-C98508BC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6DF572-A712-472B-A572-09D3B829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501868-8D0C-4203-91C6-58E920A4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212B1B-64EA-493B-B02A-A9FA5D97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1D231E-9C00-4284-9E79-44CD7C6E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6A6014-7CE3-40D5-BA83-22DBEA8B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219BE2-E9C7-40CB-B778-396C8F9789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BEE3E-60C0-46D4-9E6C-E06C1F7190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7345D-FE4F-4204-90FD-185CC54D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A9878-AC6E-475F-8489-E80A88D5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30C8DAF4-092E-4D48-AA60-8C3313459A0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2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49A74E09-117F-44F5-8271-5E7E954AFEA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84C4324F-2FE9-4CF5-BA50-D41F8B11FA7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6502D71E-CE87-421D-AAFB-4B359F0ABAC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3880" y="1522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C6D3-F6D0-4079-869B-332C47CC7C5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76E3AA91-C02D-42EC-AD9B-56BD15F2F16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9724DFA3-4225-432A-BF78-2B9CC2E1678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123E5FCC-241E-47D4-8BA9-C9E67550D7B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D1485B85-0834-4ACD-98CF-E08F83DB357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86E23CCD-BA76-4866-9867-4F6AEB0E8CA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05621023-210F-4910-8597-3DDE8570EF2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1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396C1B27-AF71-47E6-9DBC-529EBCD36FD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2560" y="-3891600"/>
            <a:ext cx="77760" cy="9231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0" y="2209320"/>
            <a:ext cx="9142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uditing: The Art and Science of Assurance Enga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2: Overall Audit Plan and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F944-92C4-48F2-B820-12E5A159A1E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hodology for Designing Tests of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procedures to understand internal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ontrol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ost-benefit of testing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ests of controls to meet transaction-related audit objectives (audit procedures, sample size, items to select, tim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845F90F4-EE52-44EA-8025-A5B49F3029A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tical Procedu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go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mis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ests of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207E3A7C-5FB1-45F6-BAC8-2AE17D937D8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tical Procedures (Continued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prior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ratios/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quiry for follow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1B32E67B-35D1-4CE9-B6CC-C4F2DA187ED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Details of Bal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ve procedures are performed in order to detect material misstatements at the assertion le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of details of balances, that focus on the ending general ledger balance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tical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-purpose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5B932B53-166B-4EFC-AE00-0E14EBB311A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Details of Bal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evidence used for tests of details of bal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rformance (includes mechanical accura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46C61BE4-CCD4-44EB-A8D6-8D1CE592A0A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s of Tests of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vendor invoices in support of amounts recorded for purchases of inven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culation of payroll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examination of inven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80BF7597-DCE4-4CB4-B302-04ED2315362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al-Purpose 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tive test is a procedure designed to test for dollar amounts of errors or fraud and other irregularities directly affecting the correctness of financial statement bal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1D7EB725-E7DB-4BE9-9A4B-D68F557D9BF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al-Purpose Tests (Continued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auditor conducts an auditing procedure that is both an internal control test and a substantive procedure it is a dual-purpose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66B65601-2334-4AEF-9F5A-3BE5678B32D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Summary - Types of Audit 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Insert Figure 12-3, p. 3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DA9BB6F3-3B00-4B8C-B5D1-8AFC3199E50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Evidence is Used for which Type of Audit 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examination (tests of det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(tests of det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 (Understanding of &amp; tests of contr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quiry (all four 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accuracy or reperformance (tests of controls and tests of det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F6770717-E631-4E77-845A-4428C643C21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2 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an audit strategy is. Explain the role of audit planning in the financial statement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evidence mix. Explain how the auditor chooses the types of audit tests to be compl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ethodology for designing tests of controls and tests of details in the audit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6D92DDB8-71B2-4872-A491-D992C086C01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12-18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 4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type of audit test and evidence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AA2E761B-D6C1-42DD-BA32-B8E8180F14A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idence M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ignificant variations in the extent to which the four types of tests can be used in different aud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or uses professional judgment to determine the mix of aud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1CBEBDE3-E674-496F-8D6D-AE601973DA8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hip Between Types of Tests and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Table 12-3, p. 3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0C62A8C2-B2DF-489D-9EEA-6E6126446D3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igning the Audit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udits use a combined approach: includes both tests of controls and substantive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 program is normally split into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of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tical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of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B08D1A3D-5F7B-438A-998E-20C9E897E43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Controls Audit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the descriptive section documenting the understanding obtained about internal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st-beneficial, tests of controls would be conducted for key controls upon which the auditor intends to r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program is normally listed in a performance format (i.e. in the order in which tests will be conduc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08982179-DE58-48DB-8D2E-0AF50EEAF7D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tical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nducted at each phase of the aud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in the planning st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elp the auditor decide the other evidence needed to satisfy audi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audit in conjunction with tests of details of balances as part of substantive procedu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near the end of the audit as a final test of reasonable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25781475-975D-4AEB-8D9C-C82EEACAEC8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12-24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 4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parts of the audit in sequential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E2D67C24-E3F3-4FB3-93B2-E92E7C5B3DB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Details of Bal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nned tests of details of balances include audit procedures, sample size, items to select, and tim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 must be selected and designed for each account and each balance-related audit objective within each ac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0E5C8AB1-0412-46DD-B875-83B52BB74D4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of Audit 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tests can be conducted throughout the year, or, for a small audit, may be conducted in a concentrated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3839F541-7E81-4E90-88CD-7499C4E8377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of Selected Audit 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Insert Table 12-4, p.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2B5E9BF7-35B0-48AB-B6C3-86E297DF000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udit strategy consists of a planned approach to the conduct of audit testing, taking into account assessed ri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tegy can be developed only after the client risk profile has been developed and risks ass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87720A02-22FF-4695-9E82-63A600E5FC8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12-22, p.4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decision to perform interim tests of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A98A85D5-C911-478A-B5CA-5F545288E06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Audit 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ors use five types of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assessment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 to obtain an understanding of intern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of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of details of bal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BE00C4BE-212A-4D97-834C-EA5CF91F84B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sk Assessment Procedur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assessment procedures are used to assess the likelihood of material misstatement (inherent risk plus control risk) in the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279778E5-7EB4-470E-B913-DA7BFFFDDDD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dures to Obtain an Understanding of Interna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and evaluate the auditor’s previous experience with the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quiries of client perso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client’s policy and systems man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documents and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 entity activities and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5E075B73-51ED-403E-9888-E4718D53CD8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Contro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procedures designed to verify whether the client’s controls match the auditor’s understanding of those controls (as documented in flowcharts or questionnair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employee time cards for approval of overtime hours wor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journal entries for proper appro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65DBB4B4-87C2-499E-A11F-42206E67727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the Purpose of Tests of Contro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btain evidence regarding the effectiveness of controls (which may allow the auditor to assess control risk at a level below maxim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rols are to be relied upon then substantive evidence may be re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5618FEE4-212D-4D81-9DE1-D205A2D0B2C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evidence used for tests of contr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procedures used to obtain an understanding of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BB91AC25-C73F-4DF2-B151-46AB86AC19B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8:14:52Z</dcterms:created>
  <dc:creator>Ingrid</dc:creator>
  <dc:description/>
  <dc:language>en-US</dc:language>
  <cp:lastModifiedBy>IBC International Business College</cp:lastModifiedBy>
  <dcterms:modified xsi:type="dcterms:W3CDTF">2010-03-12T15:27:47Z</dcterms:modified>
  <cp:revision>110</cp:revision>
  <dc:subject/>
  <dc:title>AK/ADMS 3511 - Management Information Systems – Session 5</dc:title>
</cp:coreProperties>
</file>