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4D19E-C85B-49DA-B053-851C0E482B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5F97D-73E0-4708-8A0C-D182B067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83966-C3B1-4B99-8090-0827598C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22B70-16C4-4411-82DC-2770A358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E49C8-9960-48C3-9F7B-C4368FDE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4F2C8-24A2-4E79-8356-75A99E1A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05D00-6EDA-43F8-A04C-5426F810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0ADC1-BFBF-4F49-98B5-16FB4854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201C7-18A5-4F2A-B215-7F838938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FC7C8-883D-467F-B8EF-4009B924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81681-D98D-45CE-A32D-0CF38BDB7F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FEC9C6-4C67-4E5E-9BF2-CF34D69411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3024F-A0F4-41C1-B957-BFC662CF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99A34F-57A8-42D2-B9C1-1145EFC8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582E7B-9078-41E8-B0E2-6D06B660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0B58DC-2D1C-4CC4-B4F7-8E1B134E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850441-783C-498A-BFE9-4F494030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A65744-8E0A-4C00-85B4-1DF50F7F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602A42-A02C-4FA9-8119-1627B658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664217-9237-460E-8C47-748B2437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3A2032-1D45-4B65-94F9-4FBBBFEF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3FA193-7D5D-4DDB-988E-1B67124E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873BAB-5935-462B-B83B-7B8950B6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B40AA-C426-4770-8072-74C9E473E1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2F41DC-E5DF-4A55-8D8D-7BAAD46816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0F879F-412B-4127-996C-AAF23EE204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5B274E-2112-44E5-BFED-70793EC7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8F7AA8-9552-42B5-A7AF-419667A7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2B03EF-FA53-4EE4-B58B-6B2DD559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DFB8DF-9138-48A1-A0C1-AA21084C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80EB59-740F-46D7-B611-D1D9FD84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15E579-F4EC-4891-B064-ED2AE962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FABF44-B1D8-40B3-87D9-AF9D0458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7779B4-23C5-4847-9F60-91800F29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F65FA-83AE-4B85-89C2-C1E9037137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71EF43-27E6-453E-B5F6-023BB366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F79FDD-B7D5-41E7-8F93-5033B1E2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91D315-0C60-4DEB-A3CB-2BDBACF96A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EEB91-9E2A-4EED-922C-5B663B9D5F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63063-3683-4A5C-846C-C15CF822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ABE45-19EC-496E-A49B-671E46D6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903E8-AEF4-4BBB-8CD4-5C423617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18CF7-5D0A-4E00-ABE0-BE0873F2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5DD7C-CB2A-4470-A5B0-72B7F00D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A05CE-2D60-47EA-9DE7-3DE10C22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5C6CA-B2D8-4469-A62A-566E9E3E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5F2E8-CB5F-47F0-828D-766DD333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A91AC-CF12-4319-B885-5638732D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93975-8AA2-4837-8CB4-535DD601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F00A0-7CAD-45A0-9A4D-2E62F920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F2A4D-ED4E-450D-AACF-FE6F082428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047B9-B528-430B-92A1-DF554301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6D478-F7A7-492F-8598-F70C58FA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67A0B-F810-4AD2-B282-9D703288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E3AFC-3E93-4CB3-9B19-2633788D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CD2F6-4641-4849-A307-8FA11BB9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FA518-4809-4619-A141-88FC4F24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E3147-F9A2-467A-A4BB-9E5D6D1D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5AA7A-3CCB-464B-BEB8-C1D57BFB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BEFDE-E8A7-4B9D-95CB-6D305E01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A3548-A0D0-49D4-B908-952E410D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C40B8-BC58-42C7-861F-6F060547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F4ECB-FF92-426C-99EB-62E222E0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F520D-9D59-4363-8A3D-C169DA0B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8D2A7-FAC5-4EB1-98C7-FB8D30E4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220ED-6E7B-4662-930B-AF7C78D7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F548F-C627-43AB-B11C-90194D7C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64603-D65B-4915-820A-97277311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CB38D-C242-4B7C-BD33-2CA3DB7F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A5D86-2031-44CB-B2B1-54D3E232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08709-AFF2-4CA4-84CF-525AC7B0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2F069-B5C6-45B8-9BE0-8F7F3F48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64730-FFC5-45DA-9E75-850BC013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1A0EE-6559-404C-8C56-14A2BC0D18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94F0-2D33-4F8B-AC4A-E24303CA6B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461C-FA3E-4B36-849A-ADC877DE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BC53-8696-48AC-A873-6C1B4A51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6FDC-BD93-4998-BCA5-E1BE6401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1BBA-A7F0-4BEA-8EBF-59F4B443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8B48C-B14F-4068-8413-1922E198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0466-16C6-4FCB-8325-CF457CF5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8183-FDB2-4E0D-9F77-A8C149FD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1598-003F-4250-8435-E193B085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25B1-74CF-4E9C-A3D3-296DF3D8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9871-855F-416F-8084-3B68BB1A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A716-A18B-4A4A-92CD-603FB880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FD04-CCE7-4FBE-A1E1-7F3844E740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628EA-0465-4749-B660-84428E3F81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17FB5-7B6A-473B-9A08-F8B6EB28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3ABDC-3BA7-4994-B73F-A0088409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3CDA7-3B4A-4373-BE2B-D48EC474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43B3A-765D-41FA-9513-7B68D9DE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7A92D-688A-43F4-A981-9DE950F9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67497-BACF-4F48-92EF-C799185D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55FA1-658E-4ACE-996D-96F6BD2C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57337-080A-4037-8780-222F82A6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DA0F4-27A1-43DF-93C5-015D09FB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50FC3D-88F6-4668-BCBB-4CDFB921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9B210-2380-48C1-9C51-229C6C8A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07FB7-440E-4358-8AAE-73BA5E2444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8685B5-8F8F-4875-81B6-9498C89AD7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21D4-26FF-4BED-BB4A-F1C04140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8CFB97-9CFE-455F-9F2B-489A5BB7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5AB69A-582B-4B55-9C1D-CB7980D9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F028E4-BEFA-46A4-91F8-320A81FD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5FED6F-0BB9-4A82-A69C-04C4DC0C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CBF7DE-7E96-47EA-910F-8101062B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483AD6-E779-4C27-B664-CBDD950F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B52B5B-C7A8-42A9-A608-9C6C7155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11F8ED-C9D0-4271-84D8-B9BFC656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5A5D9F-B99E-47FF-8F13-DEFB3966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A06306-6261-42AF-B42A-5F585DEA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AABF3-06C2-483A-A574-185EA29F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D28C6A-717A-4C2E-ADBF-C93FE6D36C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3D56F-FC4B-4C95-923A-CDE764B1DF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B16D9-8EF9-4B6B-A553-00AC1B1F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54D90-F5C2-469A-8E0F-130AE227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50BD7-232E-42AC-95B2-B3ECB91B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112BF-108C-4546-8EE5-8A40EC87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748C4-0385-4CD5-AC21-15F0C2D5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8999B-9AFA-40CF-A816-E0658D7D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6161B-56C6-46CC-989D-EFF74771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98915-5326-4BB1-9CA3-3834D42F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A4102-BD6E-4B31-8D5D-1B44FAEA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9CD11-B19E-4944-9500-6FB6BAC9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C9AA0-D774-4007-A7EF-B0AA9388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361AC-E912-42C3-AA8B-5EC2DD763D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7A16B4-E5CA-45A5-B02F-656C7411F6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A02E30-72AA-4F1C-BE3F-05DEE92D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C7B288-3DFD-44E9-8B82-34029480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6AE307-1532-4948-BFA8-66153C60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9289F5-2423-4933-8C50-DED12DE7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C5EBA4-7A49-4E89-9013-A68F41FE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F29FD6-11AC-42D1-9575-DD022DC4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A33AD-E73C-4312-AEB6-E1A8AB8C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E5440-0A14-4C0C-9521-C8730393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BD40F6-F93B-407C-B214-5173BFED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CB036-8974-498B-81D7-90D6575F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D1599-3B38-4703-BCA1-DF1D7C7A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87FD86-BDC1-491B-B47C-DEE3CB32C4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AE0FB9-E2DD-435D-AFB3-3A6E860C9B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A7B1A9-C236-4C09-BAA1-00A7BB85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390592-6283-47D4-BBEE-686A5B84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935F49-2C1A-47B9-A32E-64A60A15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BD1952-7463-45AB-9BF7-33F4CA52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FBAF4-597B-47C8-80B2-AA3A51E5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508A4B-E476-4328-81DA-9C8F4B08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61053F-47DF-481A-88AF-9F951FB2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7365C8-7C9C-4C93-ABC8-3BC4B74B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575ABF-E8DF-41D1-A4EF-A262EEE9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6C4B77-061E-4F7D-9E8B-E1E2A15C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B1B72E-7AFF-4A02-BACE-3EC1E7E9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84D1D1-E583-4D58-AB2F-D7B42A0425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1E4CE-DF79-4CC4-8F65-A5316B0C73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D4332-A22B-4472-89B9-5A1DA197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73B75-A9D7-41DD-9B2F-5D3BF83C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3BCFB1C7-51DE-4FC9-9EBE-263C6CD6FAE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1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2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3C8D2DE9-A302-4480-AE37-0C40C1279DF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60B9672B-A969-43D1-B7EC-54B3EB6ACC8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2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CF4CB831-9CA9-4270-9F63-740AFE2E430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27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E6909A26-88C6-44C1-ADE1-F268142A933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3880" y="1522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01AB-3A03-43ED-99EC-D19D6DC3DB1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F369678F-5F15-4E79-8AE3-C09FE6618BD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7D3E1E40-E99D-4F4F-BC03-4CA23DCC981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55DD99F9-58E7-45C3-88E3-813AB71618A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4A6CA7F4-8BCE-4F76-9F08-45737D15905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321692F2-AEC8-48DB-9DBF-4C302401051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1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F26A08D4-4278-407A-9C81-12E4DDF1674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1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305F8797-D9F5-4D96-98BE-07808CD40B5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4"/>
          <p:cNvSpPr/>
          <p:nvPr/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F861-15A8-4758-9075-766F2B7ECD8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2560" y="-3891600"/>
            <a:ext cx="77760" cy="9231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0" y="2590920"/>
            <a:ext cx="914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uditing: The Art and Science of Assurance Enga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0: Audit of the Capital Acquisition and Repayment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s of Details for Notes Payable and Interest: Detail tie-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t (add) the notes payable list for notes payable and accrued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totals to the general led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individual notes payable to the master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09C72A4C-5204-4C51-8145-1B7BD6D06B9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Details for Notes Payable and Interest: Exist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 notes payable (normally with a positive confirm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duplicate copy of notes for auth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corporate minutes for loan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D5100803-CD73-4ED8-BE0A-AE547FF995A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s of Details for Notes Payable and Interest: Complet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notes paid after year end to determine whether they were liabilities as at the balance sheet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bank confirmation for notes payable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bank reconciliation for new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confirmations from prior credi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interest expense to identify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past notes for cancel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minutes of board mee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7C4643CD-3B17-49A9-ADB8-8A978F1BBD8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Details for Notes Payable and Interest: 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notes for principal and interest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 notes payable, interest rates, and last date interest pa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culate accrued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0110C80D-1F83-4F42-B610-943DB4E0E2E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s of Details for Notes Payable and Interest: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due dates of notes to allocate liability among current or long-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notes to determine whether any are related-party notes or accounts pay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3EF3D5F8-9538-4833-A259-EBEB4DAF386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Details for Notes Payable and Interest: Cut-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notes to determine whether notes were dated on or before the balance sheet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63DDC0E3-DE2F-4210-B421-32EEAE7A35F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s of Details for Notes Payable and Interest: Rights and Obl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DE619B9A-94F6-471F-8CED-5A1A213CF45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notes to determine whether the company has obligations for pay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s of Details for Notes Payable and Interest: : Presentation and Dis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notes, minutes, and confirmation for restri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balance sheet for proper disclosure of noncurrent portions, related parties, and restrictions resulting from notes pay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BDDC00F9-7B2D-4EF0-9A82-2DB5DDAC9A2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20-26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 6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 procedures for the audit of notes payable and interest exp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983FA9C2-21C5-4C98-B21E-A0BA7C82A06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al Controls in Owners’ Equ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 authorization of trans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ance of capital stock: type of equity, number of shares, issue price, privileges o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rchase or redemption: timing, amount to p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ation of dividends: form (cash or stock), amount per share, record and payment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118AC18E-ECDB-4A48-A5E3-AA35984A557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20 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key characteristics of the capital acquisition and repayment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ethodology for designing tests of details of balances for notes pay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analytical review for notes pay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difference in equity between public and closely held corpo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man concerns when auditing capital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5C536785-6900-47BC-9B53-1F6566A5230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al Controls in Owners’ Equity (Continued)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 record keeping and segregation of duties 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ers of the stock recognized in corporate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amount of dividends is paid to shareholders as of record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for employee fraud is minim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EFA601E0-E349-422B-944F-30EF9C8C00A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l Controls in Owners’ Equit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tinued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 record keeping and segregation of duties important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well-defined policies for preparing stock certificates and recording capital stock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independent internal verification of information in the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A60EA338-B9FF-4A24-888F-2C6045712DF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l Controls in Owners’ Equit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tinu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registrar and stock transfer ag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d to prevent the improper issue of share certificates and to maintain shareholder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that stock is issued by a corporation in accordance with the capital stock provisions in the articles of in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s to be used by public corpo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organizations may use their lawyer or maintain the stock register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5BFD3164-9216-4A04-9365-565A475F6DF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n Concerns in Auditing Capital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ness: existing capital stock transactions are recor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rence and accuracy: recorded capital stock transactions exist and are accurately recor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: capital stock is accurately recor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and disclosure: capital stock is properly presented and discl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33FA990D-83FA-4D55-9016-FE81C093CD3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ing Capital Stock: Complet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registrar or transfer agent is used: auditor can confirm the nature of transactions and their val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maller client: review records held by the lawyer or c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the minutes of the board of directors to uncover issuances and repurch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557705F0-FEC6-4A2D-87C4-85FE6B58655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diting Capital Stock: Occurrence and Accurate Recor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to verify all capital stock transactions because of their materiality and permanence in the rec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minutes of the board of directors’ meetings for proper author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received can be confirmed with the transfer agent and traced to cash rece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ation of stock dividends or stock used to purchase assets is more diffic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92A74E0A-53DB-4CC6-AE40-A35D00CC80A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ing Capital Stock: 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upon number of shares outstanding at the balance sheet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ion from transfer agent (or trace to shareholder record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is par value or value received (complex when there are convertible securities, stock options, or warrants outstand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226C6DBC-F1DE-4282-A693-ACBB7064F45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ing Capital Stock: Presentation and Disclo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important sources are articles of incorporation, minutes of board of directors’ meetings and auditor’s analy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ensure that each class of stock is properly descri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losure of stock options, stock warrants and convertible securities can be verified by examining legal doc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A4AA4A18-FA08-4D78-9BA5-13E160AA85E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 of Divid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nce can be checked by examining the minutes of board of directors’ mee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is audited by computing the amount on the basis of the dividend per share by the number of shares outsta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possible to trace to cash disbursement records, or confirm with stock registr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4F75B84D-0AFC-4E95-BF85-650B3BEC2DA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20-25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 6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an audit of divide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dditional audit procedures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D66A9EF7-DA79-4476-B1DE-7B7689DDA31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acteristics of the Capital Acquisition and Repayment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few transactions affect the account balances, but each transaction is often highly material in am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lusion of a single transaction could be material in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legal relationship between the client entity and the holder of the stock, bond or similar debt or equ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direct relationship between the interest and dividends accounts and debt and equ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0258F768-31E9-43CD-A148-7148077C716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 of Retained Earn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ly, the only transactions are net earnings and dividends decl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also be corrections or other adjustments (key then is to determine whether they should be recorded in the prior year or whether they are applicable to prior period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D1F60336-1B0A-4CA4-8222-E237583AFF7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152280" bIns="15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igning Tests of Balances for Notes Payabl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insert Figure 20-1, p. 67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Date Placeholder 2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4975BBB4-5EFE-4EAF-B592-C6DBD7D6515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t Internal Controls over Notes Pay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authorization for the issue of new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equate controls over the repayment of principal and inte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documents and records (controlling blank notes and canceling paid on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, independent verification (reconciliation of notes outstanding to the general ledg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0B83885B-C59A-45E2-9839-D43420132C8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20-20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 6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urpose of particular internal controls, potential misstatements, and audit procedures to audit the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B3689883-1105-4C62-B22F-63FF1EA300A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ytical Procedures for Notes Pay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371600" y="1981080"/>
          <a:ext cx="7620120" cy="443556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ytical proced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 misstat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alculate approximate interest expense on the basis of average interest rates and overall monthly notes pay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tatement of interest expense or accrued interest, or omission of an outstanding note pay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tinu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ED9AB5E4-7E27-4572-BFD3-0EC81C13396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ytical Procedures for Notes Payabl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1371600" y="1981080"/>
          <a:ext cx="7620120" cy="395604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ytical proced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 misstat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individual notes outstanding with the prior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mission or misstatement of a note pay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total balance in notes payable, interest expense, and accrued interest with prior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tatement of notes payable, interest expense or accrued inter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2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959CB395-E305-4481-B2F4-BF7E993F7CB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essional Judgment Proble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-27, p. 6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becoming public affect a corporation’s accou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stock price changes affect the records and the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FD9B308E-D317-4825-A74D-F2FED37AF4A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8:14:52Z</dcterms:created>
  <dc:creator>Ingrid</dc:creator>
  <dc:description/>
  <dc:language>en-US</dc:language>
  <cp:lastModifiedBy>pacoady</cp:lastModifiedBy>
  <dcterms:modified xsi:type="dcterms:W3CDTF">2010-03-03T18:37:09Z</dcterms:modified>
  <cp:revision>93</cp:revision>
  <dc:subject/>
  <dc:title>AK/ADMS 3511 - Management Information Systems – Session 5</dc:title>
</cp:coreProperties>
</file>