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F8C8-4803-4DD5-B77D-B2724CEA6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FF8B-1A73-43F7-B5A5-9F34DCAB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629F-8644-4EB2-B98D-94BD52EE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1F2F-A96A-4D0B-8088-2F10C9779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70DD6-75A6-4223-A6C9-01191F837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C9130-6D16-49D3-BF7F-9857A30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2F4A7-CD40-4580-9885-0E1F2699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58B6E-9974-4F8A-9190-BC7FFD91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E86E9-6FD2-4E60-9F9E-07D9578B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974A9-670E-4E0A-9719-997B994B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37128-7F4E-4D5A-9D41-7A380245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37A1-208C-44EB-8FF7-8694744D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C7BA9-C4C1-4BBF-9321-9CD1EE0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73A14-E636-46F0-8779-38D31C0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546D3-283B-4BED-AFC6-8197A71B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44A25-EAD2-4186-B949-4F77CC59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595BA-B12B-473F-BBCE-A40E6C782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5FAD-7B97-42AB-9A80-4D1AEBD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D700-479B-489A-8216-D060FBC2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584A-50E2-4FCC-8762-8212764F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2C5E-9DA4-4F63-BA9A-4BEB6323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4984-D181-489E-92ED-EE097CA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C88B-6254-4CA9-BBEA-0FD206F3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7CD1-DC36-402B-A902-A0911EA4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E84EE718-ACFB-4608-943D-5C6A2A1F9DA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EB0F-C188-4433-930D-EA2409D788B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666520"/>
            <a:ext cx="9142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: Fraud 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B611-DC8E-446B-93D3-ED96C07C556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orporate Governance Oversight Reduces Fraud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nd maintains a culture of honesty and high eth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s fraud risks and implements programs and controls to mitigate identified fraud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an appropriate fraud oversigh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FC818891-FBAC-4A6B-9870-3CA1F2C1723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Maintaining a Culture of Honesty and High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tone at the top (management behaviours demonstrating honesty and integrity) are an example to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a positive workplace environment (improved employee morale reduces the likelihood of employee frau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and promoting appropriate employees (effective screening policies to reduce the likelihood of hiring and promoting individuals with low levels of hones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DEFF7D6E-C973-4155-8615-6F5F01D7090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nd Maintaining a Culture of Honesty and High Ethics (Continued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24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bout company’s expectations of employees’ ethical condu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annually of responsibilities for complying with the code of con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 employees held accountable for failing to follow the company’s code of con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declarations (e.g. confidentiality policy, independence policy, electronic communications and computer software poli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B939E621-67AD-4C2D-B8CF-926F1AA66B5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’s Responsibility to Evaluate Risks of Fr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and measuring fraud ri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 that almost any employee is capable of committing a dishonest act under the right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fraud risks and establish corporate governance programs and controls to prevent, deter, and detect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a fraud risk assessment (perhaps with assistance of internal audit depar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541654C7-E982-43E0-AE74-905C9B33B78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’s Responsibility to Evaluate Risks of Fraud (Continued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ng fraud ri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implement programs and controls to mitigate fraud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business activities and processes prone to fraud in order to reduce incentives an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538170B6-EA25-4E02-9254-A50FA24D8FD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’s Responsibility to Evaluate Risks of Fraud (Continued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fraud prevention programs and contr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igh fraud risk areas, periodically evaluate whether antifraud programs and controls have been implemented and are operating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udit activities can both detect and deter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0332FA97-4C31-43D9-85F0-750D59DD74E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Committee Over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committee has primary responsibility to overseen the organization’s financial reporting and internal contro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o consider the potential for management overr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committee may need to investigate financial reporting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FFDC1FF5-06EF-4F89-A347-61D4971742E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uditor’s Role in Assessing the Risk of Fr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240 provides guidance to auditors in assessing the risk of fra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s must maintain a level of professional skepticism, which enables them to be imparti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management is neither dishonest nor honest, and consider a broad set of information, including fraud risk factors, to identify and respon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5915D3AD-3627-4DAB-A7B5-EA9454EC846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maintaining an attitude of professional skepticism can b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s must maintain a questioning mind throughout the entir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240 emphasizes consideration of a client’s susceptibility to fraud, regardless of the auditor’s beliefs about the likelihood of fraud and management’s honesty and integ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B2A060FD-83D9-4E0C-96F1-B124DDB7D48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ing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agement team must discuss the need to maintain throughout the audit a questioning mind in order to identify fraud risks and critically evaluate audit ev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66D262D8-1974-4BF3-9D3A-C82B1CA05C0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1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raud, and describe the conditions where it is most likely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features of corporate governance and of the control environment that could reduce fraud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auditor’s responsibility for assessing the risk of fraud and detecting material misstatements due to fra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steps that an auditor should take when fraud risks are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9B01F2D7-1C07-4A7F-BEAF-986BDCB282C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Evaluation of Audit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s should thoroughly probe the issues and acquire additional evidence as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s should be particularly careful when relying on the representations of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should be taken to corroborate these repres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6279CA42-32B3-4C50-A902-342F55719FB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ud Risk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team must have a culture that considers fraud risks and fraud responses throughout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F12D21B0-58AA-4BBB-8908-641477021BF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Fraud Risk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ieldwork, the auditor should be aler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pancies in the accounting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or missing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tic or unusual relationship between the auditor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issues, e.g. accounting policies inconsistent with industry n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71F9ACB3-47CF-4D2B-9CA0-ABAE71E3BF5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nue and Accounts Receivable Fraud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dulent financial reporting: revenue can be overst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titious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ature revenue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ion of adjustments to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detection 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venue (overstatement of gross margin, lower accounts receivable turn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F9456C7C-2A08-4DFB-A0EE-3D0555B3DAB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nue and Accounts Receivable Fraud Risks (Continued)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ppropriation of assets could occur by means of taking revenue receipt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ing to record a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ling cash after the sale is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etection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ful review of sales returns or allowances, of customer write-offs, and matching of payments to sales amounts (to detect la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AA521B02-340D-4029-8A96-CB7B6AFBEEB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Question11-26, p. 3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a situation with respect to theft of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the theft have been pre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E7EF95AE-61A4-4A18-84EB-E91F0A3BAC3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ntory Fraud Ris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ulent financial reporting: inventory can be overst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fictitious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berate pricing errors (increasing inven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etection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ical review (understatement of cost of goods sold and overstatement of gross marg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0031AA2F-84E3-47E9-A4B5-52D392CAA40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chases and Accounts Payable Fraud Ri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ulent financial reporting: accounts payable can be underst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cording accounts payable until the subsequ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 fictitious reductions to account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etection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subsequent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transactions to supporting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447DDE8D-EDA3-49D6-BA67-8E3F445A31C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chases and accounts payable fraud risks (Continued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ppropriation of assets could occur by mean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to fictitious vendors for goods no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backs or other illegal arrangements with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etection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upporting receiving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supplier approv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C519EAC9-165F-4DEB-A04C-DE50F1672B3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1-27, p. 3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ayments for an accounts payabl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this theft have been detected or pre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1E3AEC8E-F146-4E1D-ACCC-AE0D2565717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Fra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is a broad legal con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ontext of auditing: an intentional misrepresentation of a fact in the books of accounts and i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dulent financial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ppropriation of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111074F8-94E3-4A3B-8924-B58F05EC5AB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 Responsibilities when Fraud is Suspected or Det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udit procedures to confirm or dis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the appropriate level of management (above the suspected level of fraud); inform audit committee when management fraud is sus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537FA1DF-3249-404B-9C9B-98E525539B4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udulent Financial 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intentional misstatement or omission of amounts or disclosure in financial statements to deceive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ings management: The purpose of the misstatement is to help management achieve earnings targets (e.g. to obtain higher bonu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smoothing: Revenues and expenses are shifted across accounting periods to reduce fluctuations in ear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56E525B0-9790-424B-9200-C23E6189B53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appropriation of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that involves theft of an entity’s as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perpetrated at lower levels of the organization’s hierarchy, i.e. by non-management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0D0F29C1-EC3C-45B0-8851-92B7E75B1F5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s for Fraud (insert Figure 11-1, p.3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DE61AEC8-01AC-462C-B7C7-B7F8DA48D10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Factors for Fraudulent Financial 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amples of the following risk factors for fraudulent financial reporting based upon the fraud tri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s/ration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8791CD03-8978-4DA7-B4AA-1D7D0C731B4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Factors for Misappropriation of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amples of the following risk factors for misappropriation of assets based upon the fraud tri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s/ration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A6EA278B-45BA-4C89-8BD7-D8FFA81C9CC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uditor Needs to Maintain 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‘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fessional Skepticism ’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kepticism is needed as the auditor gathers information during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kepticism means ‘‘staying alert for evidence that contradicts or brings into question the reliability of documents or management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mponents: questioning mind and critical evaluation of audit ev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A22F1CCB-CAC7-47B3-9DA0-6F1F48D734B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8:57:28Z</dcterms:modified>
  <cp:revision>66</cp:revision>
  <dc:subject/>
  <dc:title>AK/ADMS 3511 - Management Information Systems – Session 5</dc:title>
</cp:coreProperties>
</file>