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0FFD-27C0-4F21-B21B-5EB5C3CA9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43FF-3B80-4513-9C1A-DD2E08F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7084-19D4-41DB-A141-9F8577C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E200-4076-4A74-8153-0ACFEB53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D131-75AF-4B4A-A81F-652B63C9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C913-26EF-410E-B743-69E4FD8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A844-F017-4A74-831B-0CD997DA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30DF-D82F-43D2-8A26-31B675B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1231B-8F59-4D79-BD74-5B6D18D2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CD43-569B-4972-ABC1-42C24A7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552AF-3836-43B0-A7AC-AB660EFC2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09E60-8B2C-4F18-8E1B-5624A5B4E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2C5D-6A4D-42C6-856D-1FB17ED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DFB6E-2246-4D80-A9A2-E3FABA6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0085F-668E-473D-BA4C-6F79B091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61771-A72D-44FF-BEBB-5F11411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7E316-AF34-4870-84D5-C4DB34EF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012AD-522F-4D46-BBBA-D3B875AC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A2B3B-AE8F-4E15-93F5-E2F2884F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D645A-8E0B-45F1-98C5-9878933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5A85F-4F3A-4F2D-96D7-3B4A712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2151C-A916-4A54-B024-3FFC760A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A9A23-C3CC-4D1E-9090-B91C68F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08D5-A2B8-469D-A976-7EAE4F195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351D2-1680-4395-B2AE-5CBBBBD27B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2C9C9-8FEC-425F-93A9-FF1C4A2A01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77178-53CA-4983-B109-F9FA12CB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8F6AC-CE70-43C6-A614-50F713C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54EE23-A925-40D9-84F9-3A39A99C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3D37D-DEC2-419C-9698-529B3D16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E9416-8DC6-4C1F-9AD1-E25BAF34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BAF1A5-6D33-45DC-9BFE-9E8DA00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532029-7E07-4CAC-B5CF-1021FC9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4F963-A21D-41A1-88C5-A5C6454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ABC8-F239-41A3-89AD-E8C6C259E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A65FBB-5578-4764-8F22-91A59E13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98E15-8720-45DD-AD68-5D4B1AD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C6DE8A-8A65-4872-9C55-D6EDFBD94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F981-2193-49AD-AFE1-C6523E941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FC5A-6D9D-418F-97BE-B0864D5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AD3F-54C4-4C35-847C-C816AF9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AEE74-6A30-49DE-BF6F-C35B38D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04CF-312A-4DA0-BDEF-9B193E4B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4145-DB51-4957-AD43-63AA2DB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E76C4-0CDC-4136-B3AA-063AADE2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586B-9ED2-4BFB-A66E-5ED873AB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E098-18DB-4C8D-94F4-65BA9A01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3D0A-F2F3-4DC7-9D28-63D6182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75E77-475F-4EA4-8286-E75D2B26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10FE-0971-4810-B47C-9A9CCFD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A1D84-EFFC-4BA7-8625-F6CAC9A35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D39BD-EEDD-4438-8C2A-9EF3E2A0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2E9D5-6C60-4EC9-9D21-4404FE5B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67396-D397-48CD-9268-6D4DEC57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18B8-242A-4706-8335-D320548B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0B5D4-B163-41F9-972F-8FD0F08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1D71-7BE7-4AC0-917F-4E2DE579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5D100-265E-41D6-A00B-3ACDF5E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7AAEE-289E-41B2-9944-69724A2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5BB89-1E15-4F44-8DD9-902CCB5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1254B-B1DE-43EC-8A24-27DB10F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7077-9D39-432E-BE09-22F85F4E8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6B8-3C44-49D6-B20A-A3F053EDA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3978-4579-4BFC-B527-986757A5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AEF6-FCD1-4FDA-AB87-1DF5AF3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E08-8D55-4CD5-88CB-141364C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FA0-8827-4170-8857-2BDB1FF8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E08B-7EA7-41E7-9049-40853EB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535C-CF28-4442-BEEE-5DB633CC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F9C-7894-488D-8BD4-CE9D4CC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C1A9-4B30-496B-9504-8B021E0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B17-D384-4A8E-A416-CC43B57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C2D0-23D9-4476-9175-A3D4C78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65E1-A29C-4926-ACD5-457FD1F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884-56E5-4CCC-BA00-F3BBA2650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F9DEC-DA0F-4163-A038-38AF0184B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E13CD-9E12-40B0-AFBD-EF19A5B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9C5C9-381A-45CE-95B3-7E8765F4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AF3E-5FFB-4717-B008-5C4A83A1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B26EB-7BCD-48A6-804E-C0BE8914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8CEF7-545B-4C13-A925-8C337DAA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EF4CD-5C30-4FB7-B654-EABBE31A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B06EC-F278-4988-B9E1-D76D889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0F380-6413-41E0-9984-EFA2FDEB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C4649-3C7F-4DC8-97A2-5B360AE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595A0-EEAC-48AB-A4BE-58F5BD7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0E9A2-0EF3-4673-BCB5-79CE36A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95876-CA1C-4CEB-80D0-2E155C880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A4003-4A3C-43A3-892E-702BB3C91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F2C7-41C5-4803-81BE-409A1515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A5FE9-673C-493B-B947-5874222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3A8ED-E104-4CA0-B6D9-0959F67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2D03C-DF74-4EE8-BB76-3AC579F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A20A1-32BC-492B-AE3F-44ED36A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05AA7-0D94-44CA-A053-537A0C48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7DC1A-FFEE-48AC-AB91-D3E7E27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C249A-D011-49A4-8880-135DDF6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1612C-ABBD-4BA3-8C12-DF47DFFA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4357B-5FE0-4CE9-8809-6CB187B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77084-5618-453E-ADC8-CCC9EFF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AE14-60C1-4645-9404-FDCE242F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7096B-842F-41F4-A4A5-54A6269715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0C6B-866F-4C97-BF05-9D8F07D48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96EC-4247-41C7-A7C6-ED3679D3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C3A6-2CCA-48B4-802A-D44CE11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9AA2-5163-4E81-9935-6C78D20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3E11-2660-4356-BD0C-BA1817BC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D882-E1CF-4B14-A315-AFB705E7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275E-6FE7-4356-8F54-06A21A0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364C-597A-433D-91E4-12EB9DA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7684-9448-422C-A6CC-486CC05A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032A-8F68-45DE-BBFB-5E2027E7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E478-FBFD-4F1C-9814-F1359937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EAC2-9963-4749-9E78-B19D842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7B39-9127-4B87-8D4E-9EE88E811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60EF3-6C4A-4CA2-8B92-CCD544197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86FEC-5668-4217-85B2-A81873AC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2931B-3CA0-48EE-8C6B-6CD35B37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F0E84-E784-410C-9C36-5061112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2AB14-FF4D-4F62-B5A9-6476DB29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F4492-2109-435A-8483-4C5855DD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72760-C8AC-4C83-B726-5073328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D8EE-8DBD-480D-A563-796025F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20E42-8E27-4AEB-B000-01D2607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AF883-CD35-46DB-8B93-9CD0F64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02E90-6157-45B2-9489-F8350A9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986DE-A75C-421A-954D-2EA37B8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1A62A-E7CF-480D-B05C-F08219E8F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DF2CE-01D2-4ECC-A511-CEB540AEB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77FBD-E232-4E47-9826-E941F6CB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870A8A-A6FE-4195-9801-8840F2B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D91D7-03A2-4D9A-B0B3-EA7408B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9C5F4-CE68-44A7-A11E-D20CE8D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9A26-071A-4798-8E96-080A91A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60695-8101-43C2-8DD5-0CB7FFFE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5CBE6-9BEA-4CF1-B3A8-6C82393B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F58D32-EA57-4438-9E97-72387A2E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444F7-AAF4-4AB3-BCF2-91DDB37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4260B8-1ACB-4D07-9627-4BFECC8D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32164-0EB2-4901-B982-93AB55F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D16E1-910F-4D5F-9C4C-11E943440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6076-A1DA-4507-968A-855C52E74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445E-5F41-4474-A817-29AEB1D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0C9A-3359-454D-9BA8-6DC8157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7F5D1E7-314A-4810-8B7D-CE284D2A6B2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D2C1F52B-D189-4C71-8BAF-18D62B11670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B3433258-A4C4-4ABF-A6D4-388ED2E1664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775D54B-D2C4-48FA-A132-64E93AA6472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19D6097E-D493-45F8-AD09-9ADED050F7F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8D94EB3A-D126-42E1-8B1C-BF8AEA6BFAF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296B8E1B-2008-42A2-8773-09D6C9F28DE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26A9A56C-ED40-4041-981F-6840FDC1CF3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DBECB7FD-472C-4E79-AFB7-563B43CFEE2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326A66FB-9014-482A-8B93-CD6C5300B6B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B4F4DCB-D671-4561-90C1-F647DCEF9DD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7854EFBA-925E-4263-B15A-B80A28AA62F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ECBEDF1-9B72-4543-AC40-69444F2B182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2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: Internal Controls and Control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trol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, policies and procedures that reflect the overall attitudes of top management, directors, and owners of an entity about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sence of an effectively controlled organization lies in the attitude of its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environment factors are assessed as part of the knowledge of business and are used to develop a client risk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8B46E8E-B3EE-4A48-AA91-83D1CD1A54E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ity and Ethical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actions to remove or reduce incentives and temptations that might prompt personnel to engage in dishonest, illegal, or unethical 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4787068-8D50-40D6-9C51-B706C73931F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ard of Directors and Audit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should include independent dir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committee should have oversight for financial repor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committee should have competence in financial reporting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members should participate actively, meet with internal and external aud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1612700-8C51-42BC-9FE0-85CA4731339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Philosophy and Operat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should operate ethically and hones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ehaviour should be encouraged among employees, perhaps by means of documented policies such as a code of eth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olicies could include a commitment to quality and compe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603E831-8B78-4A68-8CBF-E05E107CF14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ucture that  is appropriate for planning, directing and controll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y and responsibility assignment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ystems steering committee to oversee systems development and management of informa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910E5BEF-DCD2-4B9D-9DAE-80472D32D94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Resource Policies and Pract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practices to ensure competent and trustworthy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compensation processes to help motivate employees to continued competence and hones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214279C2-E24D-4DEA-AF9F-EE4C8B248E8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s of Assigning Authority and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into account reporting relationships and responsibilities within organizational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goals, ethical and social issues consi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and implementation of policies such as job descriptions and codes of con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38508219-337C-4A8B-BCD3-577909098C6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Control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used to implement objectives and policies (many possible exa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access controls and monitoring for data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ctivities of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of effective budgeting systems with follow up of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EB6E218-2825-4C38-93C6-A5F91C9964E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Development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nd procedures for selecting, development/purchase and maintenance of informa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methodologies for customiz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systems consistent with organizational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2F64FCD-BFF7-4AF7-83F2-5B7E20F9E3F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Reaction to External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f the external environment, including changes in 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respond to changes in the external environment, including changes in business procedures or organization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2CFA9806-B233-4A8F-B240-F1D6DCFF04A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three primary objectives of effective intern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three basic concepts that enable an auditor’s study of internal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five components of the COSO (Committee of Sponsoring Organizations of the Treadway Commission) internal control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rol risk is assessed, documented, and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mportant risks and controls in small busi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D7A3D719-66D9-4910-81D1-7BE589FC887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ensure independence, internal audit should report to the audit committee of the board of dir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 of control environment when effective, competent, independent and well-tr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tribute to reduced external audit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FE4A7E3-6150-4951-9D2E-6869BEA5E0B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agements identification and analysis of risks relevant to the preparation of financial statements in conformity with GA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needs to: identify risks, estimate significance, assess likelihood of occurrence, develop action plans to reduce the risk to an acceptabl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A79DA800-5ED7-4BC2-B7DE-E8E23E4E0F8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ies and procedures that help ensure that necessary actions are taken to address risks in the achievement of the entity’s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application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8B1A67EB-97CB-4BE5-96CA-99E85C1443A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Groups of Contro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dequate segregation of du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per authorization of transactions and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dequate documents and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hysical and logical control over assets and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dependent checks of performance and record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B1EB7B61-BE3D-4ED7-82AB-29F68D9029E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s with ongoing or periodic assessment of the quality of internal control performance by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audit department may provide independent evaluation of the quality of the monitor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13A7F39-7716-4636-B8E0-33CC43FCA2C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9-24, p. 3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nternal controls in a restau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D034186-4891-4BAB-9473-3BFF7A8B47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Internal Controls and the Audi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gure 9-2, p.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D9875385-3BFB-41C4-A525-79BE516EFC3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Obtain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obtain understanding of the client’s internal control sufficient to plan the examination for every audit and to assess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used to understand and document this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ntrol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D01FAAE3-AEFB-40EA-8AF4-7F255DE9C88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Evaluate Design 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assess whether the financial statements are audi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consider design effectiveness of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BCB8077A-409D-4B3F-BB75-22A1C27AC2B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Assess Control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uses the audit risk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isk is assessed at one of the following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(100%) – no reliance, only substantive testing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decide whether controls will be tested or not (it may be more efficient to only go substan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E28B8E2-AA88-4C7D-924F-A91BCF7BA60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Internal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internal control consists of policies and procedures designed to provide management with reasonable assurance that the company achieves its objectives and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23D5D11-1364-499A-BC67-4050F4FEBF2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Identify and Assess Risk of Material Mis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will assess the Risk of Material Misstatement at the financial statement level and the assertion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7484FE37-D52E-421F-B599-882F76BA98C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Design Tests of 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dures to gather evidence about design and placement in operation during the understanding phase are called procedures to obtain an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B8148AC8-726E-49C6-B855-3821CF7399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Conduct Tests of 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of controls are audit procedures to test the effectiveness of controls in support of control risk assessed below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evidence must be obtained about the effectiveness of controls throughout all (or most) of the period under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87AB68B-6E88-4CEB-9E63-D16B0A64FCF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Evaluate Results of Tests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results of tests of controls support the design of controls as expected, the auditor proceeds to use the same assessed control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sts of controls indicate the controls did not operate effectively, the assessed level of control risk (and the potential effect on the risks of material misstatements) must be reconsi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A138161C-0C7D-4876-A1B9-20F18E4899F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ansion of Internal Control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companies, the auditor reports upon management’s assessment of interna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 report is required by Section 404(b) of the Sarbanes-Oxley Act of 2002, affecting Canadian companies that are subsidiaries of American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E3A8527-1985-4367-A053-C2055FCBF63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ll Business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key internal control risk at a small business, and how can a small business owner deal 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es frequently rely on owner/manager super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35938014-64E9-4560-A9B5-890BAB55E8C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9-25, p. 3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otential controls available for large and small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A79AAF9D-F51B-40A7-BD29-418A19A830B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of an Internal Control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broad objectives in designing an effective internal contr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financial repor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and effectiveness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ce with law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E7CDDD9-46FC-483B-AE01-408777E5183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Objectives with Respect to Inter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2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reliable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ing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ing the use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and detecting error and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60A0D52-1690-4193-88FB-8C9194C2F61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 Objectives with Respect to Inter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internal control and the associated control risk is part of the audit plan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315 explains that the auditor considers internal control that is relevant to the financial statement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will normally include cycles of events (transactions) that lead to information recorded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1BE2D4CB-F635-4624-BC83-04600EFAC6D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ing Inter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ncep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anagement’s responsibility to establish and maintain internal controls. The auditor evaluates and may test thes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can provide reasonable, but not absolute as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ntrols have inherent lim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8BCED331-A368-4775-B8D0-A41FD7465A0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herent Limitations of Internal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depends upon the competency and dependability of individuals (or systems) executing th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nternal controls can be overridden using col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B64026C3-2DEC-433F-BD36-A5C9AFA55B0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Components of Internal Control (insert Figure 9-1, p,27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986EF5B9-A397-4126-B73F-C273911AC1D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4T11:50:47Z</dcterms:modified>
  <cp:revision>75</cp:revision>
  <dc:subject/>
  <dc:title>AK/ADMS 3511 - Management Information Systems – Session 5</dc:title>
</cp:coreProperties>
</file>