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F9F4-0A05-4E4B-8BED-8D9846FBC1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2CAE-A63F-4C92-823A-3AA362A2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46ED7-E09D-4D7E-B12A-56C5540A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1E1C-15CB-46EA-8765-26429712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64BB4-BCC3-4DDC-9D06-5DBAC9D5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43EA-F0AB-4A69-A90F-746AA161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A142F-6EEA-4DA5-977E-E0F16360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B5D74-9CAA-4CBA-8B42-F17F5094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FECAB-0813-4197-862D-FD7A138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EE846-B213-47C5-B929-1BC70DD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7B51-9935-4D32-90C7-093BCCDBA7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06400-2A6E-4DCA-A1FA-BAE251403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C25F-F81A-443C-8BCC-267DDC80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2B489-95EC-4FEE-AECE-FA5F0B61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D2C43-DFBB-4BB6-8D80-5EE70181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7B1F3-2871-49A0-91B1-6739C676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DCC41-2B69-4F57-B5E7-3D45E16C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43695-04CF-4DA8-BD2E-9E409312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C84B9-C521-4103-93A4-484108DA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B368D-D321-42B9-8BFE-F550819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4B407-1427-40A5-A6B8-0755A41C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3BBAD-1293-4C81-852C-9B11C047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A94C2-31CF-481C-8649-925A809A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CDAE-B22C-473E-B5CA-C5A38571B5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F2CB8-422F-4B0B-BFBF-76453DEF5E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38EEAE-2CC5-4485-980E-5B51D7D36A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388F7B-A91A-418B-8A11-3D01515A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0A9001-4F63-4B40-872D-4B2896E0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508E00-B460-4611-82F2-A65A69D0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581A2-6C41-4A5A-9E19-85FC7260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586BAB-9705-4256-86B3-0DE55D9D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F074C6-EE1C-4060-8497-FEE10B50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9A6B46-5953-48AC-8E83-0CA25B51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3E7DE-FA9F-41E4-8332-8429589A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85CAC-DD4B-4F6E-88A6-9540CA9C2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7BDC6F-B95E-4DC6-BC69-50E8E246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7661D-9A05-4F01-A0DD-9CD1BCA2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7B4292-347F-4B96-A301-D1805186E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7ED38-2673-4C0A-B195-E26DAA4BB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C983A-89EB-409B-A64E-C349383E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EFF67-12A4-4D87-92E0-9F6378AE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9B5DB-7273-4F5A-8F0A-A0D87C2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C4129-61A8-4D52-A067-7F1484EC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D43F-2283-4CBC-A3FF-87B8C799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0ADBD-8744-4A5F-BA1A-BF4BBAE2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981E1-1285-401A-A851-025F0E57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13B04-8074-4715-93ED-F3DFE12D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90187-A0A6-41B8-A7E6-C094A8D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EA847-9D01-4748-BBD7-B5E6B55B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4D1A-1809-4BAF-928E-3C8B586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BC929-4A21-45DE-B27F-DF471E7C7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A64E2-0A21-4BAE-92EB-0CE3E812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97183-FBB1-4986-ADE7-B163F09B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82670-D9B2-4681-89FC-4889E46B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5A00D-7B75-43D6-86A9-D107D39C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B7892-CF8B-4D7A-AD6F-DB1313C1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CADBE-06F6-4803-806A-0902158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195E4-83E1-4750-AE5D-8C9EDF4C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6ACC5-F1B6-48B2-B8C8-08EAFD3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9DB26-E2A3-469B-9C6A-12084B4B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E8565-68F4-4E2F-A623-C5E1391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C00E3-D74D-47C0-A9AC-6699E04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B5931-A8DA-4E0A-9F88-A3F7685B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12134-53B0-4BB5-8790-1D96F5EA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94087-0097-47C8-96F8-A24BCEA8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4C9D-E86F-45EA-A892-557D9E95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77AB9-58ED-481C-8605-13D8EDB1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90EA1-5759-4A71-82DC-4EDB13DB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75D5-EAED-4739-ABAE-238685F5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89375-C100-4854-9B43-64B8AF3F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2C610-21F3-4E76-9C8B-0C875972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833F5-4439-40C6-8ECB-3384AA6B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250C7-ACCD-49CC-9FB8-5BBE20E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A77C1-CB5D-44FA-B499-22425C3BAB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75AB-386B-4C53-9649-23F023C63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D4CF-FCBD-41FA-AC03-4E3FC35E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9917-A509-448B-BEBF-C0777176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658F-5764-4EEC-BC36-71D829D8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5644-9AE9-4C47-AC2A-EE778B6E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B4D6-429E-4B97-AC83-7275291B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0DCC-2FF3-4946-8EA0-19B13E4A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ED10-9574-4E79-ACEA-3BD55758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E502-FABC-4ABC-9612-E3A1D9E4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9037-53FD-44F6-83C2-7F9A8DF2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D874-0124-41B9-B17F-F7922EAA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F678-AF8A-4739-B407-72B28032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91F0-9B08-4C0D-AB22-C703405735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45A4A-086A-43FA-AB57-7AE462E4BE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18B64-3972-49A3-B49A-A1D3ABA5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A73D8-74B1-4B55-9D30-7C26CA3E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FEA3-6530-49DE-A158-AD6C3116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5734E-5417-472D-AA18-D93E4ACF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7B671-FD96-415A-B541-98E5CD61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C7904-09EC-4C74-8B19-EE051439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78D69-3368-4B9D-9BD6-C8A6389A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77BD9-A75B-4D98-87DB-E94C7DC3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2C038-1FB7-43B8-A7DB-6E6EB999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735DA-7C9A-40AE-8853-0B9B9A50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5C4DB-9D19-4F90-B52B-4720F3C6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6FF5A-358F-4B39-A807-3A8F3B36F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294F6-7860-46ED-B67C-4C75E300D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74C3-4834-47EA-8D61-099BC357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97EDB-DC9B-4188-85A3-09803DBA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027614-C4BF-446D-8DEE-3C55AF57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928E21-F95E-4269-9983-5C7CABC0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CA77B-907F-456F-99C9-E1A71532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6A804-B019-4127-B88B-B36EFA2B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4870A-94FF-4059-B085-8FE5480E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EC62F-51AF-4D8B-815B-55E98B60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2592F-D643-4C92-AD7F-462FEB97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C1F27-4DF3-4C91-9A49-F70DDA2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F7F1E1-97C8-475E-8220-00120D55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3239-666F-47EC-8314-FED7CCBB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A6219-7316-4E48-924E-E2CE45F06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592DF-A370-4D11-A2E9-0940B6A044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E1CB-F866-4D8A-B408-D96631B8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860D-C9FE-4934-AA67-9ECABEE6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E9C78-3833-4160-9A77-903ABF4F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3BADD-BCA8-468B-85DB-18779AE6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88D0-C6EF-44FB-8E93-DA033372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DC45-DFAD-4EC2-9BE3-AEDAF875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7637-BC86-468C-9FC4-1819BEBF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864B-C384-43EA-BC31-40EE477C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3EC0-8E83-4384-B29F-3FAC68BD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CD23-A32B-4175-A0C6-EB7517BD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4969-759C-4345-B953-FC8F9B1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CB2B2-CE7C-4AFE-9FF0-F8F462FDC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328CC-5AFB-4D86-9AD7-D28BD25B2F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EFAB9-02E5-41C5-A65F-3EDF8D05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200F0-0CA6-46D7-A6AB-FB8236B3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24B0E-A72D-4A45-B765-7FA537F3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7C556-9CB5-4C77-AFEC-047AFA3E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79705-8B27-4E97-9B7A-0B6AA006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83BC0-7398-4D05-99E0-64A7B569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A6E6-AB82-40D1-B50F-155E89B4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C9175-50DB-414D-A919-2C58C5F7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715AD-F1F5-4DA7-9CE0-88D40C11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1F668-E97A-4F62-9BAA-BE78FD7E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7DC40-42D9-4345-BFE8-0EB50B5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CEF8D-A8A0-49A6-87E2-075E28E60B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B361D6-22C9-40DE-BD24-EA028404F1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BEB735-2BFC-4D54-B1B4-F2D8F9D7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F57888-E475-4F58-9076-87C08E0A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AF1C6D-A591-409E-9B80-5DC69C22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F4D709-C7C7-4EF7-AF03-B8694F2E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6528-BC8A-456F-9F0A-58FE4260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C27D22-E823-430B-849A-C34F99FC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2031D-7267-407E-9614-736D9372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AF53D-E03F-4DB4-BF3E-4141CCF8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DAF01-08E1-40D7-AA33-1719D4CE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9FFB30-46E0-4A11-B5DD-87404DAB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B5093B-47EA-4C84-9155-E3E8F1D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D581C4-C69A-44DE-B691-D8BC103E0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A51F9-E620-4F6D-93D7-5FF243BA9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E1B39-82E7-4C99-A255-1FA90A6E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9961A-C41E-406A-A029-6B941938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2FCB2A6D-B854-45D8-ADCF-13E7BDEEC69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BEFE6940-993B-42EA-9D46-2462076653F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21F495A-3C79-413E-B50F-5FF033C4AE2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21A1E90D-E626-4AAF-BA62-003E4E90DE4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0BA2F133-A960-43B1-AD9B-342A5A23FB8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9A46-4976-4F3E-8A92-9FD6751F2AE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C4CC1DC3-8981-460D-80E2-110249938D7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117974A9-99A8-428D-AAFF-D9FC84216AA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B389B4AA-4F03-47C6-B68A-C88A01F7A96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505C17F4-C041-41AE-A606-6ED70274FB7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DCF10B60-5B28-4257-B1DE-11E1BB8BDD1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D491A5A5-DC50-415F-969E-61EB7B8D2EE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03306A50-CE66-4414-8B33-4ECE6EBE0B9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51920" y="2819160"/>
            <a:ext cx="8990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: Professional Relationships: The Role of Ethics and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B0C2-07C4-48D8-8DA3-1ECAAD79FC9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Judgment Proble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-22, (p.7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actice problem describes criminal behaviour on the part of the accoun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“guilty?”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8498FAD9-578D-4621-B262-3F047147F96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ouraging High Quality Work Among PA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 Figure 3-1 p.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A86FB0D7-4D73-4FFB-A5FA-01D160D84FC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 Basic Principles Governing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71600" y="1447560"/>
            <a:ext cx="3733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 the good reputation of the pro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services with integrity, due care; sustain profession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nd remain free of influence (indepen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257800" y="137124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ty of confidence (confidenti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practice based upon professional excellence (advertising to be in good taste and accu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courtesy should be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84DAF0F-569F-4339-B201-AEEDD4D9628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3-23, p.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rinciples can be used to guide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eneral principles has Gilbert viol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link to the professional rules of condu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03D97597-3C36-4651-A101-9AE5C2EE936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in auditing means taking an unbiased viewpoint in the performance of audit tests, the evaluation of the results, and the issuance of the auditor’s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important con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ce in 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ce in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ts to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FE62063D-6A73-4A7A-9E49-3C7AC0E43D1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ependence in F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must be independent when conducting an audit or review level assurance engagement (independence is not required for a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an example where the auditor is NOT factually indepen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6870077A-230F-427B-B9F3-3188A387C0D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ependence in App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pect of independence is based upon the unbiased viewpoint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for you to believe that your are independent, whereas an unbiased observer might disagree with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an exam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6F1C8A10-8E80-41B7-A91B-F7F64F8B6B0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ts to In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is required to consider the five facets of independence before accepting or continuing an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ats are to be docu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ituation exists that affects a threat, the auditor must document the actions taken, or decline the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26081335-6F03-459D-8A2A-B07337A8388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-interest Th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When the member has a financial interest in the client or in the financial results of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m or member owns shares in or has a loan to th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fees are significant in relation to the total fee base of the PA or of the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CB932A76-C6C8-4C0D-BDFD-1CFFFAED2C3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-review Th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When the PA is placed in the position of having to audit his or her own work during the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 prepared original data or records for the client as part of a bookkeeping eng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 designed and implemented an accounting information system used to process client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8A4C9A70-B734-4CB6-8358-F05682444A1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hapter 3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ethics and their relevance. Acquire tools to work through an ethical confli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PAs are different from other professionals. Examine the role of a code of professional conduct in encouraging public accountant ethical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threats to independence. Discuss how the auditor’s relationship with the audit committee affects independ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ome of the key rules of professional conduct and how are they enfor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D9345210-CF9A-49F2-B9A6-59B22BA3BA7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ocacy Th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When the firm or member is perceived to promote (or actually does promote) the client’s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 is acting as an advocate in resolving a dispute with a major creditor of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m or PA is promoting the sale of shares or other securities for the client, or is receiving a commission for such sal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47275A9-C28E-4712-A60C-1FFF78B0A02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iarity Th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ccurs when it is difficult to behave with professional skepticism during the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long association of senior staff with the client (e.g. being on the engagement for ten yea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er partner of the firm is now the chief financial officer of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9B126485-6B42-4474-863D-5E24BF408E9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imidation Th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The client intimidates the firm or staff with respect to the content of the financial statements or with respect to the conduct of the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threatens to replace the audit firm over a disclosure disagre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places a maximum upon the audit fee that is unrealistic with respect to the amount of work that needs to be comp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B8E7E127-810F-4924-849F-04BA7FBEDAE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an Audit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a sub-committee of the board of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non-management and compe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 should report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significantly to external and internal auditor’s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FF1B3EBD-9DAF-47E9-A65C-F538C4CFDD4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Question 3-18, p. 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e purpose of an audit committee, and the roles that can be undertaken by audit committe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is type of committee can be made mo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5B8899D0-A35C-418A-9B70-AEF7EE2E8FA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ds to Maintaining In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liability: you may be 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of professional conduct: identify do’s and don'ts of financial and busine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ccepted auditing standards: maintain obj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ccounting firm quality control standards: help provide reasonable assurance with respect to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committee: helps maintain independence fr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90F116FF-6835-4B61-B73C-4F9B0D70936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ds to Maintaining Independence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pping for accounting principles: Section 7600 provide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of auditor by shareholders: helps to provide more objectivity tha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 Use a combination of all of the above to help maintain an unbiased business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3B32480-8DA9-42BF-A692-5FC1FA9C6B7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3-20, p. 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ituations ar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situations affect Marie Jane's indepe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C542E4E-BF88-4777-800C-59E6AA35541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of all three accounting bodies shall not disclose any confidential client or employer information without the specific consent of the client or emplo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A4AFEA38-B2AD-44A4-8EA2-BA51D367731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3-19, p. 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ck between confidentiality and fair presentation of financial statemen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FCFD7F57-C071-4A9C-B39D-EB474DD85FE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Eth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moral principles o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for each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r may not be considered explici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arise because of: life experiences, successes and failures, influences of parents, teachers, religious organizations,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6B5BDA27-F4E5-47F1-B2BB-85B5651E371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dvertising and Soli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ree accounting bodies prohibit solicitation of another accountant’s client and advertising which is not in keeping with the profession’s high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may include complimentary material about the accounting firm but should not claim any superior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B26CBB0A-A184-49AC-884C-56DA24B84CE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Courtesy to Other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CAO rules of professional conduct require an auditor to communicate with the predecessor auditor and ask if there is any reason why the auditor should not undertake the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do if the predecessor auditor does not co-operate with you and will not give you an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4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6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6E62F95F-3160-4276-874E-CFFF7F6EEFF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3-16, p. 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se practice scenarios to assess your knowledge of the professional rul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C6C69CFD-4EF2-4AD2-A549-E70F6701A57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do we need Eth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society function in an orderly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re incorporated into laws to help prevent people from behaving unethically (perhaps due to different standards or selfish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1599EE45-AC3A-419D-BEC7-524AF42AA34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llustrative Ethical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nsert Table 3-1, p. 4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C5E74C3D-3E15-482D-9D37-8828B2F8C9B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lving Ethical Dilem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the relevant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ethical issues from th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o is affected by the outcome of the dilemma and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alternativ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likely consequence of each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the appropri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6B87AFEE-E1A9-4226-9C0D-ADE36CA3474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3-24, p.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look at an ethical dilemma that could occur in public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do if you were Barba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EA6BFE6D-1A8D-4D81-8FED-99E9E6241A4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is Ethical Conduct Important in Profess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“professional” carries a responsibility to th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onfidence is affected if a professional (e.g. doctor, lawyer, accountant, clergy) commit a c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ppens because the general public cannot evaluate the competence of professio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593D372C-E0E4-4335-9F8B-22303B0B554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are Accountants Different from other Profession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parties are involved in the accountability relationship: the accountant is hired by management, yet reports to sharehol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fessionals are normally hired by the users of th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98B50AC-84E3-4162-98C5-D60D3724A7D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7:41:42Z</dcterms:modified>
  <cp:revision>92</cp:revision>
  <dc:subject/>
  <dc:title>AK/ADMS 3511 - Management Information Systems – Session 5</dc:title>
</cp:coreProperties>
</file>