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0E4C-AC8C-4C7E-9A72-8A4B9F9F6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537C-6EC1-406D-B71D-17113D3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2B64-58E1-493E-BD88-3B65F4E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EC0A-D016-4762-B9FE-E2E90F33A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877B0-20AF-4C93-995F-C7C57826A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C9B7E-E97D-4E49-A562-94EAB12C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D608-231F-4EDD-8AE9-CFFDB29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78221-7D30-48B6-A55F-D00BDD41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C3CEF-5752-4990-B0B5-DF79F4C8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05D7-E8D4-4B39-82AD-38D8AB9A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FAD5-9FC8-4726-B364-3EE15A8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D7D9-501B-4F67-BC17-1E9FF5AD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62BE6-6D7B-4EE4-8F2D-038F30E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50C89-0627-4D1B-88C1-0FE9733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43AA8-3EFE-43DB-A5F1-258254BB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6600C-4637-4BD1-8EB9-2BD65E8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06D63-D11F-45F6-852C-5EDFECC66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9396-40CD-4AC8-9E89-8A14680B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C541-C912-46F7-AAEB-20B41C9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7C94-5BD4-4642-903D-3C194AE8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D4D6-B692-4A15-86B5-6D2D493F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2ED6-C477-4A11-B062-792C8E3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CB6E-7B7B-45A5-B485-35EF349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971B-61E9-40E8-ABB2-1997AC76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285FFDE6-3716-4DDA-BE97-B6287794010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D0A1-7E6A-475A-A308-B53D8BEB178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: Legal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0336-CFBF-4312-B695-170A72B3B8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inology and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moving on, take a look at some of the legal terms covered on pages 81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focus on three 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den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and several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privilege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2AE967DC-9E61-4E93-A15E-05570962CB9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4-14, p. 1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ing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question with a series of true and false questions to test your understanding of key legal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E6D9BACE-6523-4E47-B5E0-A10B7C09065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udent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is not expected to be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e standard of performance 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courts it is based upon “reasonable care and diligence in the performance of obligations” – this means that the auditor does his/her best given the training and experienc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7F6B6722-3EFA-404D-A257-D14DF2FEB97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t and Several 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 in charge of an audit engagement is responsible for his/her employees, other partners on the engagement, as well as work performed by other audit firms, internal auditors or specia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be present if the firm formed a limited liability partn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763A02C8-3209-4B91-9F96-87EE974B8CD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Privileged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yers may refuse to provide information to the courts that was given to them by their clients (called privileged commun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nts do not have this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ust provide information to the courts when subpoen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5D230E58-760F-4488-8091-9DE08ECC0F0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Question 4-4, p.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typical accounting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s many specific examples as you can – who would the partner in the public accounting firm be held lia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55069C05-26C3-4821-82AA-13C8DB7959E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 can Sue the Audi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s (the business entity or organization that hired the audi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par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 or shareholders (existing or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ers, Canada Revenue Agency or other credi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937596D2-47CD-447F-B3F0-E4993B4298D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 Possible Defences again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-Party S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7124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able 4-3, p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FB2D2D37-C1BE-47CF-AED9-5809AC88E9B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ck of Duty of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claims that there was no duty to the party that is su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“lack of duty to perform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duty of reasonable care to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agement letter helps identify that there is no duty of care to find fra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AE92BBCE-0F40-44CF-8262-4627C11A58B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4-13, p. 1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nk lent some more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lying upon the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, and behold, the company went bank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bank sued the auditors (of cours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re the auditors l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21BD2D30-BBC2-40F5-A701-26AAFF758F3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ublic accountant’s sources of legal li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the accountant does not have the right of privileged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groups of individuals or organizations, in addition to the client, who can sue the aud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conditions where the auditor may consider disclosure of confidential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actions that accountants should take to determine which legislation has an impact on their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45E17D65-D662-4FBB-A406-B1D40FD4557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ence of Mis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ments were in accordance with GA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ere no material errors i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ncial statements accurately portray the financial statements of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B353AD7D-3597-468C-B5D6-F941C7CFED9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negligent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was done in accordance with generally accepted auditing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s are not responsible for undiscovered errors or fraud because their audit was done appropr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A Assurance Handbook or expert witness used to support this def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85AD9CB-EA8A-484A-8F8C-176EEB87F20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ence of Causal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fence claims that there is no connection between the auditor’s breach (i.e. an audit failure) and the client’s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client relied upon others (such as a banker) or upon their own expertise when deciding to invest or lend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E10182D3-FA93-4B7F-B16B-893EDD77FC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ibutory Negli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accepts partial blame, i.e. accepts that the audit was not conducted in accordance with G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auditor also places blame on the party that is suing the auditor, e.g. management did not correct internal control weak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4F65463-E640-46FC-AE35-E4C6EED6C7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ama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3712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e additional defence that arises from the definition of a tort action for negligence , and it is simply: “No dama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fence is simply the fact that the plaintiff did not lose any money by relying upo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3D3E727F-81E2-4B6F-B1AA-25D530B8B56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e Problem 4-18, p. 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berate fraud on the part of th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tatement of accounts receivable and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ditor l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fence w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3E9B3A6-821E-4D43-8D27-E5CCC4EB112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ng Excess Leg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accounting profession and the individual practitioner need to respond to the potential of legal l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EDBEDAE0-3EB4-48CF-AFCB-4ACDF69B35F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fession’s Response to Legal 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research in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tandards and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requirements to protect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practice inspec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unjustified law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ction members for improper conduct 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by for changes i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B67ED99E-06A8-4529-B746-6E4C7967D82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dividual Practitioner’s Response to Legal 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only with clients possessing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 qualified personnel and train and supervise them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standards of the 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client’s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quality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FB9F4D18-8DFC-475B-80A0-90E3D4559CD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dividual Practitioner’s Response to Legal Liability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the work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ngagement letter and a management representation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nfidenti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dequate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legal counsel (when warran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5BCDC65D-CFF5-43DA-B3F5-8E09E46B803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Auditor’s Legal 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able 4-1 (p.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0A780445-9DD7-4285-AAE1-6578FBDC577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4-16, p. 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llow up al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problem looks at a firm’s internal quality control and supervis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1EABD9F9-4868-481B-88D3-8B5F0AA257A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and Audit Fail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failure: when a business cannot repay its debts, perhaps due to poor management, a shift in demand, or econom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failure: when the auditor issues an incorrect audit opinion (e.g. an unqualified opinion when it should be qua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80AD59A0-D50C-48DC-B6A0-A52FBF4AEEB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nk of an exampl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recent business failure that was publicized in your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 auditors su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do you think that it was a business failure, or an audit failure, or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fraud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A3BB740-4FD2-4837-A7B0-20B47192BE6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Audi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uses audit risk to help decide how much evidence to coll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risk is the risk that the auditor will conclude that the financial statements are fairly stated, when they are not (For example, if the auditor chooses audit risk of 3%, there is a 3% risk of material error in the financial stat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781397C-7F72-4985-B2C9-BDDD07F872C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e Problem 4-20, p. 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management integrity affect the audi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ditor responsible to consider organized criminal acti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9E1F4538-FD23-432F-8C05-6036150B1F9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ctation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expectation gap when two different groups expect different outcomes in a particular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we use the term ‘expectation gap’ to refer to the difference between what users actually expect and what the audit report actually prov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A9C18106-3064-403D-9FD4-117524AC27F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Users Exp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different users of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the difference in expectations be among these users with respect to the auditor’s re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A2F23262-6ADD-483C-A76C-A401ED36743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7:50:09Z</dcterms:modified>
  <cp:revision>93</cp:revision>
  <dc:subject/>
  <dc:title>AK/ADMS 3511 - Management Information Systems – Session 5</dc:title>
</cp:coreProperties>
</file>